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8055-E520-4573-B950-83431A0E13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396-8A2E-4978-9BFD-EE180A981F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DDF-0376-4983-BE42-16ED213D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54B-22D7-4C5B-9B73-C1F7F510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C87-1CDB-4B66-9833-45C29CC7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D91-8434-419F-BD48-6632EAFF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EB3-1E71-4F2C-8666-B1C4D908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669-1C69-4A39-9257-76390B96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C42-3B29-4921-82AB-B93667D6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2C4-D2BD-48A7-BCF3-5574CEFB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A67-3DA7-45BF-9FFF-E42FACAE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B87-B6FA-41CC-8398-772BC713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EAC-BFFE-436F-A8ED-9576A88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AFD-DFBD-410F-85CC-E80EE14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EFCA-2609-4EB5-9C5A-2FA9D19D1A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emě a země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měpis (geografie) vznikl ve starověkém Řec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ž Řekové věděli, že země má tvar koule, nesprávně se ale domnívali, že je středem vesmíru, kolem kterého obíhá Slunce a hvěz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9ec13cfcb664b5086686849d2a48c1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05080" y="2219400"/>
            <a:ext cx="6838920" cy="463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23e50256ff175a601b7afe23aa01d5e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565360"/>
            <a:ext cx="29383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front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73600" y="3068640"/>
            <a:ext cx="3470400" cy="21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satelit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4516560"/>
            <a:ext cx="2952720" cy="2341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rozvoji poznání světa přispěly od 15. do 20. století objevné ces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Kryštof Kolumbus – objevení Ameriky pro Evropany (14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asco da Gama – cesta do Indie (14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Fernão Magalhães –  první obeplutí  Země (1519-15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James Cook – objevení Austrálie (17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obert Peary – dosažení severního pólu (19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oald Amundsen – dosažení jižního pólu (191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Edmund Hillary a Tenzing Norkey – vystoupení na Mt. Everest (195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20. století byla díky letectví a kosmonautice odstraněna poslední bílá místa na Ze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vasco_da_gama_route_map"/>
          <p:cNvPicPr/>
          <p:nvPr/>
        </p:nvPicPr>
        <p:blipFill>
          <a:blip r:embed="rId5"/>
          <a:stretch/>
        </p:blipFill>
        <p:spPr>
          <a:xfrm>
            <a:off x="0" y="3246480"/>
            <a:ext cx="37800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oubor:Viajes de colon cs.svg"/>
          <p:cNvPicPr/>
          <p:nvPr/>
        </p:nvPicPr>
        <p:blipFill>
          <a:blip r:embed="rId1"/>
          <a:stretch/>
        </p:blipFill>
        <p:spPr>
          <a:xfrm>
            <a:off x="0" y="492120"/>
            <a:ext cx="6437160" cy="4313160"/>
          </a:xfrm>
          <a:prstGeom prst="rect">
            <a:avLst/>
          </a:prstGeom>
          <a:ln w="0">
            <a:noFill/>
          </a:ln>
        </p:spPr>
      </p:pic>
      <p:sp>
        <p:nvSpPr>
          <p:cNvPr id="57" name="TextovéPole 5"/>
          <p:cNvSpPr/>
          <p:nvPr/>
        </p:nvSpPr>
        <p:spPr>
          <a:xfrm>
            <a:off x="150120" y="12240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PRAVY KRIŠTOFA KOLUMBA DO NOVÉHO SVĚ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ttp://upload.wikimedia.org/wikipedia/commons/thumb/5/5d/Christopher_Columbus.PNG/399px-Christopher_Columbus.PNG"/>
          <p:cNvPicPr/>
          <p:nvPr/>
        </p:nvPicPr>
        <p:blipFill>
          <a:blip r:embed="rId2"/>
          <a:stretch/>
        </p:blipFill>
        <p:spPr>
          <a:xfrm>
            <a:off x="6156360" y="3263760"/>
            <a:ext cx="2987640" cy="359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zivotjinak.cz/pics/video.jpg"/>
          <p:cNvPicPr/>
          <p:nvPr/>
        </p:nvPicPr>
        <p:blipFill>
          <a:blip r:embed="rId3"/>
          <a:stretch/>
        </p:blipFill>
        <p:spPr>
          <a:xfrm>
            <a:off x="8317080" y="246240"/>
            <a:ext cx="4888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oubor:Magellan-Map-En.png"/>
          <p:cNvPicPr/>
          <p:nvPr/>
        </p:nvPicPr>
        <p:blipFill>
          <a:blip r:embed="rId1"/>
          <a:stretch/>
        </p:blipFill>
        <p:spPr>
          <a:xfrm>
            <a:off x="0" y="1916280"/>
            <a:ext cx="7620120" cy="360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upload.wikimedia.org/wikipedia/commons/thumb/9/9c/Ferdinand_Magellan.jpg/225px-Ferdinand_Magellan.jpg"/>
          <p:cNvPicPr/>
          <p:nvPr/>
        </p:nvPicPr>
        <p:blipFill>
          <a:blip r:embed="rId2"/>
          <a:stretch/>
        </p:blipFill>
        <p:spPr>
          <a:xfrm>
            <a:off x="7000920" y="4200480"/>
            <a:ext cx="214308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1"/>
          <p:cNvSpPr/>
          <p:nvPr/>
        </p:nvSpPr>
        <p:spPr>
          <a:xfrm>
            <a:off x="227880" y="260280"/>
            <a:ext cx="85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o kulatosti Země přinesla výprava, již Magalhães vedl a která ve služb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nělského krále Karla V. obeplula poprvé celou zeměkouli. Z pěti lodí po tř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tech obeplutí zeměkoule dokončila jen jedna, (Victoria), sám Magalhães zahyn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ravděpodobně rukama domorodců) na Filipíná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zivotjinak.cz/pics/video.jpg"/>
          <p:cNvPicPr/>
          <p:nvPr/>
        </p:nvPicPr>
        <p:blipFill>
          <a:blip r:embed="rId3"/>
          <a:stretch/>
        </p:blipFill>
        <p:spPr>
          <a:xfrm>
            <a:off x="8164440" y="1341360"/>
            <a:ext cx="48888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://upload.wikimedia.org/wikipedia/commons/thumb/8/8b/Geographic_Southpole.jpg/1024px-Geographic_Southpole.jpg"/>
          <p:cNvPicPr/>
          <p:nvPr/>
        </p:nvPicPr>
        <p:blipFill>
          <a:blip r:embed="rId1"/>
          <a:stretch/>
        </p:blipFill>
        <p:spPr>
          <a:xfrm>
            <a:off x="3240" y="658800"/>
            <a:ext cx="9540720" cy="633420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2"/>
          <p:cNvSpPr/>
          <p:nvPr/>
        </p:nvSpPr>
        <p:spPr>
          <a:xfrm>
            <a:off x="11160" y="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o označující jižní geografický pól. V současné době se na jižním pólu na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vale obydlená polární stanice Amundsen-Sco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zivotjinak.cz/pics/video.jpg"/>
          <p:cNvPicPr/>
          <p:nvPr/>
        </p:nvPicPr>
        <p:blipFill>
          <a:blip r:embed="rId2"/>
          <a:stretch/>
        </p:blipFill>
        <p:spPr>
          <a:xfrm>
            <a:off x="8594640" y="77760"/>
            <a:ext cx="4906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7:07:34Z</dcterms:created>
  <dc:creator>kk</dc:creator>
  <dc:description/>
  <dc:language>en-US</dc:language>
  <cp:lastModifiedBy>PC</cp:lastModifiedBy>
  <dcterms:modified xsi:type="dcterms:W3CDTF">2013-09-07T12:25:51Z</dcterms:modified>
  <cp:revision>10</cp:revision>
  <dc:subject/>
  <dc:title>Země a zeměpis</dc:title>
</cp:coreProperties>
</file>