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9AE-D22D-4A28-B18A-7F1BFA30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8E8-C8A6-483C-A0BA-E34FB162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E65-3F8A-45EC-BC37-7E0E0EA3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CA6-F65F-4DD5-93B0-67E9A08D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8CB-C518-4951-9313-F8A482B7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584-2E47-4D29-B506-D9B252F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422-E646-4454-B339-7BEA197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050-A1E2-497B-8D1D-920CE0EF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DA4-F8A1-450B-B727-A2A4230D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36F-A5CA-487C-90CC-54AFC7D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9ED-B9E2-414B-8FE7-B42AE69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960-971B-4B5A-A84A-1A6D933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0BF-076F-4636-82C2-1203630D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itra%20voda%20-%20Rajko%20Kosnjek%2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5722560" y="3192480"/>
            <a:ext cx="5400720" cy="69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VODA JAKO SYMBOL</a:t>
            </a:r>
            <a:endParaRPr b="0" lang="en-US" sz="2400" spc="1" strike="noStrike">
              <a:ln w="1260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větový den vody 22. Bře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5 lidstva nemá přístup k vodě, 2,6 mld. lidí postrádá základní hygienické zázemí, 3 miliony lidí ročně umírají na choroby způsobené kontaminovanou vodou (90% z nich jsou děti do 5 le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 vody se lidé neobejdou, je naší součástí – lidské tělo je tvořeno 65% vod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35809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Spotřeba vody (osoba/den/litr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ČR 120 lit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Vyspělé státy 200 – 300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Zaostalé státy 10 – 20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Zjisti svou vlastní spotřebu vody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ea_vlny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HVÁLA VODY (tyto básničky, povídky, vtipy atd. vytvořily děti během výuky zeměpisu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666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Eliška Borák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a, voda, voda, v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 životu důležitá vo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y si musíme váži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lespoň trochu se snaži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šetřit naší vodo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rkou teplou studeno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ez vody, by nebyl svě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ato krása na pohl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u v sobě všichni nosí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, teď tady stojí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 teď tady stojí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básně o ní skládá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íky ní teď tady můžeme bý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tuto krásnou chvíli, spolu proží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ožít spolu krásnou chví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mít alespoň trochu píl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 vodě se něco nauč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později to také využí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590920" y="1219320"/>
            <a:ext cx="2743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ť je voda průzračná či zakalená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ždy pro nás je a bude cen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k tu dlouho stojí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ochu se i bojí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dojde nám někdy voda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e ne, jí, by přece byla ško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ď pojďme a trochu si jí nalij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šichni se ji napij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da nám tak rychle hasí žíze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vybírá si svou přízeň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ď už víme, že je voda cenná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ní jen tak pochyce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ž od pradávna je tu v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spraví s tím nic, ani Van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762120"/>
            <a:ext cx="3581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371600"/>
            <a:ext cx="27432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Eva Svobod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da, vodička čirá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 životu velmi potřebn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z ní by jsme nebyl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koupali se, neži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pramenu pramení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dírá se z kamení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ní pak potok j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člověk ji velmi potřebu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potoku říčk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idé si v ní skropí líčk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 říčky řek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a už lidi lek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6477120"/>
            <a:ext cx="595080" cy="180720"/>
          </a:xfrm>
          <a:prstGeom prst="rightArrow">
            <a:avLst>
              <a:gd name="adj1" fmla="val 50000"/>
              <a:gd name="adj2" fmla="val 823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a ha zasmála se flaška a vyhodila vodu z podnájmu.</a:t>
            </a:r>
            <a:r>
              <a:rPr b="1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Lukáš Ančinec 6.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666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DA (Hana Zámečník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da je skoro vš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ak dlouho tady ještě bud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ž tu voda neb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 budeme děla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ůjdeme ji hleda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 když řekne, že nás nechce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řemluvíme ji přece lehce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66880" y="1066680"/>
            <a:ext cx="64771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brá voda pro tchýni (Judita Fládrová 6.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Byl jednou jeden potok ze kterého pili elfové, vlk Juan, Modrá Karkulka i Gandalfova tchýně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dnoho krásného dne, když tchýně Gandalfa zase vytočila, se rozhodl, že už s tím musí něco udělat. Nemohl dlouho přijít na to, jak se tchýně zbavit. Když se jednou večer procházel uviděl jí u vody. „Otrávím vodu!“: vykřikl. Naštěstí ho polohluchá tchýně neslyšela. Okamžitě šel hledat různé jedovaté byliny, bobule, houby a tchynin jazy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likož byl sklerotický nemohl si vzpomenout na správný postup. Nejprve se nu podařila dobrá slivovice. Na druhý pokus to byla houbová polévka a teprve na potřetí se mu podařil správný j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ruhý den ráno ten jed vylil do potoka. Když se tchýně napila padla na zem úplně otrávená. Jakmile se tak stalo, vyskočil Gandalf z křoví a začal kolem tchýně skákat jako potrhlý. Za chvíli z toho „blbnutí“ dostal žízeň. Vzpomněl si, že vodu otrávil. Netrvalo dlouho a Gandalf umřel žízní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odní elfové tchýni oživili, vodu vyčistili a Gandalfa pohřbi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oda byla zase čistá, tchýně živá a zlý Gandalf mrtvý. Tak žili šťastně s tchýní a dobrou vodou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Reálná spotřeba vody během d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ní hygiena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ídaně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leta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ěd…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giena a toaleta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čeře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černí hygiena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atní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LITRŮ 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53:49Z</dcterms:created>
  <dc:creator>kk</dc:creator>
  <dc:description/>
  <dc:language>en-US</dc:language>
  <cp:lastModifiedBy>kk</cp:lastModifiedBy>
  <dcterms:modified xsi:type="dcterms:W3CDTF">2005-12-20T16:04:06Z</dcterms:modified>
  <cp:revision>5</cp:revision>
  <dc:subject/>
  <dc:title>Prezentace aplikace PowerPoint</dc:title>
</cp:coreProperties>
</file>