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8AB-37FC-473F-A39A-9123E42E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BB0-5324-4BB6-82BC-8DC7266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A1B-7EA0-459E-85EB-AC6C352C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43C-7E1E-4B29-8158-8B0641D1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0ED-32FA-4369-8D0E-D6FE037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19B-18E3-4E42-9115-2FDC20C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E1D-739C-4535-9A10-F22DB36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8E6-451A-42DE-AF6B-FCEADCD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CDB-938C-4887-953A-C17DF52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DB4-294A-44ED-A2C7-A09330B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EBB-93AD-4B11-9C03-477315B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9E2-6993-4E41-A00B-8E766A5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A75-4972-49B9-8C5E-45852C5ECB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uYe_zqbokQk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urmilab.ch/cgi-bin/Earth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outube.com/watch?v=7XMio1OnH7s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rá planeta Zem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s://upload.wikimedia.org/wikipedia/commons/thumb/2/22/Earth_Western_Hemisphere_transparent_background.png/1024px-Earth_Western_Hemisphere_transparent_background.png"/>
          <p:cNvPicPr/>
          <p:nvPr/>
        </p:nvPicPr>
        <p:blipFill>
          <a:blip r:embed="rId1"/>
          <a:stretch/>
        </p:blipFill>
        <p:spPr>
          <a:xfrm>
            <a:off x="1103400" y="1251000"/>
            <a:ext cx="5616360" cy="56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zivotjinak.cz/pics/vide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6165720"/>
            <a:ext cx="550800" cy="55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:\škola dokumenty\atlas\6.ročník\planeta země.jpg"/>
          <p:cNvPicPr/>
          <p:nvPr/>
        </p:nvPicPr>
        <p:blipFill>
          <a:blip r:embed="rId4"/>
          <a:stretch/>
        </p:blipFill>
        <p:spPr>
          <a:xfrm>
            <a:off x="7248600" y="790560"/>
            <a:ext cx="18954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9180360" cy="907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údaje o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var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oule, ge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vznik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,6 miliard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vrch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510 000 000 k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vod Země na rovník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40 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loměr Země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 371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oběhu kolem Slunc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365,25 dne (1rok) (oběžná rychlost 29,5 k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ba rotace kolem os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3 hod., 56 min. a 4 sekundy (1 den) – střídání dne a noci (obvodová rychlost na rovníku 465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ůměrná teplot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5 stupňů Celsia (Země se nachází v tzv. EKOSFÉŘ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zdálenost od Slunc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49,6 mil. km (1 astronomická jednotka 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on zemské osy k oběžné dráz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23,5 stupně - střídání ročn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4221000"/>
            <a:ext cx="2808360" cy="264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221000"/>
            <a:ext cx="4103640" cy="261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7139520" y="6585120"/>
            <a:ext cx="197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Více o střídání ročních období Z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oak-blog.andrewkelsalldes.netdna-cdn.com/wp-content/uploads/2010/11/earth-from-space-day-night.jpg"/>
          <p:cNvPicPr/>
          <p:nvPr/>
        </p:nvPicPr>
        <p:blipFill>
          <a:blip r:embed="rId1"/>
          <a:stretch/>
        </p:blipFill>
        <p:spPr>
          <a:xfrm>
            <a:off x="963720" y="223920"/>
            <a:ext cx="718488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řídání dne a n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3"/>
          <p:cNvSpPr/>
          <p:nvPr/>
        </p:nvSpPr>
        <p:spPr>
          <a:xfrm>
            <a:off x="7297200" y="6381720"/>
            <a:ext cx="17046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n a noc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řídání dne a no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rotaci Země kolem své osy (asi 24 hodin) dochází ke střídání dne a no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 se otáčí kolem osy ze ZÁPADU na VÝCHOD (tedy proti směru hodinových ručič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jak to připadá nám? Ráno Slunce objeví nad východním obzorem – slunce stoupá (tzv. vrcholí) – k večeru klesá až zapadá za obzorem na západ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ěhem roku se u nás délka světelného dne mění v závislosti na střídání ročních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2360" y="3789360"/>
            <a:ext cx="3529080" cy="28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84720" y="3962520"/>
            <a:ext cx="160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škola dokumenty\atlas\6.ročník\roční období.jpg"/>
          <p:cNvPicPr/>
          <p:nvPr/>
        </p:nvPicPr>
        <p:blipFill>
          <a:blip r:embed="rId1"/>
          <a:stretch/>
        </p:blipFill>
        <p:spPr>
          <a:xfrm>
            <a:off x="-25560" y="1052640"/>
            <a:ext cx="9169560" cy="5234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řídání ročních obdo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zivotjinak.cz/pics/vide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4120" y="6286680"/>
            <a:ext cx="550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ídání ročn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71280" y="692280"/>
            <a:ext cx="9215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on zemské osy (23,5 stupně) je důvodem, proč se u nás střídaj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čtyři roční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Osa je nakloněna neustále stejným smě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raniční d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března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arní rovnode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června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etní slunov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3. září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dzimní rovnode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1. prosince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zimní slunov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7"/>
          <a:stretch/>
        </p:blipFill>
        <p:spPr>
          <a:xfrm>
            <a:off x="179280" y="2565360"/>
            <a:ext cx="6410520" cy="186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8"/>
          <a:stretch/>
        </p:blipFill>
        <p:spPr>
          <a:xfrm>
            <a:off x="3203640" y="4483080"/>
            <a:ext cx="565128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>
            <a:hlinkClick r:id="rId9" action="ppaction://hlinksldjump"/>
          </p:cNvPr>
          <p:cNvSpPr/>
          <p:nvPr/>
        </p:nvSpPr>
        <p:spPr>
          <a:xfrm>
            <a:off x="179280" y="2565360"/>
            <a:ext cx="216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>
            <a:hlinkClick r:id="rId10" action="ppaction://hlinksldjump"/>
          </p:cNvPr>
          <p:cNvSpPr/>
          <p:nvPr/>
        </p:nvSpPr>
        <p:spPr>
          <a:xfrm>
            <a:off x="2484360" y="2565360"/>
            <a:ext cx="208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>
            <a:hlinkClick r:id="rId11" action="ppaction://hlinksldjump"/>
          </p:cNvPr>
          <p:cNvSpPr/>
          <p:nvPr/>
        </p:nvSpPr>
        <p:spPr>
          <a:xfrm>
            <a:off x="4716360" y="2565360"/>
            <a:ext cx="1871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80360" y="5373720"/>
            <a:ext cx="29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íce informací při najetí na obrázek a jeho části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203640" y="4508640"/>
            <a:ext cx="129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572000" y="4508640"/>
            <a:ext cx="1295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012000" y="4508640"/>
            <a:ext cx="136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7451640" y="4508640"/>
            <a:ext cx="136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483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áha Slunce na různých místech naš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435640" y="0"/>
            <a:ext cx="3708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435640" y="2349360"/>
            <a:ext cx="3708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435640" y="4724280"/>
            <a:ext cx="3708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116000" y="26370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íce informací získáte při najetí na části obrázku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tázky a 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sprá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tupný rok trvá 366 d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měkoule má průměr méně než 12 00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tace kolem vlastní osy trvá Zemi 24 hod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lon zemské osy má za následek střídání dne a no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ěhem jarní a podzimní rovnodennosti jsou u nás dny a noci stejně dlou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ěhem letního slunovratu 21.6. dopadají sluneční paprsky kolmo na obratník Ra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a Země neustále mění svůj směr vůči Slun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je u nás zima je zima i v Austrál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glóbu předveďte, jak Země obíhá kolem Slunce i kolem své o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š a vysvětli hraniční dny a co se během nich 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9:34:20Z</dcterms:created>
  <dc:creator>kk</dc:creator>
  <dc:description/>
  <dc:language>en-US</dc:language>
  <cp:lastModifiedBy>PC</cp:lastModifiedBy>
  <dcterms:modified xsi:type="dcterms:W3CDTF">2013-09-29T17:32:08Z</dcterms:modified>
  <cp:revision>22</cp:revision>
  <dc:subject/>
  <dc:title>Modrá planeta Země</dc:title>
</cp:coreProperties>
</file>