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DFF-5FE5-4DFE-8051-A0EDBC81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7E1-B909-429E-ABE3-90CDE2FB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7BB-9092-4BA1-AC23-A231F67B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031-9CE3-4645-AAFE-180E02FE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A99-CAAB-4752-93E8-E788A360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A6B-5B31-45E4-8472-F786318E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4D3-C2AE-496E-B79D-01EC1A28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194-71EF-49E7-A79F-31E18D16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94C-D7A4-4D0D-89B3-4EBCA9BB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07E-6AA9-46C9-B376-14E2C030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6B1-0926-4939-8DA2-002EFEA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233-F5F4-4CAA-A9F4-2B3BD91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A98-5F39-488F-9C2B-A1BB7CD98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DRY A ŘÍŠE SNĚ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0px-Peary_Sledge_Party_and_Flags_at_the_Pole_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523960" cy="3295440"/>
          </a:xfrm>
          <a:prstGeom prst="rect">
            <a:avLst/>
          </a:prstGeom>
          <a:ln w="0">
            <a:noFill/>
          </a:ln>
        </p:spPr>
      </p:pic>
      <p:pic>
        <p:nvPicPr>
          <p:cNvPr id="43" name="T052355A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280692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amundsen_pool" descr=""/>
          <p:cNvPicPr/>
          <p:nvPr/>
        </p:nvPicPr>
        <p:blipFill>
          <a:blip r:embed="rId3"/>
          <a:stretch/>
        </p:blipFill>
        <p:spPr>
          <a:xfrm>
            <a:off x="4419720" y="990720"/>
            <a:ext cx="2297160" cy="3520800"/>
          </a:xfrm>
          <a:prstGeom prst="rect">
            <a:avLst/>
          </a:prstGeom>
          <a:ln w="0">
            <a:noFill/>
          </a:ln>
        </p:spPr>
      </p:pic>
      <p:pic>
        <p:nvPicPr>
          <p:cNvPr id="45" name="amundsen_ski_1911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228600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6324480"/>
            <a:ext cx="198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undsen</a:t>
            </a:r>
            <a:br>
              <a:rPr sz="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6477120"/>
            <a:ext cx="243828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bert E. Pe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konečná kamenitá pláň s keříky, trávou, mechy a lišejníky to j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nd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ží v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arktickém pá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rátké chladné léto, dlouhá tuhá zima) v okolí polárního kruh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duprázdná=nepoškozen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na: sob, vlk, liška polární, ptá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un1_l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624852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tundra03" descr=""/>
          <p:cNvPicPr/>
          <p:nvPr/>
        </p:nvPicPr>
        <p:blipFill>
          <a:blip r:embed="rId2"/>
          <a:stretch/>
        </p:blipFill>
        <p:spPr>
          <a:xfrm>
            <a:off x="6149880" y="1981080"/>
            <a:ext cx="2994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misměr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v osmisměrce 8 pojmů vztahující se k tundře a zůstane ti zvíře, které žije v polárních krajích, ale v zimě se stahuje až do oblasti Hudsovnova zálivu, hledá si potravu na městských smetištích, dobývá se do domů, kde vykrádá spižírny a ohrožuje obyvate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048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jenka – lední medvě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jíc běl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š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rzlá pů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ární n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žmo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šejní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ěžná s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182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Říše sněhu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= vysokohorské oblasti (horské ledovce) a polární oblasti (pevninské a mořské ledovc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Arktida (SP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zamrzlý Severní ledový oceán (2m mocnost ledu) a ostrovy. Žijí zde – inuité (eskymáci), lední medvěd, liška polární, ryby, tule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000000"/>
                </a:solidFill>
                <a:uFillTx/>
                <a:latin typeface="Times New Roman"/>
              </a:rPr>
              <a:t>Antarktida (JP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zalednění kontinent s extrémními podnebnými podmínkami (-90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C). Žijí zde – tučňáci, lachtani, tuleni, ptáci), není osídlena lidmi (výzkumníc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041108_JAN_ARKTIDA_V_V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419720" cy="2954160"/>
          </a:xfrm>
          <a:prstGeom prst="rect">
            <a:avLst/>
          </a:prstGeom>
          <a:ln w="0">
            <a:noFill/>
          </a:ln>
        </p:spPr>
      </p:pic>
      <p:pic>
        <p:nvPicPr>
          <p:cNvPr id="59" name="obr_246_2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7:39:49Z</dcterms:created>
  <dc:creator>kk</dc:creator>
  <dc:description/>
  <dc:language>en-US</dc:language>
  <cp:lastModifiedBy>jj</cp:lastModifiedBy>
  <dcterms:modified xsi:type="dcterms:W3CDTF">2011-03-23T07:00:16Z</dcterms:modified>
  <cp:revision>5</cp:revision>
  <dc:subject/>
  <dc:title>TUNDRY A ŘÍŠE SNĚHU</dc:title>
</cp:coreProperties>
</file>