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DA4E-C071-4D1F-8EB7-91EDCECE4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999C-8DE0-420E-8434-695A28B6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6D8A-6307-4BC6-8251-9BE42E82F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28A1-195F-46BF-985C-4BC69709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B4AB-8E36-4A57-A6C3-65F79A2E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0FBB-32BB-4704-91D2-25636DBC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E94C-8019-4586-9779-1D33DF66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09C2-800F-4C1F-A7BD-C40EC1CF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7090-0595-48E0-9951-7F28FD82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708E-FBA4-4765-ACDA-75EBC4DC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8E69-EC60-4ED0-95C4-1F070C57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9755-4760-44E9-9AB7-74A59CA2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AACB-C40F-4524-A48A-DFF5D0E46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38280" y="487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TRO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00400" y="5791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Times New Roman"/>
              </a:rPr>
              <a:t>Život v pral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mazon%20Rain%20Forest-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5867640" cy="3962160"/>
          </a:xfrm>
          <a:prstGeom prst="rect">
            <a:avLst/>
          </a:prstGeom>
          <a:ln w="0">
            <a:noFill/>
          </a:ln>
        </p:spPr>
      </p:pic>
      <p:pic>
        <p:nvPicPr>
          <p:cNvPr id="44" name="205_1" descr=""/>
          <p:cNvPicPr/>
          <p:nvPr/>
        </p:nvPicPr>
        <p:blipFill>
          <a:blip r:embed="rId2"/>
          <a:stretch/>
        </p:blipFill>
        <p:spPr>
          <a:xfrm>
            <a:off x="1600200" y="4495680"/>
            <a:ext cx="2960640" cy="1970280"/>
          </a:xfrm>
          <a:prstGeom prst="rect">
            <a:avLst/>
          </a:prstGeom>
          <a:ln w="0">
            <a:noFill/>
          </a:ln>
        </p:spPr>
      </p:pic>
      <p:pic>
        <p:nvPicPr>
          <p:cNvPr id="45" name="ara%20narbild" descr=""/>
          <p:cNvPicPr/>
          <p:nvPr/>
        </p:nvPicPr>
        <p:blipFill>
          <a:blip r:embed="rId3"/>
          <a:stretch/>
        </p:blipFill>
        <p:spPr>
          <a:xfrm>
            <a:off x="6324480" y="304920"/>
            <a:ext cx="262440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763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ropické deštné les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v okolí rovníku (JA, AFRIKA, ASIE, AUSTRÁLIE) – horko a vlhko po celý ro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jbohatší společenstva rostlin (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5 pater le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a živočichů (hmyz, ptáci, opice, plazi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livem těžby dřeva a plantážnictví se snižuje jejich plocha – </a:t>
            </a: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PLÍCE SVĚT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časí v tropech během dn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6248520"/>
            <a:ext cx="7620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5410080"/>
            <a:ext cx="685800" cy="7621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553080" y="5410080"/>
            <a:ext cx="685800" cy="7621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3733920"/>
            <a:ext cx="4267080" cy="1523880"/>
          </a:xfrm>
          <a:custGeom>
            <a:avLst/>
            <a:gdLst/>
            <a:ahLst/>
            <a:rect l="l" t="t" r="r" b="b"/>
            <a:pathLst>
              <a:path w="2688" h="960">
                <a:moveTo>
                  <a:pt x="0" y="960"/>
                </a:moveTo>
                <a:cubicBezTo>
                  <a:pt x="448" y="480"/>
                  <a:pt x="896" y="0"/>
                  <a:pt x="1344" y="0"/>
                </a:cubicBezTo>
                <a:cubicBezTo>
                  <a:pt x="1792" y="0"/>
                  <a:pt x="2240" y="480"/>
                  <a:pt x="2688" y="960"/>
                </a:cubicBezTo>
              </a:path>
            </a:pathLst>
          </a:custGeom>
          <a:noFill/>
          <a:ln w="38160">
            <a:solidFill>
              <a:srgbClr val="ffff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78360" y="4307040"/>
            <a:ext cx="1168560" cy="763560"/>
          </a:xfrm>
          <a:custGeom>
            <a:avLst/>
            <a:gdLst/>
            <a:ahLst/>
            <a:rect l="l" t="t" r="r" b="b"/>
            <a:pathLst>
              <a:path w="736" h="481">
                <a:moveTo>
                  <a:pt x="76" y="278"/>
                </a:moveTo>
                <a:cubicBezTo>
                  <a:pt x="31" y="233"/>
                  <a:pt x="39" y="231"/>
                  <a:pt x="21" y="176"/>
                </a:cubicBezTo>
                <a:cubicBezTo>
                  <a:pt x="40" y="116"/>
                  <a:pt x="83" y="93"/>
                  <a:pt x="141" y="74"/>
                </a:cubicBezTo>
                <a:cubicBezTo>
                  <a:pt x="150" y="77"/>
                  <a:pt x="160" y="86"/>
                  <a:pt x="169" y="83"/>
                </a:cubicBezTo>
                <a:cubicBezTo>
                  <a:pt x="190" y="76"/>
                  <a:pt x="206" y="58"/>
                  <a:pt x="225" y="46"/>
                </a:cubicBezTo>
                <a:cubicBezTo>
                  <a:pt x="234" y="40"/>
                  <a:pt x="243" y="32"/>
                  <a:pt x="253" y="28"/>
                </a:cubicBezTo>
                <a:cubicBezTo>
                  <a:pt x="284" y="17"/>
                  <a:pt x="315" y="10"/>
                  <a:pt x="346" y="0"/>
                </a:cubicBezTo>
                <a:cubicBezTo>
                  <a:pt x="388" y="13"/>
                  <a:pt x="391" y="33"/>
                  <a:pt x="402" y="74"/>
                </a:cubicBezTo>
                <a:cubicBezTo>
                  <a:pt x="432" y="64"/>
                  <a:pt x="455" y="47"/>
                  <a:pt x="485" y="37"/>
                </a:cubicBezTo>
                <a:cubicBezTo>
                  <a:pt x="504" y="40"/>
                  <a:pt x="524" y="38"/>
                  <a:pt x="541" y="46"/>
                </a:cubicBezTo>
                <a:cubicBezTo>
                  <a:pt x="563" y="56"/>
                  <a:pt x="564" y="95"/>
                  <a:pt x="587" y="102"/>
                </a:cubicBezTo>
                <a:cubicBezTo>
                  <a:pt x="620" y="112"/>
                  <a:pt x="656" y="108"/>
                  <a:pt x="690" y="111"/>
                </a:cubicBezTo>
                <a:cubicBezTo>
                  <a:pt x="731" y="126"/>
                  <a:pt x="723" y="136"/>
                  <a:pt x="736" y="176"/>
                </a:cubicBezTo>
                <a:cubicBezTo>
                  <a:pt x="727" y="182"/>
                  <a:pt x="709" y="184"/>
                  <a:pt x="708" y="195"/>
                </a:cubicBezTo>
                <a:cubicBezTo>
                  <a:pt x="706" y="215"/>
                  <a:pt x="727" y="251"/>
                  <a:pt x="727" y="251"/>
                </a:cubicBezTo>
                <a:cubicBezTo>
                  <a:pt x="705" y="348"/>
                  <a:pt x="717" y="337"/>
                  <a:pt x="634" y="353"/>
                </a:cubicBezTo>
                <a:cubicBezTo>
                  <a:pt x="620" y="481"/>
                  <a:pt x="628" y="458"/>
                  <a:pt x="494" y="446"/>
                </a:cubicBezTo>
                <a:cubicBezTo>
                  <a:pt x="491" y="437"/>
                  <a:pt x="494" y="422"/>
                  <a:pt x="485" y="418"/>
                </a:cubicBezTo>
                <a:cubicBezTo>
                  <a:pt x="478" y="415"/>
                  <a:pt x="415" y="451"/>
                  <a:pt x="402" y="455"/>
                </a:cubicBezTo>
                <a:cubicBezTo>
                  <a:pt x="371" y="452"/>
                  <a:pt x="337" y="459"/>
                  <a:pt x="309" y="446"/>
                </a:cubicBezTo>
                <a:cubicBezTo>
                  <a:pt x="297" y="441"/>
                  <a:pt x="310" y="415"/>
                  <a:pt x="299" y="409"/>
                </a:cubicBezTo>
                <a:cubicBezTo>
                  <a:pt x="289" y="404"/>
                  <a:pt x="282" y="422"/>
                  <a:pt x="272" y="427"/>
                </a:cubicBezTo>
                <a:cubicBezTo>
                  <a:pt x="263" y="431"/>
                  <a:pt x="253" y="433"/>
                  <a:pt x="244" y="436"/>
                </a:cubicBezTo>
                <a:cubicBezTo>
                  <a:pt x="185" y="433"/>
                  <a:pt x="126" y="435"/>
                  <a:pt x="67" y="427"/>
                </a:cubicBezTo>
                <a:cubicBezTo>
                  <a:pt x="34" y="423"/>
                  <a:pt x="2" y="353"/>
                  <a:pt x="2" y="353"/>
                </a:cubicBezTo>
                <a:cubicBezTo>
                  <a:pt x="10" y="312"/>
                  <a:pt x="0" y="303"/>
                  <a:pt x="39" y="288"/>
                </a:cubicBezTo>
                <a:cubicBezTo>
                  <a:pt x="68" y="277"/>
                  <a:pt x="107" y="278"/>
                  <a:pt x="76" y="278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5105520"/>
            <a:ext cx="228600" cy="761760"/>
          </a:xfrm>
          <a:custGeom>
            <a:avLst/>
            <a:gdLst/>
            <a:ahLst/>
            <a:rect l="l" t="t" r="r" b="b"/>
            <a:pathLst>
              <a:path w="192" h="336">
                <a:moveTo>
                  <a:pt x="24" y="0"/>
                </a:moveTo>
                <a:cubicBezTo>
                  <a:pt x="12" y="80"/>
                  <a:pt x="0" y="160"/>
                  <a:pt x="24" y="192"/>
                </a:cubicBezTo>
                <a:cubicBezTo>
                  <a:pt x="48" y="224"/>
                  <a:pt x="144" y="168"/>
                  <a:pt x="168" y="192"/>
                </a:cubicBezTo>
                <a:cubicBezTo>
                  <a:pt x="192" y="216"/>
                  <a:pt x="168" y="312"/>
                  <a:pt x="168" y="336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5105520"/>
            <a:ext cx="228600" cy="761760"/>
          </a:xfrm>
          <a:custGeom>
            <a:avLst/>
            <a:gdLst/>
            <a:ahLst/>
            <a:rect l="l" t="t" r="r" b="b"/>
            <a:pathLst>
              <a:path w="192" h="336">
                <a:moveTo>
                  <a:pt x="24" y="0"/>
                </a:moveTo>
                <a:cubicBezTo>
                  <a:pt x="12" y="80"/>
                  <a:pt x="0" y="160"/>
                  <a:pt x="24" y="192"/>
                </a:cubicBezTo>
                <a:cubicBezTo>
                  <a:pt x="48" y="224"/>
                  <a:pt x="144" y="168"/>
                  <a:pt x="168" y="192"/>
                </a:cubicBezTo>
                <a:cubicBezTo>
                  <a:pt x="192" y="216"/>
                  <a:pt x="168" y="312"/>
                  <a:pt x="168" y="336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358128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5029200"/>
            <a:ext cx="257040" cy="762120"/>
          </a:xfrm>
          <a:prstGeom prst="upArrow">
            <a:avLst>
              <a:gd name="adj1" fmla="val 50000"/>
              <a:gd name="adj2" fmla="val 741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4952880"/>
            <a:ext cx="257400" cy="838440"/>
          </a:xfrm>
          <a:prstGeom prst="upArrow">
            <a:avLst>
              <a:gd name="adj1" fmla="val 50000"/>
              <a:gd name="adj2" fmla="val 814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4360" y="457200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P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9080" y="3876840"/>
            <a:ext cx="843120" cy="533160"/>
          </a:xfrm>
          <a:custGeom>
            <a:avLst/>
            <a:gdLst/>
            <a:ahLst/>
            <a:rect l="l" t="t" r="r" b="b"/>
            <a:pathLst>
              <a:path w="531" h="336">
                <a:moveTo>
                  <a:pt x="149" y="271"/>
                </a:moveTo>
                <a:cubicBezTo>
                  <a:pt x="102" y="268"/>
                  <a:pt x="54" y="272"/>
                  <a:pt x="9" y="261"/>
                </a:cubicBezTo>
                <a:cubicBezTo>
                  <a:pt x="0" y="259"/>
                  <a:pt x="0" y="243"/>
                  <a:pt x="0" y="234"/>
                </a:cubicBezTo>
                <a:cubicBezTo>
                  <a:pt x="0" y="196"/>
                  <a:pt x="35" y="179"/>
                  <a:pt x="65" y="169"/>
                </a:cubicBezTo>
                <a:cubicBezTo>
                  <a:pt x="54" y="136"/>
                  <a:pt x="22" y="112"/>
                  <a:pt x="46" y="76"/>
                </a:cubicBezTo>
                <a:cubicBezTo>
                  <a:pt x="52" y="67"/>
                  <a:pt x="65" y="63"/>
                  <a:pt x="74" y="57"/>
                </a:cubicBezTo>
                <a:cubicBezTo>
                  <a:pt x="83" y="60"/>
                  <a:pt x="93" y="69"/>
                  <a:pt x="102" y="66"/>
                </a:cubicBezTo>
                <a:cubicBezTo>
                  <a:pt x="142" y="53"/>
                  <a:pt x="173" y="16"/>
                  <a:pt x="214" y="1"/>
                </a:cubicBezTo>
                <a:cubicBezTo>
                  <a:pt x="223" y="4"/>
                  <a:pt x="234" y="4"/>
                  <a:pt x="241" y="11"/>
                </a:cubicBezTo>
                <a:cubicBezTo>
                  <a:pt x="275" y="46"/>
                  <a:pt x="216" y="48"/>
                  <a:pt x="288" y="29"/>
                </a:cubicBezTo>
                <a:cubicBezTo>
                  <a:pt x="331" y="2"/>
                  <a:pt x="339" y="0"/>
                  <a:pt x="390" y="11"/>
                </a:cubicBezTo>
                <a:cubicBezTo>
                  <a:pt x="393" y="26"/>
                  <a:pt x="385" y="50"/>
                  <a:pt x="399" y="57"/>
                </a:cubicBezTo>
                <a:cubicBezTo>
                  <a:pt x="443" y="81"/>
                  <a:pt x="531" y="29"/>
                  <a:pt x="483" y="113"/>
                </a:cubicBezTo>
                <a:cubicBezTo>
                  <a:pt x="478" y="123"/>
                  <a:pt x="464" y="125"/>
                  <a:pt x="455" y="131"/>
                </a:cubicBezTo>
                <a:cubicBezTo>
                  <a:pt x="467" y="180"/>
                  <a:pt x="466" y="218"/>
                  <a:pt x="437" y="261"/>
                </a:cubicBezTo>
                <a:cubicBezTo>
                  <a:pt x="418" y="258"/>
                  <a:pt x="400" y="252"/>
                  <a:pt x="381" y="252"/>
                </a:cubicBezTo>
                <a:cubicBezTo>
                  <a:pt x="368" y="252"/>
                  <a:pt x="413" y="249"/>
                  <a:pt x="418" y="261"/>
                </a:cubicBezTo>
                <a:cubicBezTo>
                  <a:pt x="425" y="278"/>
                  <a:pt x="421" y="303"/>
                  <a:pt x="409" y="317"/>
                </a:cubicBezTo>
                <a:cubicBezTo>
                  <a:pt x="396" y="332"/>
                  <a:pt x="353" y="336"/>
                  <a:pt x="353" y="336"/>
                </a:cubicBezTo>
                <a:cubicBezTo>
                  <a:pt x="310" y="333"/>
                  <a:pt x="266" y="335"/>
                  <a:pt x="223" y="327"/>
                </a:cubicBezTo>
                <a:cubicBezTo>
                  <a:pt x="190" y="321"/>
                  <a:pt x="187" y="284"/>
                  <a:pt x="149" y="271"/>
                </a:cubicBez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2880" y="62485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6324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02600" y="6324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 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105160" y="5257800"/>
            <a:ext cx="75960" cy="15228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5257800" y="5410080"/>
            <a:ext cx="76320" cy="152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410080" y="5562720"/>
            <a:ext cx="76320" cy="15228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562360" y="5181480"/>
            <a:ext cx="75960" cy="152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333760" y="5105520"/>
            <a:ext cx="75960" cy="15228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715000" y="5562720"/>
            <a:ext cx="76320" cy="15228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867280" y="5181480"/>
            <a:ext cx="76320" cy="152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562360" y="5715000"/>
            <a:ext cx="75960" cy="15228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029200" y="5638680"/>
            <a:ext cx="76320" cy="152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867280" y="5486400"/>
            <a:ext cx="76320" cy="15228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VÝŠKOVÉ PATRA TROPICKÉHO PRAL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1523880"/>
          <a:ext cx="6019920" cy="493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23880"/>
                    <a:ext cx="6019920" cy="49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019200" y="6095880"/>
            <a:ext cx="26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LINNÉ PATRO 1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5715000"/>
            <a:ext cx="25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ŘOVÉ PATRO 5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19560" y="4952880"/>
            <a:ext cx="263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ODNÍ STROMOV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RO do 20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75360" y="3595680"/>
            <a:ext cx="287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ŘEDNÍ STROMOV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RO do 40 m (střech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80400" y="1843200"/>
            <a:ext cx="251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NÍ STROMOV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RO do 60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310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řížovka - zad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ovský had žijící v Amazonii (škrtič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uh zemědělského území, na kterém dochází k intenzivnímu pěstování plod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lký brazilský přistav (město) na Amaz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ždyzelené „obojživelné“ dřevinné porosty, rostoucí při pobřeží v oblasti trop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oopi žijící v deštném pralese v povodí Kon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stlina s chabým stonkem, který se ovíjí kolem kmene strom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jrozlehlejší deštný prales na Zem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92360" y="189000"/>
            <a:ext cx="543564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řížovka - řeš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497800" cy="3137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97000" y="5583240"/>
            <a:ext cx="603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žungle se nazývá tropický deštný prales v Asi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2T19:38:14Z</dcterms:created>
  <dc:creator>kk</dc:creator>
  <dc:description/>
  <dc:language>en-US</dc:language>
  <cp:lastModifiedBy>jj</cp:lastModifiedBy>
  <dcterms:modified xsi:type="dcterms:W3CDTF">2010-03-09T19:23:14Z</dcterms:modified>
  <cp:revision>5</cp:revision>
  <dc:subject/>
  <dc:title>TROPY</dc:title>
</cp:coreProperties>
</file>