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02B-6E07-44E8-9553-5CFA871F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0C9-9E8F-4329-9388-0B9E5F2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2BD-CCD4-445B-B0A9-F334A353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803-64E2-4C6D-8BE3-85E59710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18E-69C8-4B78-93D6-49778CCD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3FB-6C59-4A0C-9BC0-F50251C6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B78-E9EA-4641-B79B-2A257A1E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6E3-1E52-40ED-A1FE-9F21CD6B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DB6-16C0-4AB6-B5FB-1C6AD50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0DE-5CF1-4863-866D-BE5361EF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5A6-7117-4489-87FA-16A2B407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806-8A18-4715-BF70-600E4AFD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56D-D069-48E6-9C66-0E655E637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kování práce s map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723920"/>
            <a:ext cx="763272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i zadání samostatn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dání úkolu č.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ázíte se na 30° s.š. a 90° z.d. (doplň město), z tohoto města se vydáme 900 km vzdušnou čarou na sever po řece (doplň název řeky) a dorazíme do města (doplň název). Z tohoto města na soutoku dvou řek odlétáte do hlavního města (doplň název hlavního města), které je vzdáleno vzdušnou čarou ??? Km (doplň kilometry). Kolik hodin a jaký den je právě v Praze, když v tomto hlavním městě je právě 22 hodin dne 10.listopa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5280" y="537372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úkolu č. 1: New Orleans, Mississippi, St. Louis, Washington, 1200 km, 4 hodiny 11. listop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dání úkolu č.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mocí rejstříku mapy najdi město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Brisban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urči následující úko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á je vzdálenost z tohoto města do města Canberr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é roční období je v tomto městě dne 24.12. a kolik hodin trvá den a kolik hodin noc? Jaké roční období a délka dne a noci je ve stejnou dobu v Č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á je skutečná vzdálenost z Brisbane do Tokya, když na mapě o měřítku 1:40 000 000 jsme naměřili vzdálenost 17,5 c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lik hodin poletíme z Brisbane do Tokya, když je cestovní rychlost letadla 1000 km/hodnin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dy přistaneme v Tokyu, když jsme z Brisbane vyletěli  v 6 hodin rán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0" y="486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ení úkolu č.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 100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to den trvá asi 16 hodin a noc 8 hodin. V ČR zima 8 hodin den a 16 hodin 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ho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 12 hodin (6 hodin odlet + 7 hodin let = 13 hod. – 1 hod. časový rozdíl = 12 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5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9:59:33Z</dcterms:created>
  <dc:creator>jj</dc:creator>
  <dc:description/>
  <dc:language>en-US</dc:language>
  <cp:lastModifiedBy>jj</cp:lastModifiedBy>
  <dcterms:modified xsi:type="dcterms:W3CDTF">2007-10-29T20:30:55Z</dcterms:modified>
  <cp:revision>7</cp:revision>
  <dc:subject/>
  <dc:title>Opakování práce s mapou</dc:title>
</cp:coreProperties>
</file>