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0E9-1B39-484D-804E-540DEB20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C17-D39C-4DDD-BC31-95135439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F36-64C9-4B4C-8EA9-4A9A7BA8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28A-A247-41CE-893C-F36E9DC0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BF5-8C1F-4AAC-9FDF-6ED31012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44E-3AEC-4B87-A1F7-B24AE34A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45D-7588-4CEC-AACA-5E36B56A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6BC-35F5-45D4-BD07-309DA86F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2AA-ACBF-4F49-B6EE-A8919BEC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8A4-024A-4CE0-B03D-E75ED093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25D-D0D0-469F-979A-EB4A2A8A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6EA-55D0-43C2-AECF-A729F1BD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AB7A-ECD4-4F7E-ACA2-BDA05D921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planetky.cz/article.php3?sid=53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J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ás jehličnatých les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47772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477720" y="1006560"/>
            <a:ext cx="9144000" cy="360"/>
          </a:xfrm>
          <a:prstGeom prst="rect">
            <a:avLst/>
          </a:prstGeom>
          <a:solidFill>
            <a:srgbClr val="ece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7" descr="fot. Krzysztof Zajkowski"/>
          <p:cNvPicPr/>
          <p:nvPr/>
        </p:nvPicPr>
        <p:blipFill>
          <a:blip r:embed="rId1"/>
          <a:stretch/>
        </p:blipFill>
        <p:spPr>
          <a:xfrm>
            <a:off x="609480" y="838080"/>
            <a:ext cx="80773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nejsevernější části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mírného pás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dlouhá a tuhá zima, krátké a mírné léto) toto podnebí dovoluje růst pouz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jehličnatých lesů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AJG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smrky, modříny, jedl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ze na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VERNÍ POLOKOU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Skandinávie, Sibiř, Aljaška, Kana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ůda je zde dlouhodobě zmrzlá (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mafros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– močály, bažiny, sesuvy (to brání jejímu využití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47772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477720" y="1006560"/>
            <a:ext cx="9144000" cy="360"/>
          </a:xfrm>
          <a:prstGeom prst="rect">
            <a:avLst/>
          </a:prstGeom>
          <a:solidFill>
            <a:srgbClr val="ece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18" descr="fot. Krzysztof Zajkowski"/>
          <p:cNvPicPr/>
          <p:nvPr/>
        </p:nvPicPr>
        <p:blipFill>
          <a:blip r:embed="rId1"/>
          <a:stretch/>
        </p:blipFill>
        <p:spPr>
          <a:xfrm>
            <a:off x="0" y="3492360"/>
            <a:ext cx="4876920" cy="336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47772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477720" y="1006560"/>
            <a:ext cx="9144000" cy="360"/>
          </a:xfrm>
          <a:prstGeom prst="rect">
            <a:avLst/>
          </a:prstGeom>
          <a:solidFill>
            <a:srgbClr val="ece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10" descr="fot. Krzysztof Zajkowski"/>
          <p:cNvPicPr/>
          <p:nvPr/>
        </p:nvPicPr>
        <p:blipFill>
          <a:blip r:embed="rId2"/>
          <a:stretch/>
        </p:blipFill>
        <p:spPr>
          <a:xfrm>
            <a:off x="4267080" y="2568600"/>
            <a:ext cx="48769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3657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stlin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ehličnany, bříza, osika, olše, byliny, borůvky, mechy, lišejní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vířat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dvědi, lišky, vlci, bobři, losi, ptáci, hmy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dé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dmi málo osídlena = zachovaná vs. těžba dřeva a neros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wolfs" descr=""/>
          <p:cNvPicPr/>
          <p:nvPr/>
        </p:nvPicPr>
        <p:blipFill>
          <a:blip r:embed="rId1"/>
          <a:stretch/>
        </p:blipFill>
        <p:spPr>
          <a:xfrm>
            <a:off x="3657600" y="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55" name="180" descr=""/>
          <p:cNvPicPr/>
          <p:nvPr/>
        </p:nvPicPr>
        <p:blipFill>
          <a:blip r:embed="rId2"/>
          <a:stretch/>
        </p:blipFill>
        <p:spPr>
          <a:xfrm>
            <a:off x="4267080" y="3438360"/>
            <a:ext cx="48769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288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nguský meteorit (190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unguska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286520" cy="6114960"/>
          </a:xfrm>
          <a:prstGeom prst="rect">
            <a:avLst/>
          </a:prstGeom>
          <a:ln w="0">
            <a:noFill/>
          </a:ln>
        </p:spPr>
      </p:pic>
      <p:pic>
        <p:nvPicPr>
          <p:cNvPr id="58" name="073004-Tunguska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429000" cy="3040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4120" y="58672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íce z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ápis</a:t>
            </a:r>
            <a:br>
              <a:rPr sz="1800"/>
            </a:b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Tajga – pás jehličnatých les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nejsevernější části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mírného pás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severní Evropa, Asie a Sev. Amerik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Drsné podnebí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krátké chladnější léto, tvrdá a dlouhá zima, dlouhodobě zmrzlá půda – permafrost)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brání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jejímu většímu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využívání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kácení lesů, těžba nerostů, stavba měst – nevýhodná a složitá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plň chybějící poj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Y MÍRNÉHO PÁ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 oblastech mírného pásu kde je ………………srážek se nachází lesy. V jižní části jsou to lesy …………….., které byly na mnoha místech………………………. a přeměněny na kulturní krajinu (např. ..………………………….). V chladnější (severní) oblasti mírného pásu roste pás…………............ lesů (nazývaný Tajga), ten díky své nehostinnosti zůstal prakticky zachován (využíván k těžbě dřeva a nerostných surovin: …………………………………………………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liny a živočichové v lesích mírného pás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…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(tajga)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plň chybějící pojmy -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SY MÍRNÉHO PÁ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 oblastech mírného pásu kde je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stat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rážek se nachází lesy. V jižní části jsou to les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tnat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teré byly na mnoha místec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yužity člověk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přeměněny na kulturní krajin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např. pole, pastviny, sídla aj.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 chladnější (severní) oblasti mírného pásu roste pá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hličnatý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sů (nazývaný Tajga), ten díky své nehostinnosti zůstal prakticky zachován (využíván k těžbě dřeva a nerostných surovin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pa, zemní plyn, zlato, uhl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d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stliny a živočichové v lesích mírného pá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k, dub, javor, ptactvo, divoké prase, vysoká zvěř a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(tajga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rk, jedle, borovice, medvěd, vlk, hmyz a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20:26:31Z</dcterms:created>
  <dc:creator>kk</dc:creator>
  <dc:description/>
  <dc:language>en-US</dc:language>
  <cp:lastModifiedBy>jj</cp:lastModifiedBy>
  <dcterms:modified xsi:type="dcterms:W3CDTF">2010-03-26T05:43:37Z</dcterms:modified>
  <cp:revision>2</cp:revision>
  <dc:subject/>
  <dc:title>TAJGA</dc:title>
</cp:coreProperties>
</file>