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F0C4-CC77-4DD5-ADF6-82D6B972F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BC5C-616E-42B3-A96D-FF21F7FC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DF46-8EB2-435D-86C4-31283BF48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64F0-5E0E-4CF7-BA70-18CB57A97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5431-CCF8-46A3-8F0B-6F64E765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197F-F64E-47B3-AED3-F6550BD5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08F9-7837-4579-B213-84523D73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825F-378E-43D7-A57A-7195D2CD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723A-3767-4D42-B5A1-A78D1A55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D5D4-1BBE-4442-AB04-FD1CA9B5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AC1A-3736-4590-9EF2-03245219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0938-A9BB-41B7-BEF1-5EEF4021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AFCA-5DEE-4885-AB66-3D9B3FB1A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ŘEDOMOŘ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1294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rajina olivových háj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0410-kreta-394-p21-olivovnik.2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53946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-360" y="838080"/>
            <a:ext cx="39625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ředomořský vegetační pás leží v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BTROPE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4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zeměpisné šířky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é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uchý a teplý vzduch z tropů (vysoké teploty a málo sráže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zim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zduch z mírného pásu (vyšší srážky a ochlazení - průměrně 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yprus" descr=""/>
          <p:cNvPicPr/>
          <p:nvPr/>
        </p:nvPicPr>
        <p:blipFill>
          <a:blip r:embed="rId1"/>
          <a:stretch/>
        </p:blipFill>
        <p:spPr>
          <a:xfrm>
            <a:off x="4267080" y="0"/>
            <a:ext cx="4305600" cy="2852640"/>
          </a:xfrm>
          <a:prstGeom prst="rect">
            <a:avLst/>
          </a:prstGeom>
          <a:ln w="0">
            <a:noFill/>
          </a:ln>
        </p:spPr>
      </p:pic>
      <p:pic>
        <p:nvPicPr>
          <p:cNvPr id="46" name="is0023" descr=""/>
          <p:cNvPicPr/>
          <p:nvPr/>
        </p:nvPicPr>
        <p:blipFill>
          <a:blip r:embed="rId2"/>
          <a:stretch/>
        </p:blipFill>
        <p:spPr>
          <a:xfrm>
            <a:off x="4952880" y="2895480"/>
            <a:ext cx="3017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240" y="533160"/>
            <a:ext cx="35053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Kolébka civilizac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Egypt, Řím, Řeck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měněná krajin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kácení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vrdolisté vegetac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borovice, cedr, dub) nahrazen Makchiemi, vinnou révou, citrusy, olivy…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díky kácení a častým požárům velká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roze půd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last rekreac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C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corktree" descr=""/>
          <p:cNvPicPr/>
          <p:nvPr/>
        </p:nvPicPr>
        <p:blipFill>
          <a:blip r:embed="rId1"/>
          <a:stretch/>
        </p:blipFill>
        <p:spPr>
          <a:xfrm>
            <a:off x="3581280" y="3733920"/>
            <a:ext cx="1714680" cy="2468520"/>
          </a:xfrm>
          <a:prstGeom prst="rect">
            <a:avLst/>
          </a:prstGeom>
          <a:ln w="0">
            <a:noFill/>
          </a:ln>
        </p:spPr>
      </p:pic>
      <p:pic>
        <p:nvPicPr>
          <p:cNvPr id="49" name="04" descr=""/>
          <p:cNvPicPr/>
          <p:nvPr/>
        </p:nvPicPr>
        <p:blipFill>
          <a:blip r:embed="rId2"/>
          <a:stretch/>
        </p:blipFill>
        <p:spPr>
          <a:xfrm>
            <a:off x="5486400" y="4038480"/>
            <a:ext cx="3657600" cy="2246400"/>
          </a:xfrm>
          <a:prstGeom prst="rect">
            <a:avLst/>
          </a:prstGeom>
          <a:ln w="0">
            <a:noFill/>
          </a:ln>
        </p:spPr>
      </p:pic>
      <p:pic>
        <p:nvPicPr>
          <p:cNvPr id="50" name="Poncirus2" descr=""/>
          <p:cNvPicPr/>
          <p:nvPr/>
        </p:nvPicPr>
        <p:blipFill>
          <a:blip r:embed="rId3"/>
          <a:stretch/>
        </p:blipFill>
        <p:spPr>
          <a:xfrm>
            <a:off x="7010280" y="685800"/>
            <a:ext cx="1970280" cy="2932200"/>
          </a:xfrm>
          <a:prstGeom prst="rect">
            <a:avLst/>
          </a:prstGeom>
          <a:ln w="0">
            <a:noFill/>
          </a:ln>
        </p:spPr>
      </p:pic>
      <p:pic>
        <p:nvPicPr>
          <p:cNvPr id="51" name="300px-Akropolis" descr=""/>
          <p:cNvPicPr/>
          <p:nvPr/>
        </p:nvPicPr>
        <p:blipFill>
          <a:blip r:embed="rId4"/>
          <a:stretch/>
        </p:blipFill>
        <p:spPr>
          <a:xfrm>
            <a:off x="3429000" y="533520"/>
            <a:ext cx="3417840" cy="23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ápis</a:t>
            </a:r>
            <a:br>
              <a:rPr sz="1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ředomo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oblasti subtropického pásu (30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4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zeměpisné šířky), na západě světadílů, se rozkládá oblast subtropické (tvrdolisté) vegetace (cedr, korkový dub aj.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měněná krajina je vhodná pro pěstování subtropických plodin (citrusy, vinná réva, olivy apod.) a letní rekreaci (cestovní ruch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590920" y="1905120"/>
          <a:ext cx="5715000" cy="405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905120"/>
                    <a:ext cx="5715000" cy="40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 rot="21466200">
            <a:off x="7013160" y="2587320"/>
            <a:ext cx="51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9:07:22Z</dcterms:created>
  <dc:creator>kk</dc:creator>
  <dc:description/>
  <dc:language>en-US</dc:language>
  <cp:lastModifiedBy>kk</cp:lastModifiedBy>
  <dcterms:modified xsi:type="dcterms:W3CDTF">2006-02-05T20:42:51Z</dcterms:modified>
  <cp:revision>4</cp:revision>
  <dc:subject/>
  <dc:title>STŘEDOMOŘÍ</dc:title>
</cp:coreProperties>
</file>