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F58C-5AD3-4872-8A3E-AABB255F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524-AA68-484E-B9C6-7E6B3265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A925-38CD-407F-835D-878A9FC1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DC3-DAED-4566-BECF-05778A07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04B-2BDA-4F6D-82FD-2298320F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B72-00B1-47A5-A6BC-A444EFA3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4B45-4662-442E-80D3-67A06D1F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E1E5-2D03-42CA-B30D-A60572D5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2FC7-C233-4B51-99F0-52375BFC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197F-15AF-434E-90C6-A0FB6DF5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C8B-FC28-4BCE-BC34-5824E687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A9A2-5077-4085-AA6E-69161605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E51B-D0A0-46B1-95C7-6594D42787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te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elké obilnice svě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http://lemberk.vcm.cz/husice1_kopie.jpg"/>
          <p:cNvPicPr/>
          <p:nvPr/>
        </p:nvPicPr>
        <p:blipFill>
          <a:blip r:embed="rId1"/>
          <a:stretch/>
        </p:blipFill>
        <p:spPr>
          <a:xfrm>
            <a:off x="2666880" y="2590920"/>
            <a:ext cx="5715000" cy="4101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http://countrystudies.us/united-states/American-Indian.jpg"/>
          <p:cNvPicPr/>
          <p:nvPr/>
        </p:nvPicPr>
        <p:blipFill>
          <a:blip r:embed="rId2"/>
          <a:stretch/>
        </p:blipFill>
        <p:spPr>
          <a:xfrm>
            <a:off x="762120" y="838080"/>
            <a:ext cx="210348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228600" y="304920"/>
            <a:ext cx="4572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epi leží v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kontinentálním mírném pás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Rusko, USA, Argentina aj.) – vyšší rozdíly teplot a méně srážek neumožňují růst souvislého lesa, ale pouz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ra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sou různě pojmenovány:  SA = prérie, JA = pam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http://www.horolezec.cz/images/galery/gal_66/jamerika/nahledy/pampy.jpg"/>
          <p:cNvPicPr/>
          <p:nvPr/>
        </p:nvPicPr>
        <p:blipFill>
          <a:blip r:embed="rId1"/>
          <a:stretch/>
        </p:blipFill>
        <p:spPr>
          <a:xfrm>
            <a:off x="4495680" y="609480"/>
            <a:ext cx="4648320" cy="3029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ttp://mypage.bluewin.ch/klipsi/160503c.jpg"/>
          <p:cNvPicPr/>
          <p:nvPr/>
        </p:nvPicPr>
        <p:blipFill>
          <a:blip r:embed="rId2"/>
          <a:stretch/>
        </p:blipFill>
        <p:spPr>
          <a:xfrm>
            <a:off x="1066680" y="3949560"/>
            <a:ext cx="784872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609120"/>
            <a:ext cx="4343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usté kořeny trav dodávají potřebné živiny (humus) do půdy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černozemě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Obilnice svět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step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říve mnoho kočovných kmenů (indiáni) i zvířat (bizoni, hlodavci – zajíc, sysel, hraboš, ptáci – křepelka, orlové, sup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8" descr="http://www.wcs.org/media/image/NAP.SZack.Bison%20drinking%20from%20stream.jpg"/>
          <p:cNvPicPr/>
          <p:nvPr/>
        </p:nvPicPr>
        <p:blipFill>
          <a:blip r:embed="rId1"/>
          <a:stretch/>
        </p:blipFill>
        <p:spPr>
          <a:xfrm>
            <a:off x="4191120" y="3608280"/>
            <a:ext cx="4724280" cy="300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http://www.gltours.com/Countries/Pics/argentina%20la%20pampa.jpg"/>
          <p:cNvPicPr/>
          <p:nvPr/>
        </p:nvPicPr>
        <p:blipFill>
          <a:blip r:embed="rId2"/>
          <a:stretch/>
        </p:blipFill>
        <p:spPr>
          <a:xfrm>
            <a:off x="4191120" y="228600"/>
            <a:ext cx="47242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aoblený obdélník 3"/>
          <p:cNvSpPr/>
          <p:nvPr/>
        </p:nvSpPr>
        <p:spPr>
          <a:xfrm>
            <a:off x="2771640" y="2401920"/>
            <a:ext cx="2808360" cy="11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STEP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ovéPole 4"/>
          <p:cNvSpPr/>
          <p:nvPr/>
        </p:nvSpPr>
        <p:spPr>
          <a:xfrm>
            <a:off x="3121920" y="765000"/>
            <a:ext cx="297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ÍRNÝ PÁ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KONITINENTÁL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ovéPole 6"/>
          <p:cNvSpPr/>
          <p:nvPr/>
        </p:nvSpPr>
        <p:spPr>
          <a:xfrm>
            <a:off x="6525360" y="159552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ovéPole 7"/>
          <p:cNvSpPr/>
          <p:nvPr/>
        </p:nvSpPr>
        <p:spPr>
          <a:xfrm>
            <a:off x="5987520" y="299412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RAVI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ovéPole 8"/>
          <p:cNvSpPr/>
          <p:nvPr/>
        </p:nvSpPr>
        <p:spPr>
          <a:xfrm>
            <a:off x="5214600" y="4737240"/>
            <a:ext cx="263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ERNOZEM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spodářské využi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9"/>
          <p:cNvSpPr/>
          <p:nvPr/>
        </p:nvSpPr>
        <p:spPr>
          <a:xfrm>
            <a:off x="1201680" y="4797360"/>
            <a:ext cx="31384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LA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d Ukrajiny po Mongolsko (celi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everní Amerika (prér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rgentina (pamp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ďarsko (pus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ovéPole 10"/>
          <p:cNvSpPr/>
          <p:nvPr/>
        </p:nvSpPr>
        <p:spPr>
          <a:xfrm>
            <a:off x="243000" y="2863800"/>
            <a:ext cx="1969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BLÉ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ětrná ero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orná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rušení biodiverz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ovéPole 11"/>
          <p:cNvSpPr/>
          <p:nvPr/>
        </p:nvSpPr>
        <p:spPr>
          <a:xfrm>
            <a:off x="640800" y="159552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ESOSTE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ovéPole 12"/>
          <p:cNvSpPr/>
          <p:nvPr/>
        </p:nvSpPr>
        <p:spPr>
          <a:xfrm>
            <a:off x="615240" y="96984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íce vláhy v lét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ovéPole 13"/>
          <p:cNvSpPr/>
          <p:nvPr/>
        </p:nvSpPr>
        <p:spPr>
          <a:xfrm>
            <a:off x="576720" y="15084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raviny + stro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ovéPole 14"/>
          <p:cNvSpPr/>
          <p:nvPr/>
        </p:nvSpPr>
        <p:spPr>
          <a:xfrm>
            <a:off x="4863600" y="611676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hov sko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ovéPole 15"/>
          <p:cNvSpPr/>
          <p:nvPr/>
        </p:nvSpPr>
        <p:spPr>
          <a:xfrm>
            <a:off x="6433920" y="6102360"/>
            <a:ext cx="218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bilniny – obilnice svě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pšenice, kukuř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ovéPole 16"/>
          <p:cNvSpPr/>
          <p:nvPr/>
        </p:nvSpPr>
        <p:spPr>
          <a:xfrm>
            <a:off x="7202160" y="2435400"/>
            <a:ext cx="16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avyly a vousat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ovéPole 17"/>
          <p:cNvSpPr/>
          <p:nvPr/>
        </p:nvSpPr>
        <p:spPr>
          <a:xfrm>
            <a:off x="7160400" y="3659040"/>
            <a:ext cx="2044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izon (hrozí vyhubení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lodav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jo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rlové a su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Přímá spojnice se šipkou 19"/>
          <p:cNvCxnSpPr/>
          <p:nvPr/>
        </p:nvCxnSpPr>
        <p:spPr>
          <a:xfrm flipV="1">
            <a:off x="4355640" y="1595160"/>
            <a:ext cx="1080" cy="80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 flipV="1">
            <a:off x="5580000" y="2056680"/>
            <a:ext cx="951840" cy="5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Přímá spojnice se šipkou 23"/>
          <p:cNvCxnSpPr>
            <a:endCxn id="54" idx="1"/>
          </p:cNvCxnSpPr>
          <p:nvPr/>
        </p:nvCxnSpPr>
        <p:spPr>
          <a:xfrm>
            <a:off x="5580000" y="3225600"/>
            <a:ext cx="416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Přímá spojnice se šipkou 25"/>
          <p:cNvCxnSpPr/>
          <p:nvPr/>
        </p:nvCxnSpPr>
        <p:spPr>
          <a:xfrm>
            <a:off x="5452920" y="3587760"/>
            <a:ext cx="65952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Přímá spojnice se šipkou 27"/>
          <p:cNvCxnSpPr/>
          <p:nvPr/>
        </p:nvCxnSpPr>
        <p:spPr>
          <a:xfrm flipH="1">
            <a:off x="2267640" y="3587400"/>
            <a:ext cx="1080360" cy="115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Přímá spojnice se šipkou 29"/>
          <p:cNvCxnSpPr>
            <a:stCxn id="51" idx="1"/>
          </p:cNvCxnSpPr>
          <p:nvPr/>
        </p:nvCxnSpPr>
        <p:spPr>
          <a:xfrm flipH="1">
            <a:off x="1907280" y="2993760"/>
            <a:ext cx="86436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Přímá spojnice se šipkou 31"/>
          <p:cNvCxnSpPr/>
          <p:nvPr/>
        </p:nvCxnSpPr>
        <p:spPr>
          <a:xfrm flipH="1" flipV="1">
            <a:off x="2123280" y="2057040"/>
            <a:ext cx="685080" cy="37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Přímá spojnice se šipkou 33"/>
          <p:cNvCxnSpPr/>
          <p:nvPr/>
        </p:nvCxnSpPr>
        <p:spPr>
          <a:xfrm flipV="1">
            <a:off x="1358640" y="1410840"/>
            <a:ext cx="108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Přímá spojnice se šipkou 35"/>
          <p:cNvCxnSpPr/>
          <p:nvPr/>
        </p:nvCxnSpPr>
        <p:spPr>
          <a:xfrm flipV="1">
            <a:off x="1358640" y="594720"/>
            <a:ext cx="108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Přímá spojnice se šipkou 39"/>
          <p:cNvCxnSpPr/>
          <p:nvPr/>
        </p:nvCxnSpPr>
        <p:spPr>
          <a:xfrm flipV="1">
            <a:off x="7192440" y="2803320"/>
            <a:ext cx="18828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Přímá spojnice se šipkou 41"/>
          <p:cNvCxnSpPr/>
          <p:nvPr/>
        </p:nvCxnSpPr>
        <p:spPr>
          <a:xfrm>
            <a:off x="7192440" y="3357360"/>
            <a:ext cx="188280" cy="30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Přímá spojnice se šipkou 46"/>
          <p:cNvCxnSpPr>
            <a:stCxn id="55" idx="2"/>
          </p:cNvCxnSpPr>
          <p:nvPr/>
        </p:nvCxnSpPr>
        <p:spPr>
          <a:xfrm flipH="1">
            <a:off x="5579640" y="5567400"/>
            <a:ext cx="95184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Přímá spojnice se šipkou 48"/>
          <p:cNvCxnSpPr>
            <a:stCxn id="55" idx="2"/>
          </p:cNvCxnSpPr>
          <p:nvPr/>
        </p:nvCxnSpPr>
        <p:spPr>
          <a:xfrm>
            <a:off x="6530760" y="5567400"/>
            <a:ext cx="34524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TextovéPole 1"/>
          <p:cNvSpPr/>
          <p:nvPr/>
        </p:nvSpPr>
        <p:spPr>
          <a:xfrm>
            <a:off x="6733440" y="0"/>
            <a:ext cx="2427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yšlenková m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pis</a:t>
            </a:r>
            <a:br>
              <a:rPr sz="16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tepi a lesostepi – obilnice svě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ží v sušším vnitrozemském podnebí mírného pásu (srážky nestačí k růstu stromů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sou tvořeny travnatými porosty - na úrodných černozemích (dnes zemědělsky využíván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vířata – býložravci (bizoni, domestifikovaný dobytek, hlodavci, ptác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7:35:04Z</dcterms:created>
  <dc:creator>kk</dc:creator>
  <dc:description/>
  <dc:language>en-US</dc:language>
  <cp:lastModifiedBy>Uživatel</cp:lastModifiedBy>
  <dcterms:modified xsi:type="dcterms:W3CDTF">2014-03-29T07:42:31Z</dcterms:modified>
  <cp:revision>7</cp:revision>
  <dc:subject/>
  <dc:title>Stepi</dc:title>
</cp:coreProperties>
</file>