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2D95-5576-4AC8-9238-2FD61DB8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CC8C-9EAF-4201-B3AA-59852B93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471-A16C-4B5A-905B-96A21B00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3E82-F501-4F72-90D5-9D7C10D2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E20-5329-4A82-B126-90AA682D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F339-73C7-442B-BC83-C6FA797C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B214-E692-4284-80A4-CB680603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D194-381C-44E8-AAB6-5BE9EA64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FEDF-2065-407F-ACF8-71588BD8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1D9-7548-410A-9247-69688FE3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4D99-A1F5-458B-81B6-CDDCA83F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5A3-0856-4381-B8EC-BA9B56F2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AF43-38A7-4516-BC81-6F48A5E3C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bri.kropes.cz/afrika/parky/index_parks.htm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de jsou jen dvě roční obdob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anzania_serengeti_acacia_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458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9528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eží mezi rovníkem a obratníke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od rovníku klesá množství srážek)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ve střídavě vlhkém tropickém podnebném pás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AF, JA, Indie, AUS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ní období dešťů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záplav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Zimní období such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požá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vana se mění od rovníku k obratníků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omové savany (vlhká savana) období dešťů 9-7 měsíců (tráva vyšší než člověk a dostatek stromů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eřová savana (suchá savana) 7-4 měsíce (tráva po ramena, méně stromů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rnité savany (Sahel) 4-2 měsíce (tráva po kolena, bez stromů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avana" descr=""/>
          <p:cNvPicPr/>
          <p:nvPr/>
        </p:nvPicPr>
        <p:blipFill>
          <a:blip r:embed="rId1"/>
          <a:stretch/>
        </p:blipFill>
        <p:spPr>
          <a:xfrm>
            <a:off x="4800600" y="304920"/>
            <a:ext cx="4343400" cy="3028680"/>
          </a:xfrm>
          <a:prstGeom prst="rect">
            <a:avLst/>
          </a:prstGeom>
          <a:ln w="0">
            <a:noFill/>
          </a:ln>
        </p:spPr>
      </p:pic>
      <p:pic>
        <p:nvPicPr>
          <p:cNvPr id="46" name="30savana_jpg" descr=""/>
          <p:cNvPicPr/>
          <p:nvPr/>
        </p:nvPicPr>
        <p:blipFill>
          <a:blip r:embed="rId2"/>
          <a:stretch/>
        </p:blipFill>
        <p:spPr>
          <a:xfrm>
            <a:off x="4800600" y="3735360"/>
            <a:ext cx="43434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48769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Ráj zvíř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býložravci, šelmy, ptáci, hmyz, plazi atd.) = velké ohrožení a proto vznikají NP (safar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blé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ste pastva domestikovaných zvířat (vypásaní) = roste oblast SAHE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ladom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lárie (období dešťů - moskyti),  spavá nemoc (moucha Tse-T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dostatek v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ouchetsetse" descr=""/>
          <p:cNvPicPr/>
          <p:nvPr/>
        </p:nvPicPr>
        <p:blipFill>
          <a:blip r:embed="rId1"/>
          <a:stretch/>
        </p:blipFill>
        <p:spPr>
          <a:xfrm>
            <a:off x="4952880" y="228600"/>
            <a:ext cx="3962520" cy="2884320"/>
          </a:xfrm>
          <a:prstGeom prst="rect">
            <a:avLst/>
          </a:prstGeom>
          <a:ln w="0">
            <a:noFill/>
          </a:ln>
        </p:spPr>
      </p:pic>
      <p:pic>
        <p:nvPicPr>
          <p:cNvPr id="49" name="Nigeria-Sahel" descr=""/>
          <p:cNvPicPr/>
          <p:nvPr/>
        </p:nvPicPr>
        <p:blipFill>
          <a:blip r:embed="rId2"/>
          <a:stretch/>
        </p:blipFill>
        <p:spPr>
          <a:xfrm>
            <a:off x="4343400" y="3508200"/>
            <a:ext cx="4572000" cy="3121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1880" y="6324480"/>
            <a:ext cx="23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NÁRODNÍ PARKY AFR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2" descr=""/>
          <p:cNvPicPr/>
          <p:nvPr/>
        </p:nvPicPr>
        <p:blipFill>
          <a:blip r:embed="rId4"/>
          <a:stretch/>
        </p:blipFill>
        <p:spPr>
          <a:xfrm>
            <a:off x="762120" y="3809880"/>
            <a:ext cx="297180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19:13:28Z</dcterms:created>
  <dc:creator>kk</dc:creator>
  <dc:description/>
  <dc:language>en-US</dc:language>
  <cp:lastModifiedBy>kk</cp:lastModifiedBy>
  <dcterms:modified xsi:type="dcterms:W3CDTF">2006-01-31T17:35:10Z</dcterms:modified>
  <cp:revision>4</cp:revision>
  <dc:subject/>
  <dc:title>SAVANY</dc:title>
</cp:coreProperties>
</file>