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F65-6352-422A-B05A-8FA06DF2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0BE-375A-4E66-8A67-305DDD7D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726-9282-4E17-A175-B7C9E832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0BF-863D-4FCA-B547-0CA22BE7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7AA-E292-4C59-9963-35CA8AC6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46F-771E-49A1-8875-BDB67A13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41F-DC5A-4C82-99DE-3B300FD6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8FE7-B6F0-4084-8E45-E255A88D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099-EF4B-4A0E-AF9E-B5122C34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8E5-E99A-43B1-A56C-5BD7AEC0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D27-E3D3-4130-9722-E6B6EFEA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D78-A807-42AD-9099-EDA89246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D85F-249C-46FC-92C4-96A7C4D19B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Působení tekoucí v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usa7_4"/>
          <p:cNvPicPr/>
          <p:nvPr/>
        </p:nvPicPr>
        <p:blipFill>
          <a:blip r:embed="rId1"/>
          <a:stretch/>
        </p:blipFill>
        <p:spPr>
          <a:xfrm>
            <a:off x="0" y="549360"/>
            <a:ext cx="4967280" cy="3558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Punkva"/>
          <p:cNvPicPr/>
          <p:nvPr/>
        </p:nvPicPr>
        <p:blipFill>
          <a:blip r:embed="rId2"/>
          <a:stretch/>
        </p:blipFill>
        <p:spPr>
          <a:xfrm>
            <a:off x="179280" y="4071960"/>
            <a:ext cx="4211640" cy="2786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"/>
          <p:cNvPicPr/>
          <p:nvPr/>
        </p:nvPicPr>
        <p:blipFill>
          <a:blip r:embed="rId3"/>
          <a:stretch/>
        </p:blipFill>
        <p:spPr>
          <a:xfrm>
            <a:off x="4716360" y="4076640"/>
            <a:ext cx="4067280" cy="2781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"/>
          <p:cNvPicPr/>
          <p:nvPr/>
        </p:nvPicPr>
        <p:blipFill>
          <a:blip r:embed="rId4"/>
          <a:stretch/>
        </p:blipFill>
        <p:spPr>
          <a:xfrm>
            <a:off x="5219640" y="0"/>
            <a:ext cx="3328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foto rodinka\leden 2014\Resampled\IMG_4355.JPG"/>
          <p:cNvPicPr/>
          <p:nvPr/>
        </p:nvPicPr>
        <p:blipFill>
          <a:blip r:embed="rId1"/>
          <a:stretch/>
        </p:blipFill>
        <p:spPr>
          <a:xfrm>
            <a:off x="1114560" y="0"/>
            <a:ext cx="691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0320"/>
          </a:xfrm>
          <a:prstGeom prst="rect">
            <a:avLst/>
          </a:prstGeom>
          <a:ln w="0">
            <a:noFill/>
          </a:ln>
        </p:spPr>
      </p:pic>
      <p:sp>
        <p:nvSpPr>
          <p:cNvPr id="48" name="TextovéPole 3"/>
          <p:cNvSpPr/>
          <p:nvPr/>
        </p:nvSpPr>
        <p:spPr>
          <a:xfrm>
            <a:off x="6875640" y="4581360"/>
            <a:ext cx="21603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–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část t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 –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část t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–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část t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93600" y="5845320"/>
            <a:ext cx="894240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plňte části vodního toku vzniklé působením tekoucí vody: 1 – údolní niva, 2 – delta (ústí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- říční meandry, 4 – slepé rameno, 5 – přítok, 6 – kaňon, 7 – jezero, 8 – ledovce, 9 – mokřad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0 – pramen, 11 – vodopády, 12 – peře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032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3"/>
          <p:cNvSpPr/>
          <p:nvPr/>
        </p:nvSpPr>
        <p:spPr>
          <a:xfrm>
            <a:off x="6875640" y="4581360"/>
            <a:ext cx="216036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– dolní část t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 – střední část t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– horní část to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93600" y="5845320"/>
            <a:ext cx="894240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plňte části vodního toku vzniklé působením tekoucí vody: 1 – údolní niva, 2 – delta (ústí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- říční meandry, 4 – slepé rameno, 5 – přítok, 6 – kaňon, 7 – jezero, 8 – ledovce, 9 – mokřad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0 – pramen, 11 – vodopády, 12 – peře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ovéPole 1"/>
          <p:cNvSpPr/>
          <p:nvPr/>
        </p:nvSpPr>
        <p:spPr>
          <a:xfrm>
            <a:off x="3167640" y="4743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ovéPole 5"/>
          <p:cNvSpPr/>
          <p:nvPr/>
        </p:nvSpPr>
        <p:spPr>
          <a:xfrm>
            <a:off x="5221800" y="5335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6"/>
          <p:cNvSpPr/>
          <p:nvPr/>
        </p:nvSpPr>
        <p:spPr>
          <a:xfrm>
            <a:off x="5366160" y="4581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7"/>
          <p:cNvSpPr/>
          <p:nvPr/>
        </p:nvSpPr>
        <p:spPr>
          <a:xfrm>
            <a:off x="5677560" y="3716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8"/>
          <p:cNvSpPr/>
          <p:nvPr/>
        </p:nvSpPr>
        <p:spPr>
          <a:xfrm>
            <a:off x="3177000" y="299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5542560" y="2827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0"/>
          <p:cNvSpPr/>
          <p:nvPr/>
        </p:nvSpPr>
        <p:spPr>
          <a:xfrm>
            <a:off x="6591240" y="2349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ovéPole 11"/>
          <p:cNvSpPr/>
          <p:nvPr/>
        </p:nvSpPr>
        <p:spPr>
          <a:xfrm>
            <a:off x="2985120" y="1628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ovéPole 12"/>
          <p:cNvSpPr/>
          <p:nvPr/>
        </p:nvSpPr>
        <p:spPr>
          <a:xfrm>
            <a:off x="2918520" y="18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ovéPole 13"/>
          <p:cNvSpPr/>
          <p:nvPr/>
        </p:nvSpPr>
        <p:spPr>
          <a:xfrm>
            <a:off x="4372200" y="62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ovéPole 14"/>
          <p:cNvSpPr/>
          <p:nvPr/>
        </p:nvSpPr>
        <p:spPr>
          <a:xfrm>
            <a:off x="1041840" y="2657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ovéPole 15"/>
          <p:cNvSpPr/>
          <p:nvPr/>
        </p:nvSpPr>
        <p:spPr>
          <a:xfrm>
            <a:off x="1694160" y="3322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ovéPole 2"/>
          <p:cNvSpPr/>
          <p:nvPr/>
        </p:nvSpPr>
        <p:spPr>
          <a:xfrm>
            <a:off x="192240" y="1270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EŠ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elikost vodní eroze závisí na množství vody, spádu vodního t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 odolnosti hornin. Tekoucí voda odnáší zvětraliny, rozruš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orniny a vymílá koryto ve tvaru 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Činnost ř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Horní tok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Střední tok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Dolní 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609480" y="403848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4"/>
          <p:cNvSpPr/>
          <p:nvPr/>
        </p:nvSpPr>
        <p:spPr>
          <a:xfrm flipV="1">
            <a:off x="1295280" y="4038480"/>
            <a:ext cx="8384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5"/>
          <p:cNvSpPr/>
          <p:nvPr/>
        </p:nvSpPr>
        <p:spPr>
          <a:xfrm>
            <a:off x="3733920" y="396252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6"/>
          <p:cNvSpPr/>
          <p:nvPr/>
        </p:nvSpPr>
        <p:spPr>
          <a:xfrm>
            <a:off x="41148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7"/>
          <p:cNvSpPr/>
          <p:nvPr/>
        </p:nvSpPr>
        <p:spPr>
          <a:xfrm>
            <a:off x="4419720" y="4800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8"/>
          <p:cNvSpPr/>
          <p:nvPr/>
        </p:nvSpPr>
        <p:spPr>
          <a:xfrm flipV="1">
            <a:off x="4648320" y="4800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9"/>
          <p:cNvSpPr/>
          <p:nvPr/>
        </p:nvSpPr>
        <p:spPr>
          <a:xfrm>
            <a:off x="48769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0"/>
          <p:cNvSpPr/>
          <p:nvPr/>
        </p:nvSpPr>
        <p:spPr>
          <a:xfrm flipV="1">
            <a:off x="5181480" y="38862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6172200" y="4191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40080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7086600" y="46483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4"/>
          <p:cNvSpPr/>
          <p:nvPr/>
        </p:nvSpPr>
        <p:spPr>
          <a:xfrm flipV="1">
            <a:off x="7467480" y="46479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5"/>
          <p:cNvSpPr/>
          <p:nvPr/>
        </p:nvSpPr>
        <p:spPr>
          <a:xfrm>
            <a:off x="792468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6"/>
          <p:cNvSpPr/>
          <p:nvPr/>
        </p:nvSpPr>
        <p:spPr>
          <a:xfrm flipV="1">
            <a:off x="8610480" y="4266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7"/>
          <p:cNvSpPr/>
          <p:nvPr/>
        </p:nvSpPr>
        <p:spPr>
          <a:xfrm>
            <a:off x="1066680" y="4952880"/>
            <a:ext cx="533520" cy="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8"/>
          <p:cNvSpPr/>
          <p:nvPr/>
        </p:nvSpPr>
        <p:spPr>
          <a:xfrm>
            <a:off x="4067280" y="4724280"/>
            <a:ext cx="1143000" cy="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9"/>
          <p:cNvSpPr/>
          <p:nvPr/>
        </p:nvSpPr>
        <p:spPr>
          <a:xfrm>
            <a:off x="6372360" y="4581360"/>
            <a:ext cx="2303280" cy="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0"/>
          <p:cNvSpPr/>
          <p:nvPr/>
        </p:nvSpPr>
        <p:spPr>
          <a:xfrm>
            <a:off x="441000" y="545148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lná hloubko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roze,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3578760" y="533412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ansport části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dimentace, boč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roze, mea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6176520" y="5257800"/>
            <a:ext cx="304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dimentace materiál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a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6108840" y="640080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ideo: vodopád, kaň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vary vzniklé působením v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roz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koryta řek, říční údolí, kaňony, soutěsky, vodopády, mea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edimentac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erasy, nivy, de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vláštní tvary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krasové (voda rozpouští vápník a opět jej ukládá) – krápníky, jeskyně, propasti a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4248360" cy="244800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 flipH="1">
            <a:off x="2556000" y="5157720"/>
            <a:ext cx="576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119960" y="595008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zemní krasový tok - p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4067280" y="522936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856680" y="587700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zemní je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4932360" y="4508640"/>
            <a:ext cx="122400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5870160" y="57340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talag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5148360" y="4149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643440" y="402912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talakt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3850920" y="4365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134520" y="422100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jeskyn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2967480" y="3665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ápen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6"/>
          <p:cNvSpPr/>
          <p:nvPr/>
        </p:nvSpPr>
        <p:spPr>
          <a:xfrm flipH="1" flipV="1">
            <a:off x="1258920" y="4005360"/>
            <a:ext cx="15127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255240" y="3357720"/>
            <a:ext cx="1922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věračka je mís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de dochází k výto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zemního toku na pov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 flipH="1" flipV="1">
            <a:off x="2627280" y="2852280"/>
            <a:ext cx="1873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2198880" y="2708280"/>
            <a:ext cx="4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áv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0"/>
          <p:cNvSpPr/>
          <p:nvPr/>
        </p:nvSpPr>
        <p:spPr>
          <a:xfrm flipH="1" flipV="1">
            <a:off x="4642920" y="292428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3620160" y="2373480"/>
            <a:ext cx="194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opast vznikla propadnut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tropu jeskyně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 flipV="1">
            <a:off x="5651640" y="2997360"/>
            <a:ext cx="86508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6644520" y="2660760"/>
            <a:ext cx="143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opadání je mís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de mizí povrchov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ok do podzemí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7:38:22Z</dcterms:created>
  <dc:creator>kk</dc:creator>
  <dc:description/>
  <dc:language>en-US</dc:language>
  <cp:lastModifiedBy>Uživatel</cp:lastModifiedBy>
  <dcterms:modified xsi:type="dcterms:W3CDTF">2014-01-05T12:47:55Z</dcterms:modified>
  <cp:revision>19</cp:revision>
  <dc:subject/>
  <dc:title>Působení tekoucí vody</dc:title>
</cp:coreProperties>
</file>