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7EE-B7F6-49D5-B857-66DE8DB9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3AC-4711-4C57-B352-A604E216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C21-EFF4-443F-9DD1-FE008230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A84-0BCA-464E-8D24-20F531CD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AE6-FB26-4595-A38A-AB57586E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E74-5655-4123-949C-61D259EF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ED67-0DDC-475B-90D1-5BB2B9F6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2A9-929C-407A-A719-72A12B50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24F-1F82-4E2B-805E-92DC4BEE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09D-612E-4F7B-A587-09F555B2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E26-B03B-4895-8512-7C8E2493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724-5BB9-4D9B-A8AA-7A9101BB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6FF4-D962-4131-A8DC-B036F31BF3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INNOST LEDOVCŮ A VĚT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fjo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066680"/>
            <a:ext cx="4226040" cy="5639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00040"/>
          <p:cNvPicPr/>
          <p:nvPr/>
        </p:nvPicPr>
        <p:blipFill>
          <a:blip r:embed="rId3"/>
          <a:stretch/>
        </p:blipFill>
        <p:spPr>
          <a:xfrm>
            <a:off x="4267080" y="1768320"/>
            <a:ext cx="487692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dov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76360" y="188640"/>
            <a:ext cx="56386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d sněžnou čarou se mění sníh v led (ledovec) ten se díky gravitaci pomalu pohybuje údolím (tvar U) – obrušuje podloží a hromadí materiál v moréná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ledovce_grosglockner2"/>
          <p:cNvPicPr/>
          <p:nvPr/>
        </p:nvPicPr>
        <p:blipFill>
          <a:blip r:embed="rId1"/>
          <a:stretch/>
        </p:blipFill>
        <p:spPr>
          <a:xfrm>
            <a:off x="0" y="3932280"/>
            <a:ext cx="4365720" cy="2925720"/>
          </a:xfrm>
          <a:prstGeom prst="rect">
            <a:avLst/>
          </a:prstGeom>
          <a:ln w="0">
            <a:noFill/>
          </a:ln>
        </p:spPr>
      </p:pic>
      <p:sp>
        <p:nvSpPr>
          <p:cNvPr id="47" name="Freeform 12"/>
          <p:cNvSpPr/>
          <p:nvPr/>
        </p:nvSpPr>
        <p:spPr>
          <a:xfrm>
            <a:off x="4822920" y="3524400"/>
            <a:ext cx="4173480" cy="1917720"/>
          </a:xfrm>
          <a:custGeom>
            <a:avLst/>
            <a:gdLst/>
            <a:ahLst/>
            <a:rect l="l" t="t" r="r" b="b"/>
            <a:pathLst>
              <a:path w="2629" h="1208">
                <a:moveTo>
                  <a:pt x="0" y="0"/>
                </a:moveTo>
                <a:cubicBezTo>
                  <a:pt x="46" y="3"/>
                  <a:pt x="93" y="5"/>
                  <a:pt x="139" y="10"/>
                </a:cubicBezTo>
                <a:cubicBezTo>
                  <a:pt x="149" y="11"/>
                  <a:pt x="160" y="12"/>
                  <a:pt x="167" y="19"/>
                </a:cubicBezTo>
                <a:cubicBezTo>
                  <a:pt x="216" y="68"/>
                  <a:pt x="129" y="32"/>
                  <a:pt x="204" y="56"/>
                </a:cubicBezTo>
                <a:cubicBezTo>
                  <a:pt x="246" y="84"/>
                  <a:pt x="258" y="133"/>
                  <a:pt x="307" y="149"/>
                </a:cubicBezTo>
                <a:cubicBezTo>
                  <a:pt x="337" y="170"/>
                  <a:pt x="382" y="198"/>
                  <a:pt x="418" y="205"/>
                </a:cubicBezTo>
                <a:cubicBezTo>
                  <a:pt x="455" y="212"/>
                  <a:pt x="529" y="223"/>
                  <a:pt x="529" y="223"/>
                </a:cubicBezTo>
                <a:cubicBezTo>
                  <a:pt x="559" y="244"/>
                  <a:pt x="573" y="268"/>
                  <a:pt x="604" y="288"/>
                </a:cubicBezTo>
                <a:cubicBezTo>
                  <a:pt x="607" y="297"/>
                  <a:pt x="609" y="307"/>
                  <a:pt x="613" y="316"/>
                </a:cubicBezTo>
                <a:cubicBezTo>
                  <a:pt x="618" y="326"/>
                  <a:pt x="628" y="334"/>
                  <a:pt x="632" y="344"/>
                </a:cubicBezTo>
                <a:cubicBezTo>
                  <a:pt x="661" y="410"/>
                  <a:pt x="615" y="355"/>
                  <a:pt x="669" y="409"/>
                </a:cubicBezTo>
                <a:cubicBezTo>
                  <a:pt x="672" y="421"/>
                  <a:pt x="673" y="434"/>
                  <a:pt x="678" y="446"/>
                </a:cubicBezTo>
                <a:cubicBezTo>
                  <a:pt x="682" y="456"/>
                  <a:pt x="694" y="463"/>
                  <a:pt x="697" y="474"/>
                </a:cubicBezTo>
                <a:cubicBezTo>
                  <a:pt x="704" y="504"/>
                  <a:pt x="700" y="536"/>
                  <a:pt x="706" y="567"/>
                </a:cubicBezTo>
                <a:cubicBezTo>
                  <a:pt x="714" y="608"/>
                  <a:pt x="734" y="643"/>
                  <a:pt x="752" y="679"/>
                </a:cubicBezTo>
                <a:cubicBezTo>
                  <a:pt x="774" y="722"/>
                  <a:pt x="760" y="733"/>
                  <a:pt x="799" y="771"/>
                </a:cubicBezTo>
                <a:cubicBezTo>
                  <a:pt x="811" y="810"/>
                  <a:pt x="832" y="850"/>
                  <a:pt x="855" y="883"/>
                </a:cubicBezTo>
                <a:cubicBezTo>
                  <a:pt x="871" y="933"/>
                  <a:pt x="883" y="995"/>
                  <a:pt x="938" y="1013"/>
                </a:cubicBezTo>
                <a:cubicBezTo>
                  <a:pt x="980" y="1041"/>
                  <a:pt x="1053" y="1096"/>
                  <a:pt x="1096" y="1115"/>
                </a:cubicBezTo>
                <a:cubicBezTo>
                  <a:pt x="1258" y="1187"/>
                  <a:pt x="1443" y="1194"/>
                  <a:pt x="1616" y="1208"/>
                </a:cubicBezTo>
                <a:cubicBezTo>
                  <a:pt x="1728" y="1205"/>
                  <a:pt x="1840" y="1207"/>
                  <a:pt x="1951" y="1199"/>
                </a:cubicBezTo>
                <a:cubicBezTo>
                  <a:pt x="1987" y="1196"/>
                  <a:pt x="2044" y="1143"/>
                  <a:pt x="2044" y="1143"/>
                </a:cubicBezTo>
                <a:cubicBezTo>
                  <a:pt x="2064" y="1112"/>
                  <a:pt x="2091" y="1101"/>
                  <a:pt x="2109" y="1069"/>
                </a:cubicBezTo>
                <a:cubicBezTo>
                  <a:pt x="2127" y="1038"/>
                  <a:pt x="2136" y="1006"/>
                  <a:pt x="2155" y="976"/>
                </a:cubicBezTo>
                <a:cubicBezTo>
                  <a:pt x="2178" y="845"/>
                  <a:pt x="2222" y="711"/>
                  <a:pt x="2267" y="586"/>
                </a:cubicBezTo>
                <a:cubicBezTo>
                  <a:pt x="2277" y="557"/>
                  <a:pt x="2273" y="530"/>
                  <a:pt x="2285" y="502"/>
                </a:cubicBezTo>
                <a:cubicBezTo>
                  <a:pt x="2314" y="433"/>
                  <a:pt x="2354" y="359"/>
                  <a:pt x="2415" y="316"/>
                </a:cubicBezTo>
                <a:cubicBezTo>
                  <a:pt x="2432" y="269"/>
                  <a:pt x="2468" y="241"/>
                  <a:pt x="2508" y="214"/>
                </a:cubicBezTo>
                <a:cubicBezTo>
                  <a:pt x="2539" y="168"/>
                  <a:pt x="2590" y="134"/>
                  <a:pt x="2629" y="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14"/>
          <p:cNvSpPr/>
          <p:nvPr/>
        </p:nvSpPr>
        <p:spPr>
          <a:xfrm>
            <a:off x="5870520" y="4095720"/>
            <a:ext cx="2624040" cy="566640"/>
          </a:xfrm>
          <a:custGeom>
            <a:avLst/>
            <a:gdLst/>
            <a:ahLst/>
            <a:rect l="l" t="t" r="r" b="b"/>
            <a:pathLst>
              <a:path w="1653" h="357">
                <a:moveTo>
                  <a:pt x="0" y="21"/>
                </a:moveTo>
                <a:cubicBezTo>
                  <a:pt x="161" y="4"/>
                  <a:pt x="323" y="6"/>
                  <a:pt x="483" y="31"/>
                </a:cubicBezTo>
                <a:cubicBezTo>
                  <a:pt x="501" y="43"/>
                  <a:pt x="534" y="46"/>
                  <a:pt x="538" y="68"/>
                </a:cubicBezTo>
                <a:cubicBezTo>
                  <a:pt x="546" y="112"/>
                  <a:pt x="558" y="154"/>
                  <a:pt x="566" y="198"/>
                </a:cubicBezTo>
                <a:cubicBezTo>
                  <a:pt x="569" y="247"/>
                  <a:pt x="565" y="298"/>
                  <a:pt x="576" y="346"/>
                </a:cubicBezTo>
                <a:cubicBezTo>
                  <a:pt x="578" y="357"/>
                  <a:pt x="593" y="330"/>
                  <a:pt x="594" y="319"/>
                </a:cubicBezTo>
                <a:cubicBezTo>
                  <a:pt x="596" y="297"/>
                  <a:pt x="590" y="275"/>
                  <a:pt x="585" y="254"/>
                </a:cubicBezTo>
                <a:cubicBezTo>
                  <a:pt x="581" y="235"/>
                  <a:pt x="566" y="198"/>
                  <a:pt x="566" y="198"/>
                </a:cubicBezTo>
                <a:cubicBezTo>
                  <a:pt x="581" y="156"/>
                  <a:pt x="575" y="149"/>
                  <a:pt x="613" y="123"/>
                </a:cubicBezTo>
                <a:cubicBezTo>
                  <a:pt x="632" y="66"/>
                  <a:pt x="643" y="66"/>
                  <a:pt x="696" y="49"/>
                </a:cubicBezTo>
                <a:cubicBezTo>
                  <a:pt x="921" y="57"/>
                  <a:pt x="936" y="0"/>
                  <a:pt x="984" y="151"/>
                </a:cubicBezTo>
                <a:cubicBezTo>
                  <a:pt x="987" y="176"/>
                  <a:pt x="990" y="201"/>
                  <a:pt x="994" y="226"/>
                </a:cubicBezTo>
                <a:cubicBezTo>
                  <a:pt x="996" y="241"/>
                  <a:pt x="999" y="287"/>
                  <a:pt x="1003" y="272"/>
                </a:cubicBezTo>
                <a:cubicBezTo>
                  <a:pt x="1015" y="227"/>
                  <a:pt x="992" y="170"/>
                  <a:pt x="1021" y="133"/>
                </a:cubicBezTo>
                <a:cubicBezTo>
                  <a:pt x="1040" y="109"/>
                  <a:pt x="1105" y="96"/>
                  <a:pt x="1105" y="96"/>
                </a:cubicBezTo>
                <a:cubicBezTo>
                  <a:pt x="1382" y="106"/>
                  <a:pt x="1360" y="36"/>
                  <a:pt x="1384" y="244"/>
                </a:cubicBezTo>
                <a:cubicBezTo>
                  <a:pt x="1385" y="257"/>
                  <a:pt x="1390" y="269"/>
                  <a:pt x="1393" y="281"/>
                </a:cubicBezTo>
                <a:cubicBezTo>
                  <a:pt x="1396" y="272"/>
                  <a:pt x="1401" y="263"/>
                  <a:pt x="1402" y="254"/>
                </a:cubicBezTo>
                <a:cubicBezTo>
                  <a:pt x="1407" y="211"/>
                  <a:pt x="1401" y="165"/>
                  <a:pt x="1412" y="123"/>
                </a:cubicBezTo>
                <a:cubicBezTo>
                  <a:pt x="1414" y="114"/>
                  <a:pt x="1458" y="96"/>
                  <a:pt x="1467" y="96"/>
                </a:cubicBezTo>
                <a:cubicBezTo>
                  <a:pt x="1529" y="93"/>
                  <a:pt x="1591" y="96"/>
                  <a:pt x="1653" y="9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5"/>
          <p:cNvSpPr/>
          <p:nvPr/>
        </p:nvSpPr>
        <p:spPr>
          <a:xfrm flipH="1">
            <a:off x="5028840" y="3809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6"/>
          <p:cNvSpPr/>
          <p:nvPr/>
        </p:nvSpPr>
        <p:spPr>
          <a:xfrm flipH="1">
            <a:off x="525744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7"/>
          <p:cNvSpPr/>
          <p:nvPr/>
        </p:nvSpPr>
        <p:spPr>
          <a:xfrm flipH="1">
            <a:off x="5486040" y="4038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8"/>
          <p:cNvSpPr/>
          <p:nvPr/>
        </p:nvSpPr>
        <p:spPr>
          <a:xfrm flipH="1">
            <a:off x="5562720" y="42670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9"/>
          <p:cNvSpPr/>
          <p:nvPr/>
        </p:nvSpPr>
        <p:spPr>
          <a:xfrm flipH="1">
            <a:off x="5638320" y="4495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5791320" y="47242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21"/>
          <p:cNvSpPr/>
          <p:nvPr/>
        </p:nvSpPr>
        <p:spPr>
          <a:xfrm flipH="1">
            <a:off x="5866920" y="5029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2"/>
          <p:cNvSpPr/>
          <p:nvPr/>
        </p:nvSpPr>
        <p:spPr>
          <a:xfrm flipH="1">
            <a:off x="6019920" y="5181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3"/>
          <p:cNvSpPr/>
          <p:nvPr/>
        </p:nvSpPr>
        <p:spPr>
          <a:xfrm flipH="1">
            <a:off x="6292440" y="5300280"/>
            <a:ext cx="216720" cy="37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4"/>
          <p:cNvSpPr/>
          <p:nvPr/>
        </p:nvSpPr>
        <p:spPr>
          <a:xfrm flipH="1">
            <a:off x="6606720" y="5370840"/>
            <a:ext cx="196920" cy="38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5"/>
          <p:cNvSpPr/>
          <p:nvPr/>
        </p:nvSpPr>
        <p:spPr>
          <a:xfrm flipH="1">
            <a:off x="6953040" y="5430960"/>
            <a:ext cx="11448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6"/>
          <p:cNvSpPr/>
          <p:nvPr/>
        </p:nvSpPr>
        <p:spPr>
          <a:xfrm flipH="1">
            <a:off x="7289280" y="5424840"/>
            <a:ext cx="50760" cy="42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7594200" y="5424840"/>
            <a:ext cx="51120" cy="42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8"/>
          <p:cNvSpPr/>
          <p:nvPr/>
        </p:nvSpPr>
        <p:spPr>
          <a:xfrm flipH="1" flipV="1">
            <a:off x="8424000" y="4311000"/>
            <a:ext cx="372600" cy="21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 flipH="1" flipV="1">
            <a:off x="8586720" y="4065840"/>
            <a:ext cx="351720" cy="2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0"/>
          <p:cNvSpPr/>
          <p:nvPr/>
        </p:nvSpPr>
        <p:spPr>
          <a:xfrm flipH="1" flipV="1">
            <a:off x="8347680" y="4692600"/>
            <a:ext cx="372600" cy="2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047"/>
          <p:cNvSpPr/>
          <p:nvPr/>
        </p:nvSpPr>
        <p:spPr>
          <a:xfrm flipH="1" flipV="1">
            <a:off x="8272080" y="4996440"/>
            <a:ext cx="372240" cy="21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2"/>
          <p:cNvSpPr/>
          <p:nvPr/>
        </p:nvSpPr>
        <p:spPr>
          <a:xfrm flipH="1" flipV="1">
            <a:off x="8119080" y="5301720"/>
            <a:ext cx="372600" cy="21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3"/>
          <p:cNvSpPr/>
          <p:nvPr/>
        </p:nvSpPr>
        <p:spPr>
          <a:xfrm flipH="1" flipV="1">
            <a:off x="7907040" y="5444640"/>
            <a:ext cx="187920" cy="3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5"/>
          <p:cNvSpPr/>
          <p:nvPr/>
        </p:nvSpPr>
        <p:spPr>
          <a:xfrm flipV="1">
            <a:off x="5334120" y="5333760"/>
            <a:ext cx="106668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4555080" y="59086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loží ledov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37"/>
          <p:cNvSpPr/>
          <p:nvPr/>
        </p:nvSpPr>
        <p:spPr>
          <a:xfrm>
            <a:off x="6110280" y="4513320"/>
            <a:ext cx="142920" cy="147600"/>
          </a:xfrm>
          <a:custGeom>
            <a:avLst/>
            <a:gdLst/>
            <a:ahLst/>
            <a:rect l="l" t="t" r="r" b="b"/>
            <a:pathLst>
              <a:path w="90" h="93">
                <a:moveTo>
                  <a:pt x="6" y="93"/>
                </a:moveTo>
                <a:cubicBezTo>
                  <a:pt x="9" y="74"/>
                  <a:pt x="0" y="47"/>
                  <a:pt x="16" y="37"/>
                </a:cubicBezTo>
                <a:cubicBezTo>
                  <a:pt x="75" y="0"/>
                  <a:pt x="81" y="47"/>
                  <a:pt x="90" y="74"/>
                </a:cubicBezTo>
                <a:cubicBezTo>
                  <a:pt x="81" y="77"/>
                  <a:pt x="72" y="81"/>
                  <a:pt x="62" y="83"/>
                </a:cubicBezTo>
                <a:cubicBezTo>
                  <a:pt x="44" y="87"/>
                  <a:pt x="6" y="93"/>
                  <a:pt x="6" y="93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38"/>
          <p:cNvSpPr/>
          <p:nvPr/>
        </p:nvSpPr>
        <p:spPr>
          <a:xfrm>
            <a:off x="6224760" y="4711680"/>
            <a:ext cx="149040" cy="220680"/>
          </a:xfrm>
          <a:custGeom>
            <a:avLst/>
            <a:gdLst/>
            <a:ahLst/>
            <a:rect l="l" t="t" r="r" b="b"/>
            <a:pathLst>
              <a:path w="94" h="139">
                <a:moveTo>
                  <a:pt x="0" y="70"/>
                </a:moveTo>
                <a:cubicBezTo>
                  <a:pt x="13" y="0"/>
                  <a:pt x="13" y="0"/>
                  <a:pt x="83" y="14"/>
                </a:cubicBezTo>
                <a:cubicBezTo>
                  <a:pt x="74" y="105"/>
                  <a:pt x="94" y="139"/>
                  <a:pt x="9" y="98"/>
                </a:cubicBezTo>
                <a:cubicBezTo>
                  <a:pt x="6" y="89"/>
                  <a:pt x="0" y="70"/>
                  <a:pt x="0" y="7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39"/>
          <p:cNvSpPr/>
          <p:nvPr/>
        </p:nvSpPr>
        <p:spPr>
          <a:xfrm>
            <a:off x="6039000" y="4362480"/>
            <a:ext cx="110880" cy="177840"/>
          </a:xfrm>
          <a:custGeom>
            <a:avLst/>
            <a:gdLst/>
            <a:ahLst/>
            <a:rect l="l" t="t" r="r" b="b"/>
            <a:pathLst>
              <a:path w="70" h="112">
                <a:moveTo>
                  <a:pt x="5" y="58"/>
                </a:moveTo>
                <a:cubicBezTo>
                  <a:pt x="20" y="10"/>
                  <a:pt x="26" y="0"/>
                  <a:pt x="70" y="30"/>
                </a:cubicBezTo>
                <a:cubicBezTo>
                  <a:pt x="67" y="49"/>
                  <a:pt x="69" y="69"/>
                  <a:pt x="61" y="86"/>
                </a:cubicBezTo>
                <a:cubicBezTo>
                  <a:pt x="48" y="112"/>
                  <a:pt x="18" y="108"/>
                  <a:pt x="5" y="86"/>
                </a:cubicBezTo>
                <a:cubicBezTo>
                  <a:pt x="0" y="78"/>
                  <a:pt x="5" y="67"/>
                  <a:pt x="5" y="58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40"/>
          <p:cNvSpPr/>
          <p:nvPr/>
        </p:nvSpPr>
        <p:spPr>
          <a:xfrm>
            <a:off x="6716880" y="5191200"/>
            <a:ext cx="214200" cy="14904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41"/>
          <p:cNvSpPr/>
          <p:nvPr/>
        </p:nvSpPr>
        <p:spPr>
          <a:xfrm>
            <a:off x="6858000" y="5181480"/>
            <a:ext cx="214200" cy="14940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42"/>
          <p:cNvSpPr/>
          <p:nvPr/>
        </p:nvSpPr>
        <p:spPr>
          <a:xfrm>
            <a:off x="7010280" y="5181480"/>
            <a:ext cx="214560" cy="14940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43"/>
          <p:cNvSpPr/>
          <p:nvPr/>
        </p:nvSpPr>
        <p:spPr>
          <a:xfrm>
            <a:off x="7162920" y="5257800"/>
            <a:ext cx="214200" cy="14940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44"/>
          <p:cNvSpPr/>
          <p:nvPr/>
        </p:nvSpPr>
        <p:spPr>
          <a:xfrm>
            <a:off x="7315200" y="5257800"/>
            <a:ext cx="214200" cy="14940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45"/>
          <p:cNvSpPr/>
          <p:nvPr/>
        </p:nvSpPr>
        <p:spPr>
          <a:xfrm>
            <a:off x="7543800" y="5257800"/>
            <a:ext cx="214200" cy="14940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46"/>
          <p:cNvSpPr/>
          <p:nvPr/>
        </p:nvSpPr>
        <p:spPr>
          <a:xfrm>
            <a:off x="8077320" y="4648320"/>
            <a:ext cx="214200" cy="14904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47"/>
          <p:cNvSpPr/>
          <p:nvPr/>
        </p:nvSpPr>
        <p:spPr>
          <a:xfrm>
            <a:off x="8077320" y="4800600"/>
            <a:ext cx="214200" cy="14940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48"/>
          <p:cNvSpPr/>
          <p:nvPr/>
        </p:nvSpPr>
        <p:spPr>
          <a:xfrm>
            <a:off x="8001000" y="4952880"/>
            <a:ext cx="214200" cy="149400"/>
          </a:xfrm>
          <a:custGeom>
            <a:avLst/>
            <a:gdLst/>
            <a:ahLst/>
            <a:rect l="l" t="t" r="r" b="b"/>
            <a:pathLst>
              <a:path w="135" h="94">
                <a:moveTo>
                  <a:pt x="61" y="65"/>
                </a:moveTo>
                <a:cubicBezTo>
                  <a:pt x="46" y="59"/>
                  <a:pt x="24" y="61"/>
                  <a:pt x="15" y="47"/>
                </a:cubicBezTo>
                <a:cubicBezTo>
                  <a:pt x="0" y="22"/>
                  <a:pt x="89" y="0"/>
                  <a:pt x="89" y="0"/>
                </a:cubicBezTo>
                <a:cubicBezTo>
                  <a:pt x="104" y="22"/>
                  <a:pt x="135" y="53"/>
                  <a:pt x="98" y="84"/>
                </a:cubicBezTo>
                <a:cubicBezTo>
                  <a:pt x="86" y="94"/>
                  <a:pt x="66" y="82"/>
                  <a:pt x="52" y="75"/>
                </a:cubicBezTo>
                <a:cubicBezTo>
                  <a:pt x="48" y="73"/>
                  <a:pt x="58" y="68"/>
                  <a:pt x="61" y="6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9"/>
          <p:cNvSpPr/>
          <p:nvPr/>
        </p:nvSpPr>
        <p:spPr>
          <a:xfrm flipH="1" flipV="1">
            <a:off x="7467480" y="5562360"/>
            <a:ext cx="45720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7070760" y="613728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dní moré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1"/>
          <p:cNvSpPr/>
          <p:nvPr/>
        </p:nvSpPr>
        <p:spPr>
          <a:xfrm flipH="1">
            <a:off x="6248520" y="3352680"/>
            <a:ext cx="83808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2"/>
          <p:cNvSpPr/>
          <p:nvPr/>
        </p:nvSpPr>
        <p:spPr>
          <a:xfrm>
            <a:off x="7074360" y="3384720"/>
            <a:ext cx="862560" cy="1383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3"/>
          <p:cNvSpPr/>
          <p:nvPr/>
        </p:nvSpPr>
        <p:spPr>
          <a:xfrm>
            <a:off x="6095520" y="289548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oční moré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4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2328840" cy="2593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6" descr=""/>
          <p:cNvPicPr/>
          <p:nvPr/>
        </p:nvPicPr>
        <p:blipFill>
          <a:blip r:embed="rId3"/>
          <a:stretch/>
        </p:blipFill>
        <p:spPr>
          <a:xfrm>
            <a:off x="0" y="0"/>
            <a:ext cx="30481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ít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ětrná eroze – obrušuje, unáší a ukládá (nanáší) materiál. Především v místech, která jsou bez vegetace (pouště, polopouště, horské oblasti, mrazové oblasti apod.). Navátím vznikají – duny, přesy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ash058"/>
          <p:cNvPicPr/>
          <p:nvPr/>
        </p:nvPicPr>
        <p:blipFill>
          <a:blip r:embed="rId1"/>
          <a:stretch/>
        </p:blipFill>
        <p:spPr>
          <a:xfrm>
            <a:off x="5295960" y="2133720"/>
            <a:ext cx="3848040" cy="28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ridge"/>
          <p:cNvPicPr/>
          <p:nvPr/>
        </p:nvPicPr>
        <p:blipFill>
          <a:blip r:embed="rId2"/>
          <a:stretch/>
        </p:blipFill>
        <p:spPr>
          <a:xfrm>
            <a:off x="3276720" y="3429000"/>
            <a:ext cx="2719440" cy="4035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_41084449_sandstorm5_300"/>
          <p:cNvPicPr/>
          <p:nvPr/>
        </p:nvPicPr>
        <p:blipFill>
          <a:blip r:embed="rId3"/>
          <a:stretch/>
        </p:blipFill>
        <p:spPr>
          <a:xfrm>
            <a:off x="0" y="2514600"/>
            <a:ext cx="3429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9:55:43Z</dcterms:created>
  <dc:creator>kk</dc:creator>
  <dc:description/>
  <dc:language>en-US</dc:language>
  <cp:lastModifiedBy>Uživatel</cp:lastModifiedBy>
  <dcterms:modified xsi:type="dcterms:W3CDTF">2014-01-05T12:50:56Z</dcterms:modified>
  <cp:revision>5</cp:revision>
  <dc:subject/>
  <dc:title>ČINNOST LEDOVCŮ A VĚTRU</dc:title>
</cp:coreProperties>
</file>