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FC9-8E96-4B8D-8C1B-28A17FF1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026-25B3-4C43-B3AE-22FABF48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2E7-9BC8-4F7F-9B66-825D1715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2A3-6359-4FF8-B5B2-DFE1B1D8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A8F-4F6A-4C1E-9115-51C2B13D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117-7F1E-43E4-8977-4BA18EF3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E49-17E4-4B1F-B9A7-F1B2C93D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2DA-EA2C-4AC3-9A6A-EFFB583B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62B-2EB8-4177-9C00-986292A4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70F-1211-4533-8577-B03760EE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FA7-6FC7-444B-8AAB-F14EF63A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9C5-A23A-4B47-B836-00D684C2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8FD8-9EF9-4985-813B-3640490BC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3920" y="198072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3300"/>
                </a:solidFill>
                <a:latin typeface="Times New Roman"/>
              </a:rPr>
              <a:t>PŮDA  </a:t>
            </a:r>
            <a:br>
              <a:rPr sz="4400"/>
            </a:br>
            <a:r>
              <a:rPr b="0" lang="cs-CZ" sz="4400" spc="-1" strike="noStrike">
                <a:solidFill>
                  <a:srgbClr val="663300"/>
                </a:solidFill>
                <a:latin typeface="Times New Roman"/>
              </a:rPr>
              <a:t>pedosfé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roze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5259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4724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ůda vzniká zvětrávání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cký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unce, teplota, flora, vítr, vo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mický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voda, chemické látk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Úrodn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nožství humusu (černozem – obsahuje nejvíce humus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ýznam pů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zeměděls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1143000"/>
            <a:ext cx="3886200" cy="4038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20040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1143000"/>
            <a:ext cx="0" cy="205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1120" y="3200400"/>
            <a:ext cx="167652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190512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61600" y="19810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ZD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9320" y="3581280"/>
            <a:ext cx="13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ŽI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ÁT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60080" y="5791320"/>
            <a:ext cx="50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ŽIVÉ LÁTK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liny a živočich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724280" y="365724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ÉMA ROZLOŽENÍ PŮ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514600"/>
          <a:ext cx="914400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83059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705720" cy="5170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LAVNÍ PŮDNÍ HORIZO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9:31:11Z</dcterms:created>
  <dc:creator>kk</dc:creator>
  <dc:description/>
  <dc:language>en-US</dc:language>
  <cp:lastModifiedBy>kk</cp:lastModifiedBy>
  <dcterms:modified xsi:type="dcterms:W3CDTF">2005-12-18T19:41:06Z</dcterms:modified>
  <cp:revision>3</cp:revision>
  <dc:subject/>
  <dc:title>PŮDA   pedosféra</dc:title>
</cp:coreProperties>
</file>