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0CB-8640-4F6B-B60E-792F8C41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472-CEF7-4D84-9E69-2E987D6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F9F-E0A8-42B2-9D1D-EAEBA67B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2F2-AD6B-49A8-80AC-AC692244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20B-A237-4438-BAD5-63E226F3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DD2-F519-4E43-9DB0-1094EA1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4C9-0A22-43F9-A05F-D10CB5D0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C61-5E3F-4279-8568-2382D66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95B-A055-4E4C-BE63-D5050F9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B74-2815-4F41-BC36-F3899D2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DDD-04D2-4BF5-A2E3-E187A6E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C94-2901-490C-9FB1-1B30530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D84-1E62-411E-8193-87E6D0FBF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RODNÍ ZEMSKÉ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edmed2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camel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2095560" cy="2031840"/>
          </a:xfrm>
          <a:prstGeom prst="rect">
            <a:avLst/>
          </a:prstGeom>
          <a:ln w="0">
            <a:noFill/>
          </a:ln>
        </p:spPr>
      </p:pic>
      <p:pic>
        <p:nvPicPr>
          <p:cNvPr id="44" name="bizon" descr=""/>
          <p:cNvPicPr/>
          <p:nvPr/>
        </p:nvPicPr>
        <p:blipFill>
          <a:blip r:embed="rId4"/>
          <a:stretch/>
        </p:blipFill>
        <p:spPr>
          <a:xfrm>
            <a:off x="304920" y="838080"/>
            <a:ext cx="2743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šíření rostlin a živočichů je závislé na podnebí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eměpisná šířka, proudění větrů, vzdálenost od moře, členitost povrc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místa se stejnými podnebními podmínkami vytváří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(vegetační) ZEMSKÉ PÁS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(obr. 1 – str. 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1855800"/>
            <a:ext cx="71629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horách jsou obdobou přírodních pásu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ŠKOVÉ STUPN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A03355" descr=""/>
          <p:cNvPicPr/>
          <p:nvPr/>
        </p:nvPicPr>
        <p:blipFill>
          <a:blip r:embed="rId1"/>
          <a:stretch/>
        </p:blipFill>
        <p:spPr>
          <a:xfrm>
            <a:off x="2514600" y="797040"/>
            <a:ext cx="6400800" cy="247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8360" y="3568680"/>
            <a:ext cx="8243640" cy="3079800"/>
          </a:xfrm>
          <a:custGeom>
            <a:avLst/>
            <a:gdLst/>
            <a:ahLst/>
            <a:rect l="l" t="t" r="r" b="b"/>
            <a:pathLst>
              <a:path w="5193" h="1940">
                <a:moveTo>
                  <a:pt x="0" y="1923"/>
                </a:moveTo>
                <a:cubicBezTo>
                  <a:pt x="77" y="1920"/>
                  <a:pt x="163" y="1940"/>
                  <a:pt x="232" y="1905"/>
                </a:cubicBezTo>
                <a:cubicBezTo>
                  <a:pt x="308" y="1867"/>
                  <a:pt x="387" y="1832"/>
                  <a:pt x="464" y="1793"/>
                </a:cubicBezTo>
                <a:cubicBezTo>
                  <a:pt x="496" y="1777"/>
                  <a:pt x="523" y="1750"/>
                  <a:pt x="557" y="1738"/>
                </a:cubicBezTo>
                <a:cubicBezTo>
                  <a:pt x="585" y="1728"/>
                  <a:pt x="615" y="1714"/>
                  <a:pt x="641" y="1700"/>
                </a:cubicBezTo>
                <a:cubicBezTo>
                  <a:pt x="680" y="1678"/>
                  <a:pt x="710" y="1639"/>
                  <a:pt x="752" y="1626"/>
                </a:cubicBezTo>
                <a:cubicBezTo>
                  <a:pt x="805" y="1591"/>
                  <a:pt x="846" y="1570"/>
                  <a:pt x="901" y="1542"/>
                </a:cubicBezTo>
                <a:cubicBezTo>
                  <a:pt x="926" y="1504"/>
                  <a:pt x="987" y="1456"/>
                  <a:pt x="1031" y="1440"/>
                </a:cubicBezTo>
                <a:cubicBezTo>
                  <a:pt x="1054" y="1404"/>
                  <a:pt x="1076" y="1395"/>
                  <a:pt x="1114" y="1375"/>
                </a:cubicBezTo>
                <a:cubicBezTo>
                  <a:pt x="1167" y="1296"/>
                  <a:pt x="1097" y="1387"/>
                  <a:pt x="1161" y="1338"/>
                </a:cubicBezTo>
                <a:cubicBezTo>
                  <a:pt x="1221" y="1291"/>
                  <a:pt x="1283" y="1203"/>
                  <a:pt x="1356" y="1180"/>
                </a:cubicBezTo>
                <a:cubicBezTo>
                  <a:pt x="1388" y="1130"/>
                  <a:pt x="1366" y="1160"/>
                  <a:pt x="1430" y="1097"/>
                </a:cubicBezTo>
                <a:cubicBezTo>
                  <a:pt x="1494" y="1034"/>
                  <a:pt x="1450" y="1062"/>
                  <a:pt x="1477" y="1013"/>
                </a:cubicBezTo>
                <a:cubicBezTo>
                  <a:pt x="1509" y="956"/>
                  <a:pt x="1557" y="915"/>
                  <a:pt x="1597" y="864"/>
                </a:cubicBezTo>
                <a:cubicBezTo>
                  <a:pt x="1644" y="804"/>
                  <a:pt x="1673" y="721"/>
                  <a:pt x="1737" y="678"/>
                </a:cubicBezTo>
                <a:cubicBezTo>
                  <a:pt x="1778" y="617"/>
                  <a:pt x="1822" y="560"/>
                  <a:pt x="1867" y="502"/>
                </a:cubicBezTo>
                <a:cubicBezTo>
                  <a:pt x="1900" y="460"/>
                  <a:pt x="1908" y="428"/>
                  <a:pt x="1950" y="400"/>
                </a:cubicBezTo>
                <a:cubicBezTo>
                  <a:pt x="1963" y="363"/>
                  <a:pt x="1984" y="347"/>
                  <a:pt x="2016" y="325"/>
                </a:cubicBezTo>
                <a:cubicBezTo>
                  <a:pt x="2067" y="249"/>
                  <a:pt x="2083" y="240"/>
                  <a:pt x="2164" y="195"/>
                </a:cubicBezTo>
                <a:cubicBezTo>
                  <a:pt x="2255" y="144"/>
                  <a:pt x="2187" y="169"/>
                  <a:pt x="2248" y="149"/>
                </a:cubicBezTo>
                <a:cubicBezTo>
                  <a:pt x="2265" y="137"/>
                  <a:pt x="2288" y="134"/>
                  <a:pt x="2304" y="121"/>
                </a:cubicBezTo>
                <a:cubicBezTo>
                  <a:pt x="2313" y="114"/>
                  <a:pt x="2313" y="99"/>
                  <a:pt x="2322" y="93"/>
                </a:cubicBezTo>
                <a:cubicBezTo>
                  <a:pt x="2339" y="83"/>
                  <a:pt x="2361" y="84"/>
                  <a:pt x="2378" y="75"/>
                </a:cubicBezTo>
                <a:cubicBezTo>
                  <a:pt x="2440" y="43"/>
                  <a:pt x="2486" y="15"/>
                  <a:pt x="2554" y="0"/>
                </a:cubicBezTo>
                <a:cubicBezTo>
                  <a:pt x="2678" y="3"/>
                  <a:pt x="2802" y="5"/>
                  <a:pt x="2926" y="10"/>
                </a:cubicBezTo>
                <a:cubicBezTo>
                  <a:pt x="2991" y="13"/>
                  <a:pt x="3148" y="43"/>
                  <a:pt x="3205" y="84"/>
                </a:cubicBezTo>
                <a:cubicBezTo>
                  <a:pt x="3216" y="92"/>
                  <a:pt x="3223" y="104"/>
                  <a:pt x="3233" y="112"/>
                </a:cubicBezTo>
                <a:cubicBezTo>
                  <a:pt x="3250" y="126"/>
                  <a:pt x="3270" y="137"/>
                  <a:pt x="3288" y="149"/>
                </a:cubicBezTo>
                <a:cubicBezTo>
                  <a:pt x="3314" y="166"/>
                  <a:pt x="3350" y="183"/>
                  <a:pt x="3372" y="205"/>
                </a:cubicBezTo>
                <a:cubicBezTo>
                  <a:pt x="3434" y="267"/>
                  <a:pt x="3476" y="341"/>
                  <a:pt x="3558" y="381"/>
                </a:cubicBezTo>
                <a:cubicBezTo>
                  <a:pt x="3575" y="398"/>
                  <a:pt x="3587" y="420"/>
                  <a:pt x="3604" y="437"/>
                </a:cubicBezTo>
                <a:cubicBezTo>
                  <a:pt x="3630" y="463"/>
                  <a:pt x="3662" y="485"/>
                  <a:pt x="3688" y="511"/>
                </a:cubicBezTo>
                <a:cubicBezTo>
                  <a:pt x="3714" y="537"/>
                  <a:pt x="3731" y="565"/>
                  <a:pt x="3762" y="586"/>
                </a:cubicBezTo>
                <a:cubicBezTo>
                  <a:pt x="3805" y="646"/>
                  <a:pt x="3830" y="698"/>
                  <a:pt x="3892" y="743"/>
                </a:cubicBezTo>
                <a:cubicBezTo>
                  <a:pt x="3898" y="752"/>
                  <a:pt x="3903" y="763"/>
                  <a:pt x="3911" y="771"/>
                </a:cubicBezTo>
                <a:cubicBezTo>
                  <a:pt x="3919" y="779"/>
                  <a:pt x="3932" y="781"/>
                  <a:pt x="3939" y="790"/>
                </a:cubicBezTo>
                <a:cubicBezTo>
                  <a:pt x="3988" y="852"/>
                  <a:pt x="3899" y="786"/>
                  <a:pt x="3976" y="836"/>
                </a:cubicBezTo>
                <a:cubicBezTo>
                  <a:pt x="3987" y="871"/>
                  <a:pt x="4037" y="918"/>
                  <a:pt x="4069" y="939"/>
                </a:cubicBezTo>
                <a:cubicBezTo>
                  <a:pt x="4090" y="1002"/>
                  <a:pt x="4139" y="1055"/>
                  <a:pt x="4189" y="1097"/>
                </a:cubicBezTo>
                <a:cubicBezTo>
                  <a:pt x="4219" y="1122"/>
                  <a:pt x="4232" y="1149"/>
                  <a:pt x="4264" y="1171"/>
                </a:cubicBezTo>
                <a:cubicBezTo>
                  <a:pt x="4293" y="1216"/>
                  <a:pt x="4338" y="1245"/>
                  <a:pt x="4375" y="1282"/>
                </a:cubicBezTo>
                <a:cubicBezTo>
                  <a:pt x="4435" y="1342"/>
                  <a:pt x="4322" y="1284"/>
                  <a:pt x="4459" y="1375"/>
                </a:cubicBezTo>
                <a:cubicBezTo>
                  <a:pt x="4528" y="1421"/>
                  <a:pt x="4497" y="1398"/>
                  <a:pt x="4552" y="1440"/>
                </a:cubicBezTo>
                <a:cubicBezTo>
                  <a:pt x="4582" y="1487"/>
                  <a:pt x="4561" y="1462"/>
                  <a:pt x="4626" y="1505"/>
                </a:cubicBezTo>
                <a:cubicBezTo>
                  <a:pt x="4657" y="1525"/>
                  <a:pt x="4669" y="1558"/>
                  <a:pt x="4700" y="1580"/>
                </a:cubicBezTo>
                <a:cubicBezTo>
                  <a:pt x="4740" y="1636"/>
                  <a:pt x="4877" y="1718"/>
                  <a:pt x="4942" y="1747"/>
                </a:cubicBezTo>
                <a:cubicBezTo>
                  <a:pt x="4982" y="1765"/>
                  <a:pt x="4990" y="1762"/>
                  <a:pt x="5026" y="1784"/>
                </a:cubicBezTo>
                <a:cubicBezTo>
                  <a:pt x="5075" y="1813"/>
                  <a:pt x="5100" y="1836"/>
                  <a:pt x="5156" y="1849"/>
                </a:cubicBezTo>
                <a:cubicBezTo>
                  <a:pt x="5168" y="1855"/>
                  <a:pt x="5193" y="1868"/>
                  <a:pt x="5193" y="186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5268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getační výškov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upně na Kilimandžá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434340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9400" y="32004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14640" y="400356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5520" y="38862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azová pouš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51814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20800" y="45720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Horské lou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0440" y="47656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60199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1800" y="54100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opický horský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38440" y="5562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3200" y="6137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av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dnebí a vegeta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DNEBNÝ PÁ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GE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hký tropický p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ické deštné l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ídavě vlhký trop. p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. a subtrop. suchý 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ště a ste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opický pás vlhký v zim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omořská vege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opický pás vlhký v lét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zunové lesy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írný pás such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i a pou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írný pás vlh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naté, smíšené a jehličnaté l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ární p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dry a led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ké podneb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škové vegetační stup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914400"/>
            <a:ext cx="0" cy="594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9:35:25Z</dcterms:created>
  <dc:creator>kk</dc:creator>
  <dc:description/>
  <dc:language>en-US</dc:language>
  <cp:lastModifiedBy>kk</cp:lastModifiedBy>
  <dcterms:modified xsi:type="dcterms:W3CDTF">2006-01-17T20:10:05Z</dcterms:modified>
  <cp:revision>2</cp:revision>
  <dc:subject/>
  <dc:title>PŘÍRODNÍ ZEMSKÉ PÁSY</dc:title>
</cp:coreProperties>
</file>