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BC49-7478-420C-B1A6-10B5DA456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3965-B662-4F22-BD00-03CEEE88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8361-4ABE-4C55-9E4C-D637134A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7F40-84F6-495F-B640-2D50FF5C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D940-E671-4231-98A1-DC7E433B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4A14-1E71-4BE1-9EF3-96E454DC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6216-FEB9-4D14-9BD3-33483CDF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62BB-0248-4346-950B-E5D1DE4E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8852-7728-4DAA-86B4-96C2D6D7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6E1B-C232-486F-8AF6-CB626D49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DB6D-B78B-47F2-8D31-6DCF1581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62C-0BBB-4AC9-93F1-7A24F848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5A05-E78A-4670-8EB2-26BD41E69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gi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4467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ÁCE S MAP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ilva" descr=""/>
          <p:cNvPicPr/>
          <p:nvPr/>
        </p:nvPicPr>
        <p:blipFill>
          <a:blip r:embed="rId2"/>
          <a:stretch/>
        </p:blipFill>
        <p:spPr>
          <a:xfrm>
            <a:off x="6477120" y="4316400"/>
            <a:ext cx="266688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AKO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 turistické mapě Prahy (v atlase) o měřítku 1:100 000 a vrstevnicemi vzdálenými 20 výškových metrů zjist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zdálenost z Horoměřic na Petřín (na Malé Straně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akou nadmořskou výšku má Petřín? Zjistěte rozdíl mezi Petřínem a řekou Vltav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 Mapě Prahy najdi značky, nakresli si je do sešitu a zjisti co značky znamenaj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ce na mapě podle světových st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cgi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641920"/>
          </a:xfrm>
          <a:prstGeom prst="rect">
            <a:avLst/>
          </a:prstGeom>
          <a:ln w="0">
            <a:noFill/>
          </a:ln>
        </p:spPr>
      </p:pic>
      <p:pic>
        <p:nvPicPr>
          <p:cNvPr id="48" name="kompas" descr=""/>
          <p:cNvPicPr/>
          <p:nvPr/>
        </p:nvPicPr>
        <p:blipFill>
          <a:blip r:embed="rId2"/>
          <a:stretch/>
        </p:blipFill>
        <p:spPr>
          <a:xfrm>
            <a:off x="0" y="990720"/>
            <a:ext cx="2492280" cy="2514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9680" y="13446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7960" y="13446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62120" y="268128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9320" y="27162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kompas" descr=""/>
          <p:cNvPicPr/>
          <p:nvPr/>
        </p:nvPicPr>
        <p:blipFill>
          <a:blip r:embed="rId1"/>
          <a:stretch/>
        </p:blipFill>
        <p:spPr>
          <a:xfrm>
            <a:off x="5257800" y="0"/>
            <a:ext cx="2944800" cy="2971800"/>
          </a:xfrm>
          <a:prstGeom prst="rect">
            <a:avLst/>
          </a:prstGeom>
          <a:ln w="0">
            <a:noFill/>
          </a:ln>
        </p:spPr>
      </p:pic>
      <p:pic>
        <p:nvPicPr>
          <p:cNvPr id="54" name="silva" descr=""/>
          <p:cNvPicPr/>
          <p:nvPr/>
        </p:nvPicPr>
        <p:blipFill>
          <a:blip r:embed="rId2"/>
          <a:stretch/>
        </p:blipFill>
        <p:spPr>
          <a:xfrm>
            <a:off x="5029200" y="3124080"/>
            <a:ext cx="3657600" cy="348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pis</a:t>
            </a:r>
            <a:br>
              <a:rPr sz="2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áce s map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4495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přírodě se orientujeme podle mapy, proto musíme znát světové strany (nakreslete směrovou růžici), které určujeme podle buzoly, nebo podle Slunce či hvězd (Polárka). A dalších přírodních úkaz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4:21:52Z</dcterms:created>
  <dc:creator>kk</dc:creator>
  <dc:description/>
  <dc:language>en-US</dc:language>
  <cp:lastModifiedBy>kk</cp:lastModifiedBy>
  <dcterms:modified xsi:type="dcterms:W3CDTF">2005-10-11T14:22:15Z</dcterms:modified>
  <cp:revision>1</cp:revision>
  <dc:subject/>
  <dc:title>PRÁCE S MAPOU</dc:title>
</cp:coreProperties>
</file>