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B6D1-CEB6-414D-84B4-5A04B31E0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0789-A029-4A74-9BD1-BBD4946D5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BEA6-DD34-482C-AFC2-3E5125849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C484-57CA-4CFA-AD9D-EFA945AC6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9601-775E-47DA-833B-DE6583122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CD96-34D9-4481-B635-368E05D0E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1F40-7AA7-45F8-9E08-E71EDC442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0E26-3E84-4555-A48F-58AC3B7E8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36B8-C9FC-48D7-9D1D-F646D1FA8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DA64-7E1C-4542-902F-B23317E3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3893-698E-4EE4-9348-73BDB0DF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8356-E8D0-47F6-B35F-85BB3061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A3CF8-F7B2-4568-83C9-72C007A824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05160" y="304920"/>
            <a:ext cx="3809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OUŠ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24280" y="1066320"/>
            <a:ext cx="46483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prahlá kraj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5" descr="camel_461"/>
          <p:cNvPicPr/>
          <p:nvPr/>
        </p:nvPicPr>
        <p:blipFill>
          <a:blip r:embed="rId1"/>
          <a:stretch/>
        </p:blipFill>
        <p:spPr>
          <a:xfrm>
            <a:off x="0" y="0"/>
            <a:ext cx="5268960" cy="3371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desert_wideweb__430x296,1"/>
          <p:cNvPicPr/>
          <p:nvPr/>
        </p:nvPicPr>
        <p:blipFill>
          <a:blip r:embed="rId2"/>
          <a:stretch/>
        </p:blipFill>
        <p:spPr>
          <a:xfrm>
            <a:off x="3886200" y="3240000"/>
            <a:ext cx="5257800" cy="361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Flowers2"/>
          <p:cNvPicPr/>
          <p:nvPr/>
        </p:nvPicPr>
        <p:blipFill>
          <a:blip r:embed="rId3"/>
          <a:stretch/>
        </p:blipFill>
        <p:spPr>
          <a:xfrm>
            <a:off x="380880" y="3809880"/>
            <a:ext cx="329256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18720"/>
            <a:ext cx="449568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blasti s nedostatkem srážek jsou v různých podnebných pásme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rké pouště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okolí obratníků – tropický a subtropický pá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ladné pouště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mírný pás - vnitrozem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olární pouště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polární pá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Podnebí j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elmi suché (neprší několik l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ysoké výkyvy teplot během dne (i 60 stupňů cels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ětrn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Dělení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kamenité (nejví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těrkov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ísčité (nejméně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6" descr="desertmountain2"/>
          <p:cNvPicPr/>
          <p:nvPr/>
        </p:nvPicPr>
        <p:blipFill>
          <a:blip r:embed="rId1"/>
          <a:stretch/>
        </p:blipFill>
        <p:spPr>
          <a:xfrm>
            <a:off x="4267080" y="2286000"/>
            <a:ext cx="4030920" cy="2668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maroc052"/>
          <p:cNvPicPr/>
          <p:nvPr/>
        </p:nvPicPr>
        <p:blipFill>
          <a:blip r:embed="rId2"/>
          <a:stretch/>
        </p:blipFill>
        <p:spPr>
          <a:xfrm>
            <a:off x="5791320" y="0"/>
            <a:ext cx="3352680" cy="2548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34a_svetlo_a_stin_sm"/>
          <p:cNvPicPr/>
          <p:nvPr/>
        </p:nvPicPr>
        <p:blipFill>
          <a:blip r:embed="rId3"/>
          <a:stretch/>
        </p:blipFill>
        <p:spPr>
          <a:xfrm>
            <a:off x="5791320" y="4622760"/>
            <a:ext cx="335268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449568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Vo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dostatek (méně než 200 mm sráže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o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ádí (dočasná říční kory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rtéský pra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áza (dostatek podzemní vody = živo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Živ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ostliny (tvrdolisté a dlouhé kořeny – palmy, kaktus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vířata (plazy, štíři, malé šelmy, velblou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idé (nomádi – kočovníci, města, oáz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6" descr="Vadi"/>
          <p:cNvPicPr/>
          <p:nvPr/>
        </p:nvPicPr>
        <p:blipFill>
          <a:blip r:embed="rId1"/>
          <a:stretch/>
        </p:blipFill>
        <p:spPr>
          <a:xfrm>
            <a:off x="4343400" y="0"/>
            <a:ext cx="4800600" cy="3189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fenek"/>
          <p:cNvPicPr/>
          <p:nvPr/>
        </p:nvPicPr>
        <p:blipFill>
          <a:blip r:embed="rId2"/>
          <a:stretch/>
        </p:blipFill>
        <p:spPr>
          <a:xfrm>
            <a:off x="4952880" y="358128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oušť – vyprahlá kraji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sou oblasti s nedostatkem srážek a velkým výpar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horké (okolí obratníků – tropy a subtrop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hladné (mírný pás – vnitrozemí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Dělení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kamenité, štěrkové, písčit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Život je zde značně omezen = VODA (oázy, artés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rameny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2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Doplň chybějící pojm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ouště a polopoušt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krývají … /3 rozlohy souše. Dělíme je na pouště ……………(subtropy a mírný pás) a studené (……………..pás). Pouště vznikají tam, kde je nedostatek ………….. (celkem méně než ……..mm/rok) – např. díky hradbě hor, vzdálenosti od…………….., chladným oceánským…………..apod. Pro horké pouště jsou typické vysoké výkyvy teplot během…………a……………(až přes 60ºC). Tvary reliéfu vznikají díky erozi: …………….a…………….. Nejvíce je pouští……………….., které se mění na pouště štěrkové a ty pak na pouště………………..(těch je na Zemi nejméně).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Horké a chladné pouště (subtropy a mírný pá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ázvy pouští:..……………………………………………………………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ostlinstvo: především v oázách (palma………………),…………………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Živočichové:………………………………………………………………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Lidé v poušti: pastevci, nomádi (neboli……………….pastevci) – např. Berbeř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olární pouště (Arktida a Antarktid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ostlinstvo:……………………………………………………………………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Živočichové:………………………………………………………………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Lidé:……………………………………………………………………………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2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Doplň chybějící pojmy - řeše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Pouště a polopoušt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krývají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/3 rozlohy souše. Dělíme je na pouště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horké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subtropy a mírný pás) a studené (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olární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pás). Pouště vznikají tam, kde je nedostatek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srážek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(celkem méně než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250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mm/rok) – např. díky hradbě hor, vzdálenosti od moře, chladným oceánským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roudům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apod. Pro horké pouště jsou typické vysoké výkyvy teplot během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dn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noci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až přes 60ºC). Tvary reliéfu vznikají díky erozi: 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teplotě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větru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. Nejvíce je pouští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kamenitých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, které se mění na pouště štěrkové a ty pak na pouště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ísečné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(těch je na Zemi nejméně).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Horké a chladné pouště (subtropy a mírný pá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ázvy pouští: např.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Sahara, Gobi, Mohavská poušť, Atacama, Velká písečná aj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ostlinstvo: především v oázách (palma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datlová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suchomilé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(kaktusy, agave aj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Živočichové: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velbloudi, plazi (gekon, varan, chřestýš), hlodavci, štíři aj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Lidé v poušti: pastevci, nomádi (neboli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kočovní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pastevci) – např. Berbeř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Polární pouště (Arktida a Antarktid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ostlinstvo: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mechy, lišejníky při pobřeží, v moři řasy, jinak kámen, sníh a 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Živočichové: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medvěd lední, tuleni, mroži, ptáci (tučňáci, albatrosi, bouřňáci aj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Lidé: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eskymáci (inuité, Laponci aj.), výzkumné stanice - přechodn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2452680" y="2492280"/>
            <a:ext cx="4238640" cy="3819600"/>
          </a:xfrm>
          <a:prstGeom prst="rect">
            <a:avLst/>
          </a:prstGeom>
          <a:ln w="0">
            <a:noFill/>
          </a:ln>
        </p:spPr>
      </p:pic>
      <p:sp>
        <p:nvSpPr>
          <p:cNvPr id="60" name="TextovéPole 2"/>
          <p:cNvSpPr/>
          <p:nvPr/>
        </p:nvSpPr>
        <p:spPr>
          <a:xfrm>
            <a:off x="452880" y="620640"/>
            <a:ext cx="8458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. V osmisměrce vyhledej 11 pouští a urči, ve kterém světadíle leží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. V tajence najdi název další pouště a urči, ve kterém světadíle j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ajdeme. Jaké další pouště v tomto světadíle najde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. Jaké další velké pouště se do osmisměrky neveš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77840" y="285840"/>
            <a:ext cx="5184720" cy="4657680"/>
          </a:xfrm>
          <a:prstGeom prst="rect">
            <a:avLst/>
          </a:prstGeom>
          <a:ln w="0">
            <a:noFill/>
          </a:ln>
        </p:spPr>
      </p:pic>
      <p:sp>
        <p:nvSpPr>
          <p:cNvPr id="62" name="Přímá spojnice 5"/>
          <p:cNvSpPr/>
          <p:nvPr/>
        </p:nvSpPr>
        <p:spPr>
          <a:xfrm>
            <a:off x="392040" y="668160"/>
            <a:ext cx="47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římá spojnice 7"/>
          <p:cNvSpPr/>
          <p:nvPr/>
        </p:nvSpPr>
        <p:spPr>
          <a:xfrm>
            <a:off x="536400" y="649440"/>
            <a:ext cx="0" cy="38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římá spojnice 9"/>
          <p:cNvSpPr/>
          <p:nvPr/>
        </p:nvSpPr>
        <p:spPr>
          <a:xfrm flipH="1">
            <a:off x="347400" y="4581360"/>
            <a:ext cx="46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římá spojnice 11"/>
          <p:cNvSpPr/>
          <p:nvPr/>
        </p:nvSpPr>
        <p:spPr>
          <a:xfrm>
            <a:off x="392040" y="4076640"/>
            <a:ext cx="46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římá spojnice 13"/>
          <p:cNvSpPr/>
          <p:nvPr/>
        </p:nvSpPr>
        <p:spPr>
          <a:xfrm>
            <a:off x="5000760" y="1152360"/>
            <a:ext cx="0" cy="33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římá spojnice 15"/>
          <p:cNvSpPr/>
          <p:nvPr/>
        </p:nvSpPr>
        <p:spPr>
          <a:xfrm flipV="1">
            <a:off x="1184400" y="649440"/>
            <a:ext cx="0" cy="32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římá spojnice 17"/>
          <p:cNvSpPr/>
          <p:nvPr/>
        </p:nvSpPr>
        <p:spPr>
          <a:xfrm flipV="1">
            <a:off x="2978280" y="2268000"/>
            <a:ext cx="144144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římá spojnice 19"/>
          <p:cNvSpPr/>
          <p:nvPr/>
        </p:nvSpPr>
        <p:spPr>
          <a:xfrm flipV="1">
            <a:off x="1784520" y="899640"/>
            <a:ext cx="0" cy="27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římá spojnice 21"/>
          <p:cNvSpPr/>
          <p:nvPr/>
        </p:nvSpPr>
        <p:spPr>
          <a:xfrm flipV="1">
            <a:off x="2340000" y="1703160"/>
            <a:ext cx="2017800" cy="18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římá spojnice 23"/>
          <p:cNvSpPr/>
          <p:nvPr/>
        </p:nvSpPr>
        <p:spPr>
          <a:xfrm flipV="1">
            <a:off x="2441520" y="649080"/>
            <a:ext cx="0" cy="38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římá spojnice 25"/>
          <p:cNvSpPr/>
          <p:nvPr/>
        </p:nvSpPr>
        <p:spPr>
          <a:xfrm flipV="1">
            <a:off x="1779480" y="1044360"/>
            <a:ext cx="2646360" cy="24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ovéPole 27"/>
          <p:cNvSpPr/>
          <p:nvPr/>
        </p:nvSpPr>
        <p:spPr>
          <a:xfrm>
            <a:off x="5581080" y="131760"/>
            <a:ext cx="3465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uště v osmisměr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arakum (Asi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yzylkum (Asi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Gilská (S. Amerik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ohavská (S. Amerik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tacama (J. Amerik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ahara (Afrik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út (Asi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alahari (Afrik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afúd (Asi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hár (Asi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amib (Afrik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ajenka: TANA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ovéPole 29"/>
          <p:cNvSpPr/>
          <p:nvPr/>
        </p:nvSpPr>
        <p:spPr>
          <a:xfrm>
            <a:off x="176040" y="4943520"/>
            <a:ext cx="9353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ušť TANAMI se nachází v Austrálii. Mimo tuto poušť zde najde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 další pouště například: Velká Viktoriina, Gibsonova, Velká písečná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impsonova poušť aj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alší významné pouště: Libyjská, Arabská, Dahná, Rub al-Chálí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Gobi, Taklamakan, Velká solná poušť aj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1T20:06:29Z</dcterms:created>
  <dc:creator>kk</dc:creator>
  <dc:description/>
  <dc:language>en-US</dc:language>
  <cp:lastModifiedBy>Uživatel</cp:lastModifiedBy>
  <dcterms:modified xsi:type="dcterms:W3CDTF">2014-03-23T09:50:35Z</dcterms:modified>
  <cp:revision>22</cp:revision>
  <dc:subject/>
  <dc:title>POUŠŤ</dc:title>
</cp:coreProperties>
</file>