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64F-9FFD-43D1-988E-656C6790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B5E-5E84-4F03-B334-DF7F6F5B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5B0-3A05-4A0C-89FD-E1E78C3C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245-D6E9-40FD-9AD1-2B00C05B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FF0-A102-48D4-AB7A-9F3D664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7C7-D80C-4124-BE8B-3A5ECA84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B2D-42EC-4835-B7E7-7F1F4E5E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72C-04B4-4885-A99D-1923A72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BEB-D873-4993-8E23-8BFB0388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6C4-56FD-4D3A-A4BB-0AE2ADE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7C6-EAD7-4C0D-B3E4-BE6D4F1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209-9135-40FA-9F59-8164449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F63F-0270-4783-B479-E259E188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ce s rejstřík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becedním seznamu na konci atlasu najdete zadaný název (př. Paramari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jstříkové údaje obsahují – název, číslo strany a pole indexové sítě označené číslicemi a čís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. PARAMARIBO 128 B 5 (tedy strana 128 a mapové pole B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47600"/>
            <a:ext cx="7704000" cy="592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4724280"/>
            <a:ext cx="503280" cy="5050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1341360"/>
            <a:ext cx="547200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556000" y="1773360"/>
            <a:ext cx="0" cy="28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4680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340000" y="119700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740720" y="515772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03:42Z</dcterms:created>
  <dc:creator>jj</dc:creator>
  <dc:description/>
  <dc:language>en-US</dc:language>
  <cp:lastModifiedBy>jj</cp:lastModifiedBy>
  <dcterms:modified xsi:type="dcterms:W3CDTF">2007-11-05T17:33:37Z</dcterms:modified>
  <cp:revision>6</cp:revision>
  <dc:subject/>
  <dc:title>Práce s rejstříkem</dc:title>
</cp:coreProperties>
</file>