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691-A875-4AB2-A13E-D8888A07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B04-CB1C-4AD4-8CD0-EA994C66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249-4FD7-40E8-9F94-0692CE60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B1F-ADA3-46DB-A394-EF140DA3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F00-EA78-4E28-BE06-331E0F6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D0A-A0D3-4B81-BBFD-84FB35E6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DBD-B3CD-49E0-A82D-79EEAC3B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9AA-2CB1-4129-99C9-27EF1AAA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C1D-E38A-4CFA-90D1-41E595BB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913-4FD7-4ACE-A6EB-9499E6E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292-4D1D-470A-B0BB-36990BF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A07-4D7C-4C9F-AE68-7B8D5549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75F-5D02-4FE9-84FE-5D4C9852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348000" y="765000"/>
            <a:ext cx="579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mapě jsou nejčastěji dva typy měří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íselné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:20 000 000 (čteme jako 1 cm na mapě se rovná 20 000 000 cm ve skuteč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 výpočet je lépe si cm převést na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suneme desetinou čárku o 5 desetinných míst dopředu (1:20 0,00 000 tedy 1 cm je 20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grafic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 cm na tomto grafickém měřítku je roven 200 km ve skut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ěřítku mapy 1:20 000 000 je vzdálenost 5 cm rovna 1000 km ve skutečnosti (výpočet 5 cm na mapě x 200 km ve skutečnosti = 1000 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áce s měřítkem m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94300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39640" y="1988640"/>
            <a:ext cx="288000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763640" y="4292280"/>
            <a:ext cx="1584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3:15:36Z</dcterms:created>
  <dc:creator>jj</dc:creator>
  <dc:description/>
  <dc:language>en-US</dc:language>
  <cp:lastModifiedBy>jj</cp:lastModifiedBy>
  <dcterms:modified xsi:type="dcterms:W3CDTF">2007-11-06T13:56:01Z</dcterms:modified>
  <cp:revision>6</cp:revision>
  <dc:subject/>
  <dc:title>Práce s měřítkem mapy</dc:title>
</cp:coreProperties>
</file>