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BC5-0504-4F39-82AD-77EB2369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C4E-7B77-4130-89F4-F0CA86AA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FC87-6729-4576-AE09-7284DADA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A68-D16F-4CB4-9BD0-50349814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46B-30A0-49E9-A5FF-7AD958BD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92C-E175-4AF9-B619-03BFB2EE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A5B-5465-446F-82ED-58A7C91D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54D-3074-4846-88F5-3B757E0A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14D-E174-451F-B2E0-12E7318C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327-2F6C-4F26-8A21-F6561E23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0AB0-5FC2-418F-ABE9-ACFBD25D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704-7DCF-4B1C-ACA7-4F88B59F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819D-0DD7-4D36-A6F6-803D16978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uj s vysvětliv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 začátku doporučuji pracovat ve skupině nebo dvojic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uj pomocí mapy Afriky a lege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mocí výškových stupňů pevniny zjisti zda v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gyptě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leží místo s nadmořskou výškou nad 5000 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jisti jaký je nejhlubší bod v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Gibraltarském průliv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jdeme na mapě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frik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mapovou znač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ranice souvislého mořského 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zazší hranice plujícího 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) Které město je ve vyšší nadmořské výš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ddis Abe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) Poznej jde-li o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korálové nebo sopečné pohoř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nárské ostro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) Součástí nejrozlehlejší pouště světa Sahary je mnoho pouští: např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Hamáda al-Hamr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rg Še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 Ale pouze jedna z těchto pouští je písečná, která to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) Na jihu Afriky leží stát Jihoafrická republika. V tomto státě je celá řada velkých měst n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 mil. obyvatel: např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Durba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Johanesbur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ape Tow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 Ovšem pouze jedno z těchto měst je zároveň i hlavním městem Jihoafrické republiky, které to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) Na pobřeží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udého moř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vyskytu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řská pobřežní písč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grovové pobřežní poro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rálové pobřeží, korálové úte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) Najdeme na řece Nil peře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) Najdi které z jezer má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stálé bře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zn. že se velikost tohoto jezera v průběhu roku mě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zero Mala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adské je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dpově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 (nejvyšší místo je na Sinajské poloostrově a měří 2637 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18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 N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 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 Harare – 1660 m.n.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 Addis Abeba – 2370 m.n.m. je vý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) a) Komory – korálov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 Kanárské ostrovy – sopeč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) Písečná poušť je Erg Še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) Cape Town – jeho značka je červe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) C – korálové pobřež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) 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) Čadské je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20:34:31Z</dcterms:created>
  <dc:creator>jj</dc:creator>
  <dc:description/>
  <dc:language>en-US</dc:language>
  <cp:lastModifiedBy>jj</cp:lastModifiedBy>
  <dcterms:modified xsi:type="dcterms:W3CDTF">2010-11-09T21:18:33Z</dcterms:modified>
  <cp:revision>5</cp:revision>
  <dc:subject/>
  <dc:title>Pracuj s vysvětlivky</dc:title>
</cp:coreProperties>
</file>