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A15-6E91-447B-B5F3-9E286BE0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3D7-2184-40BF-AD5E-64B86215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4ED-4337-4AFD-85AB-3E6866B6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4DA-0036-41E1-96FF-FB79CC3D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C2B-9E57-4229-B961-BB9BB181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BBD-E2E2-4F06-A700-4CA7F069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DFF-50AD-452A-8611-1E6F8590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8D3-8ACF-4B8E-8D57-1E78374E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92D-6DB1-41CD-9400-7D77DBDB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E4B-E9D1-4B27-B09D-B6BA1F0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E17-7637-49BF-AC8D-1BABBEA9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EEB-7D05-4BB8-8AA2-924203ED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FB12-F8C0-4790-B1C6-3FD9E5964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čování času na Ze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díly času na Zemi odpovídají rozdílům zeměpisných délek daných míst – tj. 1° zeměpisné délky = rozdíl v čase 4 minuty – 1 hodina je tedy 15° a 360° = 24 hod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993080" cy="327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88000" y="378936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971280" y="378936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429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 ZÁPAD každé časové pásmo ODEČTEME - 1 ho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3480" y="3500280"/>
            <a:ext cx="40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 VÝCHOD každé časové pásmo PŘIČTEME + 1 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2924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852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7800" y="263700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dý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61080" y="28526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a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1440" y="5445000"/>
            <a:ext cx="888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mapě jsou vyznačeny dvě města Londýn a Praha – mezi těmito městy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asový posun jedno pásmo. V Praze je zrovna 12 hodin, kolik hodin 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 stejnou dobu v Londýně? Správná odpověď je 11 hod. Řešení: 12 mín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hodina (protože se pohybujeme směrem na západ) = 1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4897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cvičov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Londýně je 12 hodiny, kolik hodin ve stejnou chvíli v těchto měst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ykjav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l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áh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si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08640" y="260280"/>
            <a:ext cx="3735360" cy="590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956720" y="22050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2565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2492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0000" y="299736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005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1557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675640" y="1773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2160" y="242100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9800" y="39337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Belé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42520" y="198900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dý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8880" y="249228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Ří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68000" y="299736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áhi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42000" y="155736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lsin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89280" y="1314360"/>
            <a:ext cx="76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Reykjaví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50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659280" y="2276640"/>
            <a:ext cx="129708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84360" y="2205000"/>
            <a:ext cx="180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7451640" y="16286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17080" y="1844640"/>
            <a:ext cx="35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28000" y="227664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28000" y="227664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4897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Londýně je 12 hodiny, kolik hodin ve stejnou chvíli v těchto měst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w York = 7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ykjavík = 12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m = 13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lém = 9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áhira = 14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sinky = 14 ho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08640" y="260280"/>
            <a:ext cx="3735360" cy="5904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956720" y="22050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17080" y="2565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2492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820000" y="299736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4005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80360" y="1557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75640" y="1773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2160" y="2421000"/>
            <a:ext cx="137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New York (-5 hod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89440" y="393372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Belém (-3 hodin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42520" y="198900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dý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06760" y="256536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Řím (+1 hodin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65360" y="299736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áhira (+ 2 hod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74640" y="1557360"/>
            <a:ext cx="126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lsinky (+2 hod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88320" y="1341360"/>
            <a:ext cx="21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Reykjavík (stejné časové pásm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850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659280" y="2276640"/>
            <a:ext cx="129708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084360" y="2205000"/>
            <a:ext cx="180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7451640" y="16286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17080" y="1844640"/>
            <a:ext cx="35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227664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28000" y="227664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012000" y="620280"/>
            <a:ext cx="0" cy="180036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451640" y="620640"/>
            <a:ext cx="505080" cy="720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4:24:59Z</dcterms:created>
  <dc:creator>jj</dc:creator>
  <dc:description/>
  <dc:language>en-US</dc:language>
  <cp:lastModifiedBy>jj</cp:lastModifiedBy>
  <dcterms:modified xsi:type="dcterms:W3CDTF">2007-11-06T17:10:24Z</dcterms:modified>
  <cp:revision>5</cp:revision>
  <dc:subject/>
  <dc:title>Určování času na Zemi</dc:title>
</cp:coreProperties>
</file>