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1C4-35CB-4EB7-98F4-515F1471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21D-EBD8-498A-AF54-DEFD630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97B-B920-4452-9325-8731369A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78D-6944-4325-AC0B-46BFECCC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630-93FB-4183-8D22-2414DF1D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7B5-3EF5-415E-A2CD-B7924906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7A1-C297-495B-A69F-EC2D870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977-832F-41E7-B805-AE5C6BB4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A91-0453-4054-9F64-DD403DF7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1C8-289B-4832-A0CA-42A48E0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425-792F-42B0-8798-EA5AAD8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5D8-4ADF-4024-A33A-77364EE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5AC-C64C-45AA-A368-2490C569A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3860640"/>
          <a:ext cx="4572000" cy="25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60640"/>
                    <a:ext cx="4572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00360" y="981000"/>
          <a:ext cx="3887640" cy="221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981000"/>
                    <a:ext cx="388764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VNINY A OCEÁNY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74880" y="27082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ÁN 7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2520" y="10526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Š 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3860640"/>
          <a:ext cx="4427640" cy="251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860640"/>
                    <a:ext cx="4427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975600" y="378936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ha světadílů v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48880" y="38098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ha oceánů v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vniny a oceány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š – vše co vystupuje nad hladinu oceánů se rozpadá na několik KONTINENTŮ (Mt. Ever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inenty omývá SVĚTOVÝ OCEÁN (Marianský příko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adíl x k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ložení pevniny je velmi nerovnoměr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iz. Tabulka pevnin a oceánů (str. 8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ïl dna oceán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99280" cy="23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6095880" cy="264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10640" y="3500280"/>
            <a:ext cx="61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 souše podle nadmořské výš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58:15Z</dcterms:created>
  <dc:creator>kk</dc:creator>
  <dc:description/>
  <dc:language>en-US</dc:language>
  <cp:lastModifiedBy>jj</cp:lastModifiedBy>
  <dcterms:modified xsi:type="dcterms:W3CDTF">2007-11-13T06:29:47Z</dcterms:modified>
  <cp:revision>7</cp:revision>
  <dc:subject/>
  <dc:title>PEVNINY A OCEÁNY NA ZEMI</dc:title>
</cp:coreProperties>
</file>