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30E-06C0-48B1-B6F1-B84C045E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208-EC14-46B9-BB6B-798F1EFC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5BA-ABB5-4101-AD16-CB90F8AA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0F5-F92B-4A5F-985E-C0AF8555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508-A18F-44CB-9A06-4086355D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3E7-4FAA-4D35-8E07-94C761C9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304-12A9-4915-9D84-3E21D2F2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25E-41B1-44DB-B730-AFE7FC34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389-B94C-45F5-B356-5926D3C3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965-9E3F-400E-B9A8-525EC657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BD2-02AD-45DA-829C-45CCC463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412-F65D-47A5-AECF-8DB1414B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149A-C4A1-496D-AE7A-B39C820E3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image" Target="../media/image3.png"/><Relationship Id="rId5" Type="http://schemas.openxmlformats.org/officeDocument/2006/relationships/slide" Target="slide8.xml"/><Relationship Id="rId6" Type="http://schemas.openxmlformats.org/officeDocument/2006/relationships/image" Target="../media/image4.png"/><Relationship Id="rId7" Type="http://schemas.openxmlformats.org/officeDocument/2006/relationships/slide" Target="slide8.xml"/><Relationship Id="rId8" Type="http://schemas.openxmlformats.org/officeDocument/2006/relationships/image" Target="../media/image5.png"/><Relationship Id="rId9" Type="http://schemas.openxmlformats.org/officeDocument/2006/relationships/slide" Target="slide8.xml"/><Relationship Id="rId10" Type="http://schemas.openxmlformats.org/officeDocument/2006/relationships/image" Target="../media/image6.png"/><Relationship Id="rId11" Type="http://schemas.openxmlformats.org/officeDocument/2006/relationships/slide" Target="slide8.xml"/><Relationship Id="rId12" Type="http://schemas.openxmlformats.org/officeDocument/2006/relationships/image" Target="../media/image7.png"/><Relationship Id="rId13" Type="http://schemas.openxmlformats.org/officeDocument/2006/relationships/slide" Target="slide8.xml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řížovka - Tropický deštný 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stát Jižní Ameriky (8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 vzácného dřeva, rostoucího v tropech, začíná na písmeno M (7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had žijící v tropech (8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řeka světa (8/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nebný pás v okolí rovníku – vysoké srážky a vysoká teplota (5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é větry, které v průběhu roku mění svůj směr – letní jsou deštivé a zimní suché (6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liny s chabým stonkem, které se ovíjí o kmen stromu (5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ustý porost bylinného, keřového a spodního stromového patra v tropickém deštném lese (7/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řaď klimatodiagramy k jednotlivým vegetačním pás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92280"/>
            <a:ext cx="2125800" cy="2881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29280" y="692280"/>
            <a:ext cx="2214720" cy="288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68360" y="692280"/>
            <a:ext cx="2133720" cy="288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4005360"/>
            <a:ext cx="2122560" cy="2852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340000" y="4005360"/>
            <a:ext cx="2131920" cy="2852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4716360" y="4005360"/>
            <a:ext cx="2184480" cy="2852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4572000" y="69228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7058160" y="4005360"/>
            <a:ext cx="20858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tajenk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552600"/>
                <a:gridCol w="509400"/>
                <a:gridCol w="552600"/>
                <a:gridCol w="552240"/>
                <a:gridCol w="594000"/>
                <a:gridCol w="571320"/>
                <a:gridCol w="592200"/>
                <a:gridCol w="571320"/>
                <a:gridCol w="571680"/>
                <a:gridCol w="552240"/>
                <a:gridCol w="571680"/>
                <a:gridCol w="571320"/>
                <a:gridCol w="552600"/>
                <a:gridCol w="9144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758520" y="6491160"/>
            <a:ext cx="35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kus se zjistit o Amazonii ví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lňovačka - Sav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vana se rozkládá v ……….podnebném pás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řídají se zde dvě roční období. Letní období……..a zimní období…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jvětší savany najdeme v ………, kde jsou savany i chráněny formou………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Žijí zde velká stáda kopytníků (např. ……,……,…..) a šelem (např. ……..,……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ickým porostem savan jsou …….a ze stromů například akácie, baobaby nebo eukalypt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náš správné odpovědi - Poušt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é jsou nejdůležitější podmínky pro vznik poušt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to oáza, artézská studna, vád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íky čemu se z kamenité pouště časem stane poušť písečná? Kterých pouští je více – kamenitých nebo písečný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ď k charakteristice vzniku pouště název poušt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acama, Taklamakan, Sah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ží ve srážkovém stínu hor, je ovlivněna studeným Peruánským mořským proudem, leží na obratníku v oblasti vysokého tlaku vzduch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oplňovačka – subtropické vždyzelené les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o vegetační pás leží v …………podnebném pásu. Léto je……a…… zima je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ůvodní vegetace nahrazena jinými druhy užitkových plodin (napiš alespoň tř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hledej a napiš alespoň tři evropské státy ve kterých vegetace středomořského typu představuje převážnou část rozlo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i – křížov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nazývají stepi v USA? (6/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známější kopytníci severoamerických stepí? (6/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ěsto v USA ležící na 40 stupni severní šířky a 105 stupni západní délky? (6/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cký porost stepí? (7/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astrofický vítr který vzniká v oblasti stepí, především v USA? (7/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mi úrodná půda stepí? (8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i – křížovka (řešení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1946160"/>
            <a:ext cx="87138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znáš stromy lesů mírného pás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4124160"/>
            <a:ext cx="3048120" cy="2733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427640" y="112536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095880" y="4095720"/>
            <a:ext cx="3048120" cy="2762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95640" y="9079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916360" y="4572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858000" y="981000"/>
            <a:ext cx="22860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hličnatý les, tundra, mrazové oblasti – znáš odpověd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ý jednoslovný název se používá pro jehličnaté les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to permafr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se tajga a tundra nehodí pro život lid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 pro tundru charakteristické mechy a lišejník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se nazývá kontinent v oblasti jižního pólu, a jak zamrzlý Severní ledový oceá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teré polokouli žije tučňák a na které lední medvě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první člověk dorazil na jižní pól Robert E. Peary nebo R. Amunds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8:08:54Z</dcterms:created>
  <dc:creator>Administrator</dc:creator>
  <dc:description/>
  <dc:language>en-US</dc:language>
  <cp:lastModifiedBy>jj</cp:lastModifiedBy>
  <dcterms:modified xsi:type="dcterms:W3CDTF">2008-04-21T21:19:36Z</dcterms:modified>
  <cp:revision>10</cp:revision>
  <dc:subject/>
  <dc:title>Snímek 1</dc:title>
</cp:coreProperties>
</file>