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48C-83CE-49FA-A8EB-D0A2431E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0CE-C9A3-4E5D-B4D8-B3446806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BD8-B95F-4522-AAEB-8A45AF43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A27-208E-4BB4-A346-C48BE535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4A7-39F1-463B-9AB2-B3C8F17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3F1-FE15-4931-B5AB-E3AA94BB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878-D442-496E-917B-F174B325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D62-689F-458E-B214-61472727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481-4B1C-4C61-9695-70BBCCA0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A90-266A-4885-9B91-29522F0C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4CF-E592-4ACE-B2BC-605FF6D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2D6-7B28-4371-B248-F25CE77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D395-746A-4DB1-8B1F-9944DE564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Jaký je rozdíl mezi nížinou a rovinou? V atlase najdi jednu rovinu a jednu nížinu a urči, na kterém světadíle se nachází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kterých litosférických deskách se nachází Afrika a Atlantický oceán (str. 6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mapě Evropy najdi činné sopky a na mapě světa nejvýznamnější částí vulkanické aktivity (str. 6). (Např. Japonsko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Zjisti názvy sopek v přesmyčkách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TA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USEV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OLISTROM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K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odle názvu hory urči pohoří a nadmořskou výšku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ONCAGUA, DŽABAL TUBK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kterém světadílu a řece leží tyto vodopády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GUACU, VIKTORÍN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mapě Evropy najdi horské ledovce. Kde leží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 je to delt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) druh jezera na řece B) rozvětvené trojúhelníkové ústí řeky do moř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jdi deltu řeky NIL (urči její zeměpisnou polohu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a mapě ČR (s. 98-99) najdi názvy k těmto typům reliéfu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AHORKATINA, VRCHOVINA, H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8:54:37Z</dcterms:created>
  <dc:creator>kk</dc:creator>
  <dc:description/>
  <dc:language>en-US</dc:language>
  <cp:lastModifiedBy>kk</cp:lastModifiedBy>
  <dcterms:modified xsi:type="dcterms:W3CDTF">2006-01-15T18:55:33Z</dcterms:modified>
  <cp:revision>1</cp:revision>
  <dc:subject/>
  <dc:title>Prezentace aplikace PowerPoint</dc:title>
</cp:coreProperties>
</file>