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886-DDD3-44D3-A497-454BAC1B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C07-6D84-42F9-B0C5-E39F0442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2CC-FFEF-4A31-8174-5DD5B8F1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F11-2F3A-447E-AF7D-AA8607E3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4D2-63A3-4C47-A102-9BF1CBD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85B-E117-4296-A555-FCB72CF7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EF5-4C03-4858-8D73-B8B7C7E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915-1807-445D-960C-BE49A50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8D8-7554-4461-BA4C-F1B3BE6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761-EFEF-4B3A-9590-F13F32F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C3B-F912-4AE9-AAA1-5AB2EA4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6CF-CCD2-405B-8058-DAA7EA7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A62-66B1-4288-A6E1-B7F3B6F88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HROŽENÁ PŘÍR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668680" y="22096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ůst počtu obyva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281680" y="297180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ečištění ovzduší – emise, 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580200" y="441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Znečištění v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964320" y="5105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dp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208240" y="144792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ůdní eroze – úbytek pů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739240" y="3581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Úbytek rostlinných a živočišných druh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744280" y="57913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ěžba nerostných suro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4" descr="cerna-skladka"/>
          <p:cNvPicPr/>
          <p:nvPr/>
        </p:nvPicPr>
        <p:blipFill>
          <a:blip r:embed="rId1"/>
          <a:stretch/>
        </p:blipFill>
        <p:spPr>
          <a:xfrm>
            <a:off x="0" y="4267080"/>
            <a:ext cx="2590920" cy="19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54"/>
          <p:cNvPicPr/>
          <p:nvPr/>
        </p:nvPicPr>
        <p:blipFill>
          <a:blip r:embed="rId2"/>
          <a:stretch/>
        </p:blipFill>
        <p:spPr>
          <a:xfrm>
            <a:off x="6553080" y="4267080"/>
            <a:ext cx="2590920" cy="204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undprestig2"/>
          <p:cNvPicPr/>
          <p:nvPr/>
        </p:nvPicPr>
        <p:blipFill>
          <a:blip r:embed="rId3"/>
          <a:stretch/>
        </p:blipFill>
        <p:spPr>
          <a:xfrm>
            <a:off x="0" y="1143000"/>
            <a:ext cx="227808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mining-big"/>
          <p:cNvPicPr/>
          <p:nvPr/>
        </p:nvPicPr>
        <p:blipFill>
          <a:blip r:embed="rId4"/>
          <a:stretch/>
        </p:blipFill>
        <p:spPr>
          <a:xfrm>
            <a:off x="5791320" y="228600"/>
            <a:ext cx="33526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lověk využívá přírodu (přírodní zdroje) a tím ovlivňuje ŽIVOTNÍ PROSTŘED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ananas-scheiben"/>
          <p:cNvPicPr/>
          <p:nvPr/>
        </p:nvPicPr>
        <p:blipFill>
          <a:blip r:embed="rId1"/>
          <a:stretch/>
        </p:blipFill>
        <p:spPr>
          <a:xfrm>
            <a:off x="3886200" y="2209680"/>
            <a:ext cx="4800600" cy="4254480"/>
          </a:xfrm>
          <a:prstGeom prst="rect">
            <a:avLst/>
          </a:prstGeom>
          <a:ln w="0">
            <a:noFill/>
          </a:ln>
        </p:spPr>
      </p:pic>
      <p:sp>
        <p:nvSpPr>
          <p:cNvPr id="55" name="Line 8"/>
          <p:cNvSpPr/>
          <p:nvPr/>
        </p:nvSpPr>
        <p:spPr>
          <a:xfrm>
            <a:off x="3200400" y="28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666880" y="3733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8862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124080" y="579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11400" y="25909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NAS Z TR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9400" y="34290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UKR Z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47840" y="446076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INÍK Z MAĎAR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71520" y="5527800"/>
            <a:ext cx="28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ERGIE Z R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NÉ V RU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IRAĎ DVOJICE K SOB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tm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ydr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d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it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iosfé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670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Těžba nerostů a pal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zónová dí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roze pů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dumírání les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hemická hnoj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dlesňová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ěstské kanaliz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Skleníkový efek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Desertifik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opné katastro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CHRANA DIVOČ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LKOPLOŠNÁ CHRÁNĚNÁ ÚZEM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rodní parky, rezervace (Yellowsonský 187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osférické rezervace (UNES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ráněná krajinná územ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LOPLOŠNÁ CHRÁNĚNÁ ÚZEM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rodní rezerv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rodní pamá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brané národní parky celosvětového významu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620640"/>
          <a:ext cx="8744040" cy="3170160"/>
        </p:xfrm>
        <a:graphic>
          <a:graphicData uri="http://schemas.openxmlformats.org/drawingml/2006/table">
            <a:tbl>
              <a:tblPr/>
              <a:tblGrid>
                <a:gridCol w="2554560"/>
                <a:gridCol w="1514160"/>
                <a:gridCol w="4675320"/>
              </a:tblGrid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ha (stá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ělověž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ůvodní les mírného pásu, zubr evrop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a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ana, saf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rgl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křady, aligátoři a hnízdiště ptact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o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lozelené sekvoje - nejstarší a nejvyšší stromy svě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á útesová barié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ečenství korálových úte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d Buffa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ga, stáda volně žijících bizon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brané národní parky celosvětového významu - řešen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0"/>
          <a:ext cx="8744040" cy="3170160"/>
        </p:xfrm>
        <a:graphic>
          <a:graphicData uri="http://schemas.openxmlformats.org/drawingml/2006/table">
            <a:tbl>
              <a:tblPr/>
              <a:tblGrid>
                <a:gridCol w="1937160"/>
                <a:gridCol w="607680"/>
                <a:gridCol w="1472040"/>
                <a:gridCol w="216000"/>
                <a:gridCol w="4511160"/>
              </a:tblGrid>
              <a:tr h="5205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ha (stá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ělověž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sko-Běloru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ůvodní les mírného pásu, zubr evrop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a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ň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ana, saf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ergl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A - Florid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křady, aligátoři a hnízdiště ptact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o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A - Kalifornie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álozelené sekvoje - nejstarší a nejvyšší stromy svě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á útesová barié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álie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ečenství korálových útes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d Buffa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nada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jga, stáda volně žijících bizon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53" descr="giraffes-in-tsavo-west-national-park-kenya-all2810250"/>
          <p:cNvPicPr/>
          <p:nvPr/>
        </p:nvPicPr>
        <p:blipFill>
          <a:blip r:embed="rId1"/>
          <a:stretch/>
        </p:blipFill>
        <p:spPr>
          <a:xfrm>
            <a:off x="5724360" y="3357720"/>
            <a:ext cx="3738600" cy="2803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7" descr="everglades"/>
          <p:cNvPicPr/>
          <p:nvPr/>
        </p:nvPicPr>
        <p:blipFill>
          <a:blip r:embed="rId2"/>
          <a:stretch/>
        </p:blipFill>
        <p:spPr>
          <a:xfrm>
            <a:off x="-973080" y="3284640"/>
            <a:ext cx="4176720" cy="277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9" descr="2590480860033506355WySPWl_ph"/>
          <p:cNvPicPr/>
          <p:nvPr/>
        </p:nvPicPr>
        <p:blipFill>
          <a:blip r:embed="rId3"/>
          <a:stretch/>
        </p:blipFill>
        <p:spPr>
          <a:xfrm>
            <a:off x="3059280" y="3284640"/>
            <a:ext cx="2917800" cy="3889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2"/>
          <p:cNvSpPr/>
          <p:nvPr/>
        </p:nvSpPr>
        <p:spPr>
          <a:xfrm>
            <a:off x="-92160" y="59691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verg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3"/>
          <p:cNvSpPr/>
          <p:nvPr/>
        </p:nvSpPr>
        <p:spPr>
          <a:xfrm>
            <a:off x="6210000" y="618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s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4"/>
          <p:cNvSpPr/>
          <p:nvPr/>
        </p:nvSpPr>
        <p:spPr>
          <a:xfrm>
            <a:off x="3256560" y="33764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8000" y="3212640"/>
            <a:ext cx="9036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Mix pouště, polopouště a savany najdeme v národním parku v severozápadní Namibii (jižní Afrika), který leží ve stejnojmenné pánv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Přírodní památka UNESCO ve Vietnamu při pobřeží Tonkinského zálivu asi 200 km na východ od hlavního měs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Největší chráněná plocha deštných pralesů v Jižní Americe, rozprostírá se na ploše 23 779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Park je přístupný pouze s povolením brazilské vlády. Lze se do něj dopravit na člunu po řece Negro z 230 km vzdáleného města Mana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Národní park pokrytý savanou ležící v severní Tanzanii a jižní Keni východně od Viktoriina jezera. Jedná se o jedno z nejslavnějších a nejrozsáhlejších chráněných území Afriky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. Na jihu poloostrova Florida nedaleko města Miami leží NP pokrytý bažinami a subtropickými vždyzelenými lesy. Turistickou atrakcí jsou aligátoři, krokodýli, vodní ptactvo a airboads - vznášed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rázek 6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54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386028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verský jehličnatý les je název pro biom, který se vyskytuje především v severních zeměpisných šířkách. Dominantními druhy stromového patra jsou jehličnaté lesy. Nejvíce takových lesů se vyskytuje v Kanadě a především na Sibiři, odtud pochází i místní název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ajg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jisti jaké ohrožení leží taj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ocí atlasu nebo internetu vyhledej chráněné oblasti taj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554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8:48:00Z</dcterms:created>
  <dc:creator>kk</dc:creator>
  <dc:description/>
  <dc:language>en-US</dc:language>
  <cp:lastModifiedBy>Uživatel</cp:lastModifiedBy>
  <dcterms:modified xsi:type="dcterms:W3CDTF">2014-03-25T20:33:26Z</dcterms:modified>
  <cp:revision>7</cp:revision>
  <dc:subject/>
  <dc:title>OHROŽENÁ PŘÍRODA</dc:title>
</cp:coreProperties>
</file>