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1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gif" ContentType="image/gif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7A67-09D2-4C26-A345-B0B7674E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4602-DA26-4FFC-8851-B8C8A02E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4AB7-2EC7-454C-898E-0580A885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542A-40A7-4FFD-9CCE-C0F823AD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56ED-55DB-4427-B347-9F5EEF8B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3CE8-D0CD-4003-89F7-43024CE8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C6C8-B897-471D-B7E3-5BDE3C8C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5886-FA53-44C3-9F62-6D80D4D6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00E9-24D9-45ED-A8F2-C748EA90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4894-D1BD-4F47-B66C-FBCFB7BD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3EDE-9579-4862-8218-7851ECAF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8AB-560B-49CC-9F4F-C31B863E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2B6B-46D3-44E8-A62D-60270054882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66qW7kBVnM&amp;NR=1" TargetMode="External"/><Relationship Id="rId2" Type="http://schemas.openxmlformats.org/officeDocument/2006/relationships/hyperlink" Target="http://news.nationalgeographic.com/news/2007/11/071130-reefs-video-wc.html" TargetMode="External"/><Relationship Id="rId3" Type="http://schemas.openxmlformats.org/officeDocument/2006/relationships/hyperlink" Target="http://video.google.com/videoplay?docid=-733093936342632521" TargetMode="External"/><Relationship Id="rId4" Type="http://schemas.openxmlformats.org/officeDocument/2006/relationships/hyperlink" Target="http://video.google.com/videoplay?docid=6254743058448621040" TargetMode="External"/><Relationship Id="rId5" Type="http://schemas.openxmlformats.org/officeDocument/2006/relationships/package" Target="../embeddings/oleObject1.xlsx"/><Relationship Id="rId6" Type="http://schemas.openxmlformats.org/officeDocument/2006/relationships/image" Target="../media/image1.wmf"/><Relationship Id="rId7" Type="http://schemas.openxmlformats.org/officeDocument/2006/relationships/package" Target="../embeddings/oleObject2.xlsx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hyperlink" Target="http://www.youtube.com/watch?v=P9aDRmEo5yk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gif"/><Relationship Id="rId3" Type="http://schemas.openxmlformats.org/officeDocument/2006/relationships/hyperlink" Target="https://www.youtube.com/watch?v=budXQlGL8Dc" TargetMode="External"/><Relationship Id="rId4" Type="http://schemas.openxmlformats.org/officeDocument/2006/relationships/image" Target="../media/image7.png"/><Relationship Id="rId5" Type="http://schemas.openxmlformats.org/officeDocument/2006/relationships/hyperlink" Target="http://cs.wikipedia.org/wiki/Slapov&#233;_jevy" TargetMode="Externa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www.thinglink.com/scene/345198899671072769" TargetMode="External"/><Relationship Id="rId5" Type="http://schemas.openxmlformats.org/officeDocument/2006/relationships/image" Target="../media/image11.png"/><Relationship Id="rId6" Type="http://schemas.openxmlformats.org/officeDocument/2006/relationships/hyperlink" Target="http://www.jindrichpolak.wz.cz/encyklopedie/abc/oceanproudy.php" TargetMode="External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cs.wikipedia.org/wiki/Tsunami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CEÁNY A MOŘ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6354720"/>
            <a:ext cx="7129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deo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bří vln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orálové útes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anamský průpla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uezský průpla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4"/>
          <p:cNvGraphicFramePr/>
          <p:nvPr/>
        </p:nvGraphicFramePr>
        <p:xfrm>
          <a:off x="395280" y="1773360"/>
          <a:ext cx="3533760" cy="25621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1773360"/>
                    <a:ext cx="353376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Object 5"/>
          <p:cNvGraphicFramePr/>
          <p:nvPr/>
        </p:nvGraphicFramePr>
        <p:xfrm>
          <a:off x="4211640" y="3357720"/>
          <a:ext cx="4191120" cy="2562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1640" y="3357720"/>
                    <a:ext cx="419112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468360" y="0"/>
            <a:ext cx="7200720" cy="688500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6"/>
          <p:cNvSpPr/>
          <p:nvPr/>
        </p:nvSpPr>
        <p:spPr>
          <a:xfrm>
            <a:off x="8317080" y="6093000"/>
            <a:ext cx="502920" cy="549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000"/>
              <a:gd name="textAreaBottom" fmla="*/ 516600 h 549000"/>
            </a:gdLst>
            <a:ahLst/>
            <a:rect l="textAreaLeft" t="textAreaTop" r="textAreaRight" b="textAreaBottom"/>
            <a:pathLst>
              <a:path w="21600" h="23578">
                <a:moveTo>
                  <a:pt x="0" y="0"/>
                </a:moveTo>
                <a:lnTo>
                  <a:pt x="21600" y="0"/>
                </a:lnTo>
                <a:lnTo>
                  <a:pt x="21600" y="23578"/>
                </a:lnTo>
                <a:lnTo>
                  <a:pt x="0" y="23578"/>
                </a:lnTo>
                <a:close/>
              </a:path>
              <a:path fill="lightenLess" w="21600" h="235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8">
                <a:moveTo>
                  <a:pt x="21600" y="0"/>
                </a:moveTo>
                <a:lnTo>
                  <a:pt x="21600" y="23578"/>
                </a:lnTo>
                <a:lnTo>
                  <a:pt x="20200" y="22178"/>
                </a:lnTo>
                <a:lnTo>
                  <a:pt x="20200" y="1400"/>
                </a:lnTo>
                <a:close/>
              </a:path>
              <a:path fill="darkenLess" w="21600" h="23578">
                <a:moveTo>
                  <a:pt x="21600" y="23578"/>
                </a:moveTo>
                <a:lnTo>
                  <a:pt x="0" y="23578"/>
                </a:lnTo>
                <a:lnTo>
                  <a:pt x="1400" y="22178"/>
                </a:lnTo>
                <a:lnTo>
                  <a:pt x="20200" y="22178"/>
                </a:lnTo>
                <a:close/>
              </a:path>
              <a:path fill="lighten" w="21600" h="23578">
                <a:moveTo>
                  <a:pt x="0" y="235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8"/>
                </a:lnTo>
                <a:close/>
              </a:path>
              <a:path fill="darken" w="21600" h="23578">
                <a:moveTo>
                  <a:pt x="3794" y="8481"/>
                </a:moveTo>
                <a:lnTo>
                  <a:pt x="7301" y="8481"/>
                </a:lnTo>
                <a:lnTo>
                  <a:pt x="7301" y="13817"/>
                </a:lnTo>
                <a:cubicBezTo>
                  <a:pt x="7301" y="14739"/>
                  <a:pt x="8102" y="15471"/>
                  <a:pt x="9138" y="15471"/>
                </a:cubicBezTo>
                <a:lnTo>
                  <a:pt x="10800" y="15471"/>
                </a:lnTo>
                <a:cubicBezTo>
                  <a:pt x="11836" y="15471"/>
                  <a:pt x="12636" y="14739"/>
                  <a:pt x="12636" y="13817"/>
                </a:cubicBezTo>
                <a:lnTo>
                  <a:pt x="12636" y="8481"/>
                </a:lnTo>
                <a:lnTo>
                  <a:pt x="10800" y="8481"/>
                </a:lnTo>
                <a:lnTo>
                  <a:pt x="14308" y="4974"/>
                </a:lnTo>
                <a:lnTo>
                  <a:pt x="17981" y="8481"/>
                </a:lnTo>
                <a:lnTo>
                  <a:pt x="16144" y="8481"/>
                </a:lnTo>
                <a:lnTo>
                  <a:pt x="16144" y="13817"/>
                </a:lnTo>
                <a:cubicBezTo>
                  <a:pt x="16144" y="16585"/>
                  <a:pt x="13568" y="19143"/>
                  <a:pt x="10800" y="19143"/>
                </a:cubicBezTo>
                <a:lnTo>
                  <a:pt x="9138" y="19143"/>
                </a:lnTo>
                <a:cubicBezTo>
                  <a:pt x="6370" y="19143"/>
                  <a:pt x="3794" y="16585"/>
                  <a:pt x="3794" y="1381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lňte části moří a oceá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0720" y="5373720"/>
            <a:ext cx="87138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strov, souostroví, záliv, moře okrajové, moře vnitřní, oceán, šíje, průplav, průliv, poloostrov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932120" y="1413000"/>
            <a:ext cx="52099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20880" y="-360"/>
            <a:ext cx="9164520" cy="981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Části moří a oceánů - řeš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229360" cy="3591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455400" y="5681520"/>
            <a:ext cx="81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de o zjednodušený nákres Asie. Pokuste se vyhledat v mapě Asie geograf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zvy jednotlivých část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astnosti mořské v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plň chybějící poj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řská voda je ………(především NaCl – chlorid sodný). V teplém tropickém pásu jsou moře teplá po celý rok (…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, nejteplejší je ………….moře, směrem k pólům teplota oceánů klesá. Ve studeném podnebném pásmu moře……..při ….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. Průměrná slanost oceánů je 35%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0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 znamená: v 1 litru vody je…..g soli. Nejslanější je ………….moře (což je vlastně jezero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0" y="2852640"/>
            <a:ext cx="91440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e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řská voda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la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ředevším NaCl – chlorid sodný). V teplém tropickém pásu jsou moře teplá po celý rok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d 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nejteplejší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udé moř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směrem k pólům teplota oceánů klesá. Ve studeném podnebném pásmu moř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amrz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1,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Průměrná slanost oceánů je 35%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0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 znamená: v 1 litru vody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5 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li. Nejslanější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rtvé moř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což je vlastně jezero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4797360"/>
            <a:ext cx="91440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p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sahuje rozpuštěné soli = salinita (průměrná salinita je 35%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 rovníku k pólům se teplota mořské vody snižu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y mořské 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408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8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8240" indent="-408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plň chybějící poj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8240" indent="-40824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. - způsobuje vítr vanoucí přes vodní plochy, vlny naráží na pobřeží, vzniká 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8240" indent="-40824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. - způsobuje podmořská zemětřesení a sopky, rychlost vln 100 km/h, výška 30-40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8240" indent="-40824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. - způsobuje přitažlivost ………a………., střídají se po 6 hodin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8240" indent="-40824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. - příčinou je pravidelné proudění vzduchu, rozdílná teplota a slanost oceánu. Dělíme je na …………….. (např.……..) a ………….. (např………….) proud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8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0" y="3428640"/>
            <a:ext cx="9144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ení a záp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VL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způsobuje vítr vanoucí přes vodní plochy, vlny naráží na pobřeží, vznik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bo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SUN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 Způsobuje podmořská zemětřesení a sopky, rychlost vln 100 km/h, výška 30-40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MUTÍ MOŘ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působuje přitažlivos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ěsí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lun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střídají se po 6 hodin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MOŘSKÉ PROUDY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íčinou je pravidelné proudění vzduchu, rozdílná teplota a slanost oceánu. Dělíme je 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pl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např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olfs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ude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např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abradors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proud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Zaoblený obdélník 2"/>
          <p:cNvGrpSpPr/>
          <p:nvPr/>
        </p:nvGrpSpPr>
        <p:grpSpPr>
          <a:xfrm>
            <a:off x="7107120" y="3687840"/>
            <a:ext cx="1335240" cy="682560"/>
            <a:chOff x="7107120" y="3687840"/>
            <a:chExt cx="1335240" cy="682560"/>
          </a:xfrm>
        </p:grpSpPr>
        <p:pic>
          <p:nvPicPr>
            <p:cNvPr id="61" name="Zaoblený obdélník 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7107120" y="3687840"/>
              <a:ext cx="1335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192800" y="3745080"/>
              <a:ext cx="116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Arial"/>
                </a:rPr>
                <a:t>VIDE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Dmutí moře 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slapové jevy, příliv a odl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Tides"/>
          <p:cNvPicPr/>
          <p:nvPr/>
        </p:nvPicPr>
        <p:blipFill>
          <a:blip r:embed="rId2"/>
          <a:stretch/>
        </p:blipFill>
        <p:spPr>
          <a:xfrm>
            <a:off x="4211640" y="1730520"/>
            <a:ext cx="4457520" cy="3324240"/>
          </a:xfrm>
          <a:prstGeom prst="rect">
            <a:avLst/>
          </a:prstGeom>
          <a:ln w="0">
            <a:noFill/>
          </a:ln>
        </p:spPr>
      </p:pic>
      <p:sp>
        <p:nvSpPr>
          <p:cNvPr id="65" name="Oval 7"/>
          <p:cNvSpPr/>
          <p:nvPr/>
        </p:nvSpPr>
        <p:spPr>
          <a:xfrm>
            <a:off x="1476360" y="2708280"/>
            <a:ext cx="144000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38000" y="5248440"/>
            <a:ext cx="29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ring Tides = skočný příl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ap Tides = hluchý příl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Zaoblený obdélník 9"/>
          <p:cNvGrpSpPr/>
          <p:nvPr/>
        </p:nvGrpSpPr>
        <p:grpSpPr>
          <a:xfrm>
            <a:off x="6705720" y="5619600"/>
            <a:ext cx="2017440" cy="622440"/>
            <a:chOff x="6705720" y="5619600"/>
            <a:chExt cx="2017440" cy="622440"/>
          </a:xfrm>
        </p:grpSpPr>
        <p:pic>
          <p:nvPicPr>
            <p:cNvPr id="68" name="Zaoblený obdélník 9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705720" y="5619600"/>
              <a:ext cx="2017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6784920" y="5673600"/>
              <a:ext cx="1862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Arial"/>
                </a:rPr>
                <a:t>VIDE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Zaoblený obdélník 10"/>
          <p:cNvGrpSpPr/>
          <p:nvPr/>
        </p:nvGrpSpPr>
        <p:grpSpPr>
          <a:xfrm>
            <a:off x="6705720" y="6235560"/>
            <a:ext cx="2017440" cy="622440"/>
            <a:chOff x="6705720" y="6235560"/>
            <a:chExt cx="2017440" cy="622440"/>
          </a:xfrm>
        </p:grpSpPr>
        <p:pic>
          <p:nvPicPr>
            <p:cNvPr id="71" name="Zaoblený obdélník 10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705720" y="6235560"/>
              <a:ext cx="2017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6784920" y="6289560"/>
              <a:ext cx="1862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Arial"/>
                </a:rPr>
                <a:t>INFORM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ořské pro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urrents"/>
          <p:cNvPicPr/>
          <p:nvPr/>
        </p:nvPicPr>
        <p:blipFill>
          <a:blip r:embed="rId2"/>
          <a:stretch/>
        </p:blipFill>
        <p:spPr>
          <a:xfrm>
            <a:off x="250920" y="1700280"/>
            <a:ext cx="4707000" cy="2293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ocean-current"/>
          <p:cNvPicPr/>
          <p:nvPr/>
        </p:nvPicPr>
        <p:blipFill>
          <a:blip r:embed="rId3"/>
          <a:stretch/>
        </p:blipFill>
        <p:spPr>
          <a:xfrm>
            <a:off x="4500720" y="3651120"/>
            <a:ext cx="3809880" cy="2810160"/>
          </a:xfrm>
          <a:prstGeom prst="rect">
            <a:avLst/>
          </a:prstGeom>
          <a:ln w="0">
            <a:noFill/>
          </a:ln>
        </p:spPr>
      </p:pic>
      <p:grpSp>
        <p:nvGrpSpPr>
          <p:cNvPr id="76" name="Zaoblený obdélník 2"/>
          <p:cNvGrpSpPr/>
          <p:nvPr/>
        </p:nvGrpSpPr>
        <p:grpSpPr>
          <a:xfrm>
            <a:off x="195120" y="5340240"/>
            <a:ext cx="2121120" cy="639720"/>
            <a:chOff x="195120" y="5340240"/>
            <a:chExt cx="2121120" cy="639720"/>
          </a:xfrm>
        </p:grpSpPr>
        <p:pic>
          <p:nvPicPr>
            <p:cNvPr id="77" name="Zaoblený obdélník 2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95120" y="5340240"/>
              <a:ext cx="2121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76120" y="5397480"/>
              <a:ext cx="1960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Arial"/>
                </a:rPr>
                <a:t>INTERAKTIVN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Zaoblený obdélník 9"/>
          <p:cNvGrpSpPr/>
          <p:nvPr/>
        </p:nvGrpSpPr>
        <p:grpSpPr>
          <a:xfrm>
            <a:off x="225360" y="5999040"/>
            <a:ext cx="2121120" cy="639720"/>
            <a:chOff x="225360" y="5999040"/>
            <a:chExt cx="2121120" cy="639720"/>
          </a:xfrm>
        </p:grpSpPr>
        <p:pic>
          <p:nvPicPr>
            <p:cNvPr id="80" name="Zaoblený obdélník 9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225360" y="5999040"/>
              <a:ext cx="2121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04920" y="6053040"/>
              <a:ext cx="19605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Arial"/>
                </a:rPr>
                <a:t>INFORM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sunami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157800" y="642780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íce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Z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755640" y="981000"/>
            <a:ext cx="762012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754200" cy="620640"/>
          </a:xfrm>
          <a:custGeom>
            <a:avLst/>
            <a:gdLst>
              <a:gd name="textAreaLeft" fmla="*/ 39960 w 754200"/>
              <a:gd name="textAreaRight" fmla="*/ 714240 w 7542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46" h="21600">
                <a:moveTo>
                  <a:pt x="0" y="0"/>
                </a:moveTo>
                <a:lnTo>
                  <a:pt x="26246" y="0"/>
                </a:lnTo>
                <a:lnTo>
                  <a:pt x="26246" y="21600"/>
                </a:lnTo>
                <a:lnTo>
                  <a:pt x="0" y="21600"/>
                </a:lnTo>
                <a:close/>
              </a:path>
              <a:path fill="lightenLess" w="26246" h="21600">
                <a:moveTo>
                  <a:pt x="0" y="0"/>
                </a:moveTo>
                <a:lnTo>
                  <a:pt x="26246" y="0"/>
                </a:lnTo>
                <a:lnTo>
                  <a:pt x="24846" y="1400"/>
                </a:lnTo>
                <a:lnTo>
                  <a:pt x="1400" y="1400"/>
                </a:lnTo>
                <a:close/>
              </a:path>
              <a:path fill="darken" w="26246" h="21600">
                <a:moveTo>
                  <a:pt x="26246" y="0"/>
                </a:moveTo>
                <a:lnTo>
                  <a:pt x="26246" y="21600"/>
                </a:lnTo>
                <a:lnTo>
                  <a:pt x="24846" y="20200"/>
                </a:lnTo>
                <a:lnTo>
                  <a:pt x="24846" y="1400"/>
                </a:lnTo>
                <a:close/>
              </a:path>
              <a:path fill="darkenLess" w="26246" h="21600">
                <a:moveTo>
                  <a:pt x="2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6" y="20200"/>
                </a:lnTo>
                <a:close/>
              </a:path>
              <a:path fill="lighten" w="2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46" h="21600">
                <a:moveTo>
                  <a:pt x="6116" y="3794"/>
                </a:moveTo>
                <a:lnTo>
                  <a:pt x="20129" y="10800"/>
                </a:lnTo>
                <a:lnTo>
                  <a:pt x="611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Zaoblený obdélník 8"/>
          <p:cNvGrpSpPr/>
          <p:nvPr/>
        </p:nvGrpSpPr>
        <p:grpSpPr>
          <a:xfrm>
            <a:off x="701640" y="5353200"/>
            <a:ext cx="2017800" cy="620640"/>
            <a:chOff x="701640" y="5353200"/>
            <a:chExt cx="2017800" cy="620640"/>
          </a:xfrm>
        </p:grpSpPr>
        <p:pic>
          <p:nvPicPr>
            <p:cNvPr id="87" name="Zaoblený obdélník 8" descr=""/>
            <p:cNvPicPr/>
            <p:nvPr/>
          </p:nvPicPr>
          <p:blipFill>
            <a:blip r:embed="rId4"/>
            <a:stretch/>
          </p:blipFill>
          <p:spPr>
            <a:xfrm>
              <a:off x="701640" y="5353200"/>
              <a:ext cx="201780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77960" y="5408640"/>
              <a:ext cx="18619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Arial"/>
                </a:rPr>
                <a:t>VIDE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Zaoblený obdélník 10"/>
          <p:cNvGrpSpPr/>
          <p:nvPr/>
        </p:nvGrpSpPr>
        <p:grpSpPr>
          <a:xfrm>
            <a:off x="701640" y="5979960"/>
            <a:ext cx="2017800" cy="622440"/>
            <a:chOff x="701640" y="5979960"/>
            <a:chExt cx="2017800" cy="622440"/>
          </a:xfrm>
        </p:grpSpPr>
        <p:pic>
          <p:nvPicPr>
            <p:cNvPr id="90" name="Zaoblený obdélník 10" descr=""/>
            <p:cNvPicPr/>
            <p:nvPr/>
          </p:nvPicPr>
          <p:blipFill>
            <a:blip r:embed="rId5"/>
            <a:stretch/>
          </p:blipFill>
          <p:spPr>
            <a:xfrm>
              <a:off x="701640" y="5979960"/>
              <a:ext cx="201780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77960" y="6032520"/>
              <a:ext cx="18619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Arial"/>
                </a:rPr>
                <a:t>INFORM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8101080" cy="68547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5">
            <a:hlinkClick r:id="" action="ppaction://hlinkshowjump?jump=nextslide"/>
          </p:cNvPr>
          <p:cNvSpPr/>
          <p:nvPr/>
        </p:nvSpPr>
        <p:spPr>
          <a:xfrm>
            <a:off x="8244000" y="5877000"/>
            <a:ext cx="755640" cy="647640"/>
          </a:xfrm>
          <a:custGeom>
            <a:avLst/>
            <a:gdLst>
              <a:gd name="textAreaLeft" fmla="*/ 41760 w 755640"/>
              <a:gd name="textAreaRight" fmla="*/ 713880 w 755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5200" h="21600">
                <a:moveTo>
                  <a:pt x="0" y="0"/>
                </a:moveTo>
                <a:lnTo>
                  <a:pt x="25200" y="0"/>
                </a:lnTo>
                <a:lnTo>
                  <a:pt x="25200" y="21600"/>
                </a:lnTo>
                <a:lnTo>
                  <a:pt x="0" y="21600"/>
                </a:lnTo>
                <a:close/>
              </a:path>
              <a:path fill="lightenLess" w="25200" h="21600">
                <a:moveTo>
                  <a:pt x="0" y="0"/>
                </a:moveTo>
                <a:lnTo>
                  <a:pt x="25200" y="0"/>
                </a:lnTo>
                <a:lnTo>
                  <a:pt x="23800" y="1400"/>
                </a:lnTo>
                <a:lnTo>
                  <a:pt x="1400" y="1400"/>
                </a:lnTo>
                <a:close/>
              </a:path>
              <a:path fill="darken" w="25200" h="21600">
                <a:moveTo>
                  <a:pt x="25200" y="0"/>
                </a:moveTo>
                <a:lnTo>
                  <a:pt x="25200" y="21600"/>
                </a:lnTo>
                <a:lnTo>
                  <a:pt x="23800" y="20200"/>
                </a:lnTo>
                <a:lnTo>
                  <a:pt x="23800" y="1400"/>
                </a:lnTo>
                <a:close/>
              </a:path>
              <a:path fill="darkenLess" w="25200" h="21600">
                <a:moveTo>
                  <a:pt x="25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0" y="20200"/>
                </a:lnTo>
                <a:close/>
              </a:path>
              <a:path fill="lighten" w="25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0" h="21600">
                <a:moveTo>
                  <a:pt x="5594" y="3794"/>
                </a:moveTo>
                <a:lnTo>
                  <a:pt x="19606" y="10800"/>
                </a:lnTo>
                <a:lnTo>
                  <a:pt x="5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1:20:36Z</dcterms:created>
  <dc:creator>jj</dc:creator>
  <dc:description/>
  <dc:language>en-US</dc:language>
  <cp:lastModifiedBy>Uživatel</cp:lastModifiedBy>
  <dcterms:modified xsi:type="dcterms:W3CDTF">2014-02-01T17:38:58Z</dcterms:modified>
  <cp:revision>22</cp:revision>
  <dc:subject/>
  <dc:title>OCEÁNY A MOŘE</dc:title>
</cp:coreProperties>
</file>