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0D6-38D2-4201-91DE-2C61C241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E77-1CA4-43CF-B888-FE05931B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597-C5DD-4886-8EB3-1B415079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76F-31B9-4169-B5DF-0B0F7F0D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E53-1A3D-4AE0-85C8-F9B243C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5EB-938B-4139-83C7-9B62D99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476-2DFB-4642-99C7-4D68CD8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C72-4ACD-44A6-9F8A-A5E3E05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182-0308-486A-9F81-1751451B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647-8C07-42EF-9215-460A937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34-1376-4002-822D-AB3250F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A02-648C-436A-8469-2204FF7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719-2ECF-45A9-9C1D-D7659008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CHÝ OCEÁN (PACIFI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Tichy_ocean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146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awai" descr=""/>
          <p:cNvPicPr/>
          <p:nvPr/>
        </p:nvPicPr>
        <p:blipFill>
          <a:blip r:embed="rId2"/>
          <a:stretch/>
        </p:blipFill>
        <p:spPr>
          <a:xfrm>
            <a:off x="0" y="685800"/>
            <a:ext cx="510552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14680" y="17146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02050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9320" y="4038480"/>
            <a:ext cx="2109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jdi na map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ými oceány a světadíly je Tichý oceán ohraničen? Jaká je poloha Tichého oceán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ljašský záliv, Panamský průplav, Drakeův průliv, Tasmanovo moře, Korálové moře, Filipínské moře, Japonské moře, Žluté moře, Ochotské moře, Beringovo moř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ý Zéland, Nová Guinea, Filipíny, Japonsko, Mikronésie, Melanésie, Havajské ostrovy, Galapá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ložen přes všechny klimatické pá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enité dno s maximální hloubkou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iánský příkop (11 033 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hladině je roztroušeno přes 10 000 ostrovů (tzv. Oceáni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él zlomů desek vzniká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mětřesná a sopečná činnost (Japonsko, Amerika, Havajské ostrovy aj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awaii_sts26_big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7400" y="2241720"/>
            <a:ext cx="50292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spodářské využit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bolov 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větové produk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rava (Asie – Austrálie – Amer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tovní 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vá hra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deš některé významné přístavy na březích Tichého oceá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nama-canal-0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53" name="markfoo" descr=""/>
          <p:cNvPicPr/>
          <p:nvPr/>
        </p:nvPicPr>
        <p:blipFill>
          <a:blip r:embed="rId3"/>
          <a:stretch/>
        </p:blipFill>
        <p:spPr>
          <a:xfrm>
            <a:off x="5029200" y="3774960"/>
            <a:ext cx="4114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3:10:52Z</dcterms:created>
  <dc:creator>kk</dc:creator>
  <dc:description/>
  <dc:language>en-US</dc:language>
  <cp:lastModifiedBy>kk</cp:lastModifiedBy>
  <dcterms:modified xsi:type="dcterms:W3CDTF">2006-05-16T13:36:40Z</dcterms:modified>
  <cp:revision>5</cp:revision>
  <dc:subject/>
  <dc:title>TICHÝ OCEÁN (PACIFIK)</dc:title>
</cp:coreProperties>
</file>