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6B7-B058-45B0-84CC-26A979A3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98D-73EE-4830-B68E-6F730AD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5CC-50F8-4A9D-9F66-FD372D18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969-21F0-4BBC-B55B-2ED66333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A84-52A0-422D-9DA5-D58DEB16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986-4FAA-402A-80CB-06027C2F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ADE-EC43-47B3-A6B2-30139A4E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BDD-7EF6-4652-ABFA-52DD4818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E4D-3B23-4427-9744-460743A2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1F9-84D3-467B-A95E-8F3BFFD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E23-31D9-4BA3-BF57-86C5F3ED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404-31CB-4292-BEE4-AD69611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3AF9-D221-4DDE-AB1E-92400D0D7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LANTICKÝ A SEVERNÍ LEDOVÝ OCE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titanic-2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LANTICKÝ OCE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největší (94 mil. k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liéf 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tředoatlantický hřb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nejdelší pohoří světa – pohyb lit. desek od sebe)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elf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lubokomořský příko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Portorick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zn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oprava (přístavy- Rotterd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žba (ropa, plyn, štěr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ybolo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6483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368800">
            <a:off x="3614400" y="49914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ečištění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uez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434340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boat4" descr=""/>
          <p:cNvPicPr/>
          <p:nvPr/>
        </p:nvPicPr>
        <p:blipFill>
          <a:blip r:embed="rId2"/>
          <a:stretch/>
        </p:blipFill>
        <p:spPr>
          <a:xfrm>
            <a:off x="4800600" y="3602160"/>
            <a:ext cx="4343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NÍ LEDOVÝ OCE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menší a nejchladnějš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ktický klimatický pás (SP – R. Peary 1909, SPK)     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RK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zn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ybolov (velryb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zk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avy (Murmansk a Archangelsk)      Golfský proud, ledob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590920"/>
            <a:ext cx="609840" cy="257040"/>
          </a:xfrm>
          <a:prstGeom prst="rightArrow">
            <a:avLst>
              <a:gd name="adj1" fmla="val 50000"/>
              <a:gd name="adj2" fmla="val 59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5181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edoborec%20z%20boku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572000" cy="3033720"/>
          </a:xfrm>
          <a:prstGeom prst="rect">
            <a:avLst/>
          </a:prstGeom>
          <a:ln w="0">
            <a:noFill/>
          </a:ln>
        </p:spPr>
      </p:pic>
      <p:pic>
        <p:nvPicPr>
          <p:cNvPr id="54" name="north-pole-sub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6:20:55Z</dcterms:created>
  <dc:creator>kk</dc:creator>
  <dc:description/>
  <dc:language>en-US</dc:language>
  <cp:lastModifiedBy>kk</cp:lastModifiedBy>
  <dcterms:modified xsi:type="dcterms:W3CDTF">2006-01-30T17:00:11Z</dcterms:modified>
  <cp:revision>2</cp:revision>
  <dc:subject/>
  <dc:title>ATLANTICKÝ A SEVERNÍ LEDOVÝ OCEÁN</dc:title>
</cp:coreProperties>
</file>