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C89-5C84-49FC-AAF5-4B36F14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E7F-4F6F-43FD-B105-1F8C6BCB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004-804E-40B7-BC59-3130411E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065-7CC7-40D4-83BD-53B936F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935-0D73-45DD-9D6A-5513B87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6F5-58E3-4AF4-845D-40D3A436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59B-055F-47AC-ABBD-7ECC36E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257-7554-4D99-A09B-D60B2D6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26F-E54D-40E6-9359-C09972DA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189-1750-4F0A-AF02-5AC6D59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0C3-8254-49B6-B050-F43874A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C1D-B8CF-45D4-AC60-88365A9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BF0-D78E-424A-9049-0485FCA70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K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533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teplejší oce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ndicky_ocean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ptrip5018b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jdi na mapě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dé moře, Bab al-Mandab, Adenský záliv, Arabské moře, Perský záliv, Suezský průplav, Bengálský záliv, Velký australský záliv, Mosambický průl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dagaskar, Zanzibar, Komory, Reúnion, Cejlon, Sumatra, Maledivy, Somálský poloostrov, Arabský poloostrov, Přední Indie, Zadní Ind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hlubší místo Jávský příkop (7 450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ží převážně na jižní polokouli (tropy, subtropy = prohřívání vody). To umožňuje život korálů (atol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002061314174813584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4000680" cy="2708280"/>
          </a:xfrm>
          <a:prstGeom prst="rect">
            <a:avLst/>
          </a:prstGeom>
          <a:ln w="0">
            <a:noFill/>
          </a:ln>
        </p:spPr>
      </p:pic>
      <p:pic>
        <p:nvPicPr>
          <p:cNvPr id="49" name="p200109MK009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987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ký význa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rava (ropa: Perský záliv – Japonsko, Evro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lf – těžba ropy a zemního ply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né přístavy (terminál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ybol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aldez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876920" cy="3230640"/>
          </a:xfrm>
          <a:prstGeom prst="rect">
            <a:avLst/>
          </a:prstGeom>
          <a:ln w="0">
            <a:noFill/>
          </a:ln>
        </p:spPr>
      </p:pic>
      <p:pic>
        <p:nvPicPr>
          <p:cNvPr id="52" name="pdvsaBc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1148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9:20:33Z</dcterms:created>
  <dc:creator>kk</dc:creator>
  <dc:description/>
  <dc:language>en-US</dc:language>
  <cp:lastModifiedBy>kk</cp:lastModifiedBy>
  <dcterms:modified xsi:type="dcterms:W3CDTF">2006-05-14T20:11:58Z</dcterms:modified>
  <cp:revision>4</cp:revision>
  <dc:subject/>
  <dc:title>INDICKÝ OCEÁN</dc:title>
</cp:coreProperties>
</file>