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7A2-DE1A-4E84-B08B-DF866310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EEE4-10A9-4AF9-AEC6-D86EAE87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D7E-A9F2-4E38-B781-4A08EB7B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16BF-9879-47FE-A044-1DE8B69B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A0F-EC1A-4386-B996-E5B996B9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06D5-ABC5-4190-8C51-E05B5FA3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F4B-3706-41E3-9480-652B7BAB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256-BE25-4E46-90F9-3CEB6C5B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2F7-DA8A-4054-8321-4A1B3BBC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1C17-683C-404B-8E8F-68A7F925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8ED6-1CBA-438A-9C85-F5A2210B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7F6-488E-45CA-B003-82EA4415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BDDF-E030-468A-91F0-55DE5E32B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brané státy Oceá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238560" cy="2162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867280" y="2060640"/>
            <a:ext cx="3024360" cy="216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08000" y="4292640"/>
            <a:ext cx="33847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ový Zéland - Well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verní a Jižní ostrov leží v mírném oceánském pásu. Vulkanismus (sopky, gejzíry), fjor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ůvodní obyvatelé Maorové + přistěhovalci z Evrop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ov ovcí a C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2367000" cy="2952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16360" y="4016520"/>
            <a:ext cx="352764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apua-Nová Guinea : Port Moresb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větší části leží na ostrově Nová Guinea + dalších ostrovech (převážně hornat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pické podnebí = zemědělství. Těžba nerost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48360" y="2060640"/>
            <a:ext cx="26874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idži - Su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trovy sopečného a korálového původu leží v tropech (deštný l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en z nejrozvinutějších států Oceánie (těžba nerostů, zemědělství, C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88000" y="1125360"/>
            <a:ext cx="3313080" cy="2490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331308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6:54:58Z</dcterms:created>
  <dc:creator>kk</dc:creator>
  <dc:description/>
  <dc:language>en-US</dc:language>
  <cp:lastModifiedBy>kk</cp:lastModifiedBy>
  <dcterms:modified xsi:type="dcterms:W3CDTF">2006-06-07T07:18:49Z</dcterms:modified>
  <cp:revision>4</cp:revision>
  <dc:subject/>
  <dc:title>Vybrané státy Oceánie</dc:title>
</cp:coreProperties>
</file>