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7EF-84CC-4BE7-8B15-2176BCFB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740-6E70-4C87-8733-6FD0FFD7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368-1353-4F28-A5A3-2C37C5EA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AF0-1B0B-457F-B16E-D622BAAA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FAC-2E06-4F15-9BEE-0427F30B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6C8-4BCD-41F2-BB3D-8417D43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4B5-6EFC-4EFC-BE69-0D4B85E9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EED-A3E0-4C71-8EE8-57E79A27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4EF-4367-41B8-A26A-85C6067C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E5E-0B9B-41D6-AE15-E49B134F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D10-82A7-498A-92A3-4851B11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0D9-8A5F-4DD0-A4B1-03C3357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1B0-F01F-4DDD-A32D-382EAC25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Oce&#225;ni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Á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0920" y="6184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íce 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723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rodní 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ebí se liší podle vzdálenosti od rovníku a směru větr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y = bohaté na srážky (Havaj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try = tišiny, pasáty, tajfu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y ostrov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vnins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rnatý povrch, spíše na západě Oceánie (Nová Guine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rálov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ropická obl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peč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louhé ostrovní řetězce (Havajské 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92840" y="3213000"/>
            <a:ext cx="3251160" cy="364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032360" cy="267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32000" y="4362480"/>
            <a:ext cx="3333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ánii dělíme na 3 cel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ro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né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yvatelst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šlo z JV Asie a  J. Ameriky asi před 35 tisíci lety. Rozložení domorodců narušila koloniz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949400" cy="268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671640" cy="26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67280" y="4005360"/>
            <a:ext cx="249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vní zdroj obživy je ZEMĚDĚLSTVÍ (kokosové palmy, banánovník, rybolov, ovce aj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istický r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ěžba nerostných surovin (drahé kovy, k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211640" cy="287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4368960"/>
            <a:ext cx="3816360" cy="248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7083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7:23:27Z</dcterms:created>
  <dc:creator>kk</dc:creator>
  <dc:description/>
  <dc:language>en-US</dc:language>
  <cp:lastModifiedBy>kk</cp:lastModifiedBy>
  <dcterms:modified xsi:type="dcterms:W3CDTF">2006-06-04T19:03:42Z</dcterms:modified>
  <cp:revision>6</cp:revision>
  <dc:subject/>
  <dc:title>OCEÁNIE</dc:title>
</cp:coreProperties>
</file>