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FAF3-74C2-43BB-AB91-6ED25EA4D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35CE-A91F-4D78-91EC-584CD163D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3A09-3263-4200-A2E2-8179C06C1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DA54-6A1B-4951-BAE4-48572FA81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92D3-8BDA-4762-B990-A75A38FD1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A38E-2346-4A0C-BCF3-BDA85963C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231E-E037-445C-AD85-3B0694F8C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EA5E-0903-47C4-982C-96D0DFF7A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1E69-1245-4AA9-9132-F190978A9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BEF0-DCB5-423A-8C09-CC06D657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9AB9-9056-47EC-BE07-3B2B8D9B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3EBA-6C7A-446A-8592-AF1CA3B7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092F0-EB4C-4996-9D81-CE885D4C24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4572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PA A JEJÍ OBSA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300px-Mediterranian_Sea_16.61811E_38.99124N" descr=""/>
          <p:cNvPicPr/>
          <p:nvPr/>
        </p:nvPicPr>
        <p:blipFill>
          <a:blip r:embed="rId1"/>
          <a:stretch/>
        </p:blipFill>
        <p:spPr>
          <a:xfrm>
            <a:off x="4572000" y="3352680"/>
            <a:ext cx="4495680" cy="3372120"/>
          </a:xfrm>
          <a:prstGeom prst="rect">
            <a:avLst/>
          </a:prstGeom>
          <a:ln w="0">
            <a:noFill/>
          </a:ln>
        </p:spPr>
      </p:pic>
      <p:pic>
        <p:nvPicPr>
          <p:cNvPr id="43" name="map1" descr=""/>
          <p:cNvPicPr/>
          <p:nvPr/>
        </p:nvPicPr>
        <p:blipFill>
          <a:blip r:embed="rId2"/>
          <a:stretch/>
        </p:blipFill>
        <p:spPr>
          <a:xfrm>
            <a:off x="76320" y="685800"/>
            <a:ext cx="4647960" cy="3357720"/>
          </a:xfrm>
          <a:prstGeom prst="rect">
            <a:avLst/>
          </a:prstGeom>
          <a:ln w="0">
            <a:noFill/>
          </a:ln>
        </p:spPr>
      </p:pic>
      <p:pic>
        <p:nvPicPr>
          <p:cNvPr id="44" name="teodolit_pion" descr=""/>
          <p:cNvPicPr/>
          <p:nvPr/>
        </p:nvPicPr>
        <p:blipFill>
          <a:blip r:embed="rId3"/>
          <a:stretch/>
        </p:blipFill>
        <p:spPr>
          <a:xfrm>
            <a:off x="6553080" y="76320"/>
            <a:ext cx="2300400" cy="3124080"/>
          </a:xfrm>
          <a:prstGeom prst="rect">
            <a:avLst/>
          </a:prstGeom>
          <a:ln w="0">
            <a:noFill/>
          </a:ln>
        </p:spPr>
      </p:pic>
      <p:pic>
        <p:nvPicPr>
          <p:cNvPr id="45" name="teodolit_foif2" descr=""/>
          <p:cNvPicPr/>
          <p:nvPr/>
        </p:nvPicPr>
        <p:blipFill>
          <a:blip r:embed="rId4"/>
          <a:stretch/>
        </p:blipFill>
        <p:spPr>
          <a:xfrm>
            <a:off x="1143000" y="4114800"/>
            <a:ext cx="194796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686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pa je znázornění zemského povrchu v rovin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ři jejich tvorbě dochází ke zkreslení  (čím menší území mapa znázorňuje, tím menší je zkreslení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brazení na mapě je zmenšeno proti skutečnosti – měřítko ma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šechny mapy jsou orientovány k se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brno" descr=""/>
          <p:cNvPicPr/>
          <p:nvPr/>
        </p:nvPicPr>
        <p:blipFill>
          <a:blip r:embed="rId1"/>
          <a:stretch/>
        </p:blipFill>
        <p:spPr>
          <a:xfrm>
            <a:off x="76320" y="2895480"/>
            <a:ext cx="4673520" cy="3249720"/>
          </a:xfrm>
          <a:prstGeom prst="rect">
            <a:avLst/>
          </a:prstGeom>
          <a:ln w="0">
            <a:noFill/>
          </a:ln>
        </p:spPr>
      </p:pic>
      <p:pic>
        <p:nvPicPr>
          <p:cNvPr id="48" name="mapa-1" descr=""/>
          <p:cNvPicPr/>
          <p:nvPr/>
        </p:nvPicPr>
        <p:blipFill>
          <a:blip r:embed="rId2"/>
          <a:stretch/>
        </p:blipFill>
        <p:spPr>
          <a:xfrm>
            <a:off x="4191120" y="4343400"/>
            <a:ext cx="4857480" cy="24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5638320"/>
            <a:ext cx="3809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BSAH MAP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3808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 mapách znázorňujeme terén  (povrch) se vším, co kolem sebe vidím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ÝŠKOP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OHOP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mapa" descr=""/>
          <p:cNvPicPr/>
          <p:nvPr/>
        </p:nvPicPr>
        <p:blipFill>
          <a:blip r:embed="rId1"/>
          <a:stretch/>
        </p:blipFill>
        <p:spPr>
          <a:xfrm>
            <a:off x="2895480" y="2286000"/>
            <a:ext cx="6019920" cy="34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ÝŠKOP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44956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kladem pro určování výškopisu je NADMOŘSKÁ VÝŠ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názorňujeme pomocí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rev (čím vyšší tím tmavš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óty (výškový bod označený tečkou s popis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rstevnice (čára spojující místa se stejnou výško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" descr=""/>
          <p:cNvPicPr/>
          <p:nvPr/>
        </p:nvPicPr>
        <p:blipFill>
          <a:blip r:embed="rId1"/>
          <a:stretch/>
        </p:blipFill>
        <p:spPr>
          <a:xfrm>
            <a:off x="4267080" y="1676520"/>
            <a:ext cx="4876920" cy="41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OHOP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609120"/>
            <a:ext cx="89917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názorní co vidíme v terénu (toky, silnice, sídla, lesy atd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robné mapy – zobrazeno vš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řehledné mapy (světadíly) – důlež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jádřen pomocí SMLUVENÝCH ZNAČEK (legen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obr" descr=""/>
          <p:cNvPicPr/>
          <p:nvPr/>
        </p:nvPicPr>
        <p:blipFill>
          <a:blip r:embed="rId1"/>
          <a:stretch/>
        </p:blipFill>
        <p:spPr>
          <a:xfrm>
            <a:off x="1981080" y="2239920"/>
            <a:ext cx="556272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P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z něj by jsme se v mapách nevyznal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ázvy se rozlišují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likostí pís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varem pís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rvou pís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ůležitá je čitelnost a přehlednost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obr" descr=""/>
          <p:cNvPicPr/>
          <p:nvPr/>
        </p:nvPicPr>
        <p:blipFill>
          <a:blip r:embed="rId1"/>
          <a:stretch/>
        </p:blipFill>
        <p:spPr>
          <a:xfrm>
            <a:off x="3657600" y="1600200"/>
            <a:ext cx="5494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PA A JEJÍ OBSA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5960" y="114300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pa je zmenšené znázornění zemského povrchu v rovině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mapách rozlišuje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Výškopis (barvy, kóty, vrstevni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rstevnice je myšlená čára spojující místa se stejnou nadmořskou výško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 Polohopis (zakreslení toho co vidíme pomocí smluvených značek – legend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) Popis (názv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pami se zabývá - KARTOGRAF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04:55:25Z</dcterms:created>
  <dc:creator>kk</dc:creator>
  <dc:description/>
  <dc:language>en-US</dc:language>
  <cp:lastModifiedBy>kk</cp:lastModifiedBy>
  <dcterms:modified xsi:type="dcterms:W3CDTF">2005-10-03T06:25:33Z</dcterms:modified>
  <cp:revision>1</cp:revision>
  <dc:subject/>
  <dc:title>MAPA A JEJÍ OBSAH</dc:title>
</cp:coreProperties>
</file>