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17F6-F1BE-45EE-8625-5C388F52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5D13-AF0F-4940-93F5-3C675768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E67E-3A1D-4B16-B4C7-0D1D28BA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F0F4-C6CF-4337-86E4-26CAA5AF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24E-D079-48D2-A9CC-433AD5DC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4B66-2E19-4101-824E-C0FE1AAB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0FF5-D842-47DD-9BCB-04464822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2FF7-B5E1-4960-9C0F-380D1504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512D-3959-48F8-9827-797C8094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950B-969D-4E54-B134-3CEB7863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EE4E-D5DA-48E4-A83F-8A57D2BF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E8C3-356E-4549-A7E6-126556C9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9832-6049-4663-97F7-86BE81684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jvyšší pohoří a hory dle světadíl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plň tabul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547640"/>
            <a:ext cx="914400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609560"/>
            <a:ext cx="9144000" cy="3638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t. Eve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Soubor:Everest North Face toward Base Camp Tibet Luca Galuzzi 2006.jpg"/>
          <p:cNvPicPr/>
          <p:nvPr/>
        </p:nvPicPr>
        <p:blipFill>
          <a:blip r:embed="rId1"/>
          <a:stretch/>
        </p:blipFill>
        <p:spPr>
          <a:xfrm>
            <a:off x="0" y="1197000"/>
            <a:ext cx="7620120" cy="507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88000" y="2638440"/>
            <a:ext cx="28576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hu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File:Mount Kilimanjaro.jpg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4101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File:UhuruPeak.jpg"/>
          <p:cNvPicPr/>
          <p:nvPr/>
        </p:nvPicPr>
        <p:blipFill>
          <a:blip r:embed="rId2"/>
          <a:stretch/>
        </p:blipFill>
        <p:spPr>
          <a:xfrm>
            <a:off x="0" y="4184640"/>
            <a:ext cx="35640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conca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File:Aconcagua 13.JPG"/>
          <p:cNvPicPr/>
          <p:nvPr/>
        </p:nvPicPr>
        <p:blipFill>
          <a:blip r:embed="rId1"/>
          <a:stretch/>
        </p:blipFill>
        <p:spPr>
          <a:xfrm>
            <a:off x="0" y="54936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 Looking back from the summit..."/>
          <p:cNvPicPr/>
          <p:nvPr/>
        </p:nvPicPr>
        <p:blipFill>
          <a:blip r:embed="rId2"/>
          <a:stretch/>
        </p:blipFill>
        <p:spPr>
          <a:xfrm>
            <a:off x="5003640" y="3753000"/>
            <a:ext cx="41403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t. Blan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Soubor:Mont Blanc oct 2004.JPG"/>
          <p:cNvPicPr/>
          <p:nvPr/>
        </p:nvPicPr>
        <p:blipFill>
          <a:blip r:embed="rId1"/>
          <a:stretch/>
        </p:blipFill>
        <p:spPr>
          <a:xfrm>
            <a:off x="68436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t. Mc Kin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File:Mount McKinley and Denali National Park Road 2048px.jpg"/>
          <p:cNvPicPr/>
          <p:nvPr/>
        </p:nvPicPr>
        <p:blipFill>
          <a:blip r:embed="rId1"/>
          <a:stretch/>
        </p:blipFill>
        <p:spPr>
          <a:xfrm>
            <a:off x="0" y="755640"/>
            <a:ext cx="8136000" cy="6102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286680" y="4724280"/>
            <a:ext cx="2857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t. Kosciu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Photo by &lt;a href=&quot;people.html?person=9190&quot;&gt;Terry Daniel&lt;/a&gt;"/>
          <p:cNvPicPr/>
          <p:nvPr/>
        </p:nvPicPr>
        <p:blipFill>
          <a:blip r:embed="rId1"/>
          <a:stretch/>
        </p:blipFill>
        <p:spPr>
          <a:xfrm>
            <a:off x="0" y="981000"/>
            <a:ext cx="5329080" cy="3997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Photo by Rudolf Willing"/>
          <p:cNvPicPr/>
          <p:nvPr/>
        </p:nvPicPr>
        <p:blipFill>
          <a:blip r:embed="rId2"/>
          <a:stretch/>
        </p:blipFill>
        <p:spPr>
          <a:xfrm>
            <a:off x="4175280" y="3554280"/>
            <a:ext cx="496872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49:25Z</dcterms:created>
  <dc:creator>jj</dc:creator>
  <dc:description/>
  <dc:language>en-US</dc:language>
  <cp:lastModifiedBy>jj</cp:lastModifiedBy>
  <dcterms:modified xsi:type="dcterms:W3CDTF">2010-12-14T14:12:16Z</dcterms:modified>
  <cp:revision>2</cp:revision>
  <dc:subject/>
  <dc:title>Nejvyšší pohoří a hory dle světadílů </dc:title>
</cp:coreProperties>
</file>