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A7A-ACEF-4F96-8FD6-48DE27BC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AC4-A491-42BE-ADF4-9D54B82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0FB-DCE3-4884-98AE-FC1CAC35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EF5-BDFA-4274-9AE7-B1E042DA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894-B8A9-4D6C-A6EF-982F604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CC8-B28F-4EC3-82A3-B3BC0612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150-2B10-4184-BE1D-B734E006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A2A-0AC3-4467-BD66-C4564B07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3AA-C997-489B-AB2A-B316B06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954-02D7-4F30-85B8-25238E8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66-B757-4680-B058-32243D0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B40-3184-479D-B1D8-8419A2E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DC2-F4A9-4FBD-AECF-EE21D869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13390_4" descr=""/>
          <p:cNvPicPr/>
          <p:nvPr/>
        </p:nvPicPr>
        <p:blipFill>
          <a:blip r:embed="rId1"/>
          <a:stretch/>
        </p:blipFill>
        <p:spPr>
          <a:xfrm>
            <a:off x="152280" y="5587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5638680" y="152280"/>
            <a:ext cx="3349800" cy="4313520"/>
          </a:xfrm>
          <a:prstGeom prst="rect">
            <a:avLst/>
          </a:prstGeom>
          <a:ln w="0">
            <a:noFill/>
          </a:ln>
        </p:spPr>
      </p:pic>
      <p:pic>
        <p:nvPicPr>
          <p:cNvPr id="43" name="28-monsun" descr=""/>
          <p:cNvPicPr/>
          <p:nvPr/>
        </p:nvPicPr>
        <p:blipFill>
          <a:blip r:embed="rId3"/>
          <a:stretch/>
        </p:blipFill>
        <p:spPr>
          <a:xfrm>
            <a:off x="5257800" y="4572000"/>
            <a:ext cx="3657600" cy="206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4952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nzu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odně a zápl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6400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a JV Asie (Přední a Zadní Indie, Čína, Korea, Japonsko, Indonésie) je ovlivněna tzv.  MONZU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tní monz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ysoké srážky (z moře nad pevni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imní monz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ucho a chladno (z pevniny nad moř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get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monzunové lesy (podobné tropickým nejsou tak bujn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Vysoce zemědělsky využívané (rýžová pole – sklizeň i 3x do rok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víř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jako v tropech + savci (slon, tygr, buv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3316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514600" cy="487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1295280"/>
            <a:ext cx="5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2280" y="4876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990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7240" y="33177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8:54:14Z</dcterms:created>
  <dc:creator>kk</dc:creator>
  <dc:description/>
  <dc:language>en-US</dc:language>
  <cp:lastModifiedBy>kk</cp:lastModifiedBy>
  <dcterms:modified xsi:type="dcterms:W3CDTF">2006-01-24T18:55:33Z</dcterms:modified>
  <cp:revision>1</cp:revision>
  <dc:subject/>
  <dc:title>Monzuny  povodně a záplavy</dc:title>
</cp:coreProperties>
</file>