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947-28E7-4C9B-839E-B86478B4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080-0972-4270-98A3-093AC696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7B3-4A50-4906-A654-B78FD2B8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73F-1DC4-4122-9E2C-3760D8D6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280-9095-48AF-B914-0AA08E8A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7D2-5044-49F4-AA12-B1BA2605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C47-753F-4885-8A12-E6A41AB7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EC7-A2BC-4E29-B136-30ED7636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367-08C6-462D-BB9C-96905FEB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CE3-D591-49EC-A9B8-988C0C49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72E-593B-4741-B8A5-393952A4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32E-91F2-48CD-A5B0-35E63D5E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EE25-4A03-4D05-B70E-8E1B5DECA1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ffff"/>
                </a:solidFill>
                <a:latin typeface="Times New Roman"/>
              </a:rPr>
              <a:t>LESY MÍRNÉHO PÁS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Times New Roman"/>
              </a:rPr>
              <a:t>Lesy, louky, 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ží 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írném podnebném pás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4 roční období)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římořském a přechodné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dostatek vláhy a menší rozdíly teplot) – vyhovuj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ISTNATÝM LESŮM MÍRNÉHO PÁS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buk, du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původních lesů zůstaly jen zbytky (kácení, žďáření) – dnes louky, pole, vinice, pastviny – nahrazeny jehličnatými lesy (smrkovými monokulturam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vířata – jelen, srnec, prase divoké, jezevec, liška, kuna, veverka, ptáci, vlk, medvěd at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http://images.google.com/url?q=http://www.sos-sumava.cz/polomy/polom100_p.jpg"/>
          <p:cNvPicPr/>
          <p:nvPr/>
        </p:nvPicPr>
        <p:blipFill>
          <a:blip r:embed="rId1"/>
          <a:stretch/>
        </p:blipFill>
        <p:spPr>
          <a:xfrm>
            <a:off x="4419720" y="3540240"/>
            <a:ext cx="4572000" cy="3211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209.15.42.2/images/Artworks/WoodjpgEmailReady/Wood%207685f%20Butternut%20Mountain%20Vermont%20New%20England%20US%20Autumn%20Photograph.jpg"/>
          <p:cNvPicPr/>
          <p:nvPr/>
        </p:nvPicPr>
        <p:blipFill>
          <a:blip r:embed="rId2"/>
          <a:stretch/>
        </p:blipFill>
        <p:spPr>
          <a:xfrm>
            <a:off x="4724280" y="152280"/>
            <a:ext cx="4114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14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sy mírného pásu – Lesy, louky, 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mírném podnebném pás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přímořské, přechodné) – Evropa, východ a západ 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4 roční obdob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dostatek srážek a vhodné rozdíly teplot vyhovují růst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stnatých opadavých lesů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es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původní l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buk, dub) nahrazen jehličnatými lesy (smrk), neb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přeměněn na kulturní krajin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pole, louk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amostatný záp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920" y="1830240"/>
            <a:ext cx="91360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7:34:04Z</dcterms:created>
  <dc:creator>kk</dc:creator>
  <dc:description/>
  <dc:language>en-US</dc:language>
  <cp:lastModifiedBy>Uživatel</cp:lastModifiedBy>
  <dcterms:modified xsi:type="dcterms:W3CDTF">2014-03-29T07:39:54Z</dcterms:modified>
  <cp:revision>4</cp:revision>
  <dc:subject/>
  <dc:title>LESY MÍRNÉHO PÁSU</dc:title>
</cp:coreProperties>
</file>