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9B2B-9BD9-4A10-BFBA-B8EB13B5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BC9-2BF9-4283-86F5-D20D4CAF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C5F-24B4-4915-BC64-1E3853A5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46EF-2F51-41E3-8337-74F7330C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E22E-D1E6-4976-8B37-35E4E8CA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4ABB-96E1-481C-AA90-59ABFAC3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AA5-7443-4DBA-8C1A-83769E61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445-4EBD-42E4-A531-600F754B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9368-77FB-47DB-862E-8E059E43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0A0-52F6-4DDC-ABCD-83FFD1A1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12F-1459-42FA-9911-D60D6537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5A1-0FDC-4C49-A8DD-018FC6C5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0C21-4EB5-439F-A06E-791682FD9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RAJINNÁ (FYZICKOGEOGRAFICKÁ 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FÉRA ZEM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LITOSFÉR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litos – kámen) – zemská ků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PEDOSFÉR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pedos – půda) – půdní 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BIOSFÉR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bios – život) – rostlinná a živočišná sfé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YDROSFÉRA (hydro – voda) - vod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MOSFÉRA (atmos – vzduch) – vzdušný 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335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839080" y="533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3434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4572000"/>
            <a:ext cx="4856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029200"/>
            <a:ext cx="74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ÍRODNÍ KRAJINA – tj. původní člověkem neovlivně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5486400"/>
            <a:ext cx="4856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3960" y="5943600"/>
            <a:ext cx="83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ULTURNÍ KRAJINA – tj. člověkem přeměněná přírodní kraj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verest%2025%20(1)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4868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ovodne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735120"/>
            <a:ext cx="746748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k_stromy009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73656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24_Mraky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8376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w6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515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mazonie_PAUL-A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57" name="0,1020,341552,00" descr=""/>
          <p:cNvPicPr/>
          <p:nvPr/>
        </p:nvPicPr>
        <p:blipFill>
          <a:blip r:embed="rId2"/>
          <a:stretch/>
        </p:blipFill>
        <p:spPr>
          <a:xfrm>
            <a:off x="4343400" y="342900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mine-l" descr=""/>
          <p:cNvPicPr/>
          <p:nvPr/>
        </p:nvPicPr>
        <p:blipFill>
          <a:blip r:embed="rId1"/>
          <a:stretch/>
        </p:blipFill>
        <p:spPr>
          <a:xfrm>
            <a:off x="0" y="1295280"/>
            <a:ext cx="4952880" cy="4400640"/>
          </a:xfrm>
          <a:prstGeom prst="rect">
            <a:avLst/>
          </a:prstGeom>
          <a:ln w="0">
            <a:noFill/>
          </a:ln>
        </p:spPr>
      </p:pic>
      <p:pic>
        <p:nvPicPr>
          <p:cNvPr id="59" name="louky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426708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22:09:23Z</dcterms:created>
  <dc:creator>kk</dc:creator>
  <dc:description/>
  <dc:language>en-US</dc:language>
  <cp:lastModifiedBy>kk</cp:lastModifiedBy>
  <dcterms:modified xsi:type="dcterms:W3CDTF">2005-10-30T22:49:00Z</dcterms:modified>
  <cp:revision>2</cp:revision>
  <dc:subject/>
  <dc:title>KRAJINNÁ (FYZICKOGEOGRAFICKÁ ) SFÉRA ZEMĚ</dc:title>
</cp:coreProperties>
</file>