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C16-707B-4AA0-AD98-D2151B02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8A4-20D6-4236-93BF-5B16183E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6D03-6A1D-472F-9C67-4D77F64A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B6B-885D-4E85-B769-2BEE8C8B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29A-44CF-4777-81AD-F6AA8DF3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D4B-45A4-4EF5-865C-DEDC9CC0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43A-E35D-4851-A86E-7AC5BA36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111-9D30-4660-8411-3D99E6FB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11C6-3E1C-4FB3-9D12-8D016420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7E0-0D49-4535-A6A0-ECA1D595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C7A-DFB6-40ED-B4B7-F3374EB6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AF5-E1DA-4EC3-827D-E6C40815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652E-7198-4D6A-982D-EAC1A9ACA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hyperlink" Target="http://www.ceskehory.cz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rajina kolem n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zmanitost krajiny = pestrost kraj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Díky působení si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nitřní síly– vrásnění a zemětřesen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nější síly – vítr, voda, slunce a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ýsledkem těchto sil je tvar povrchu =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LIÉ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vary reliéfu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dle nadmořské výšk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odle výškových rozdílů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– roviny, pahorkatiny, vrchoviny, hornatiny, veleh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350532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240" y="327672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žiny (do 200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403848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činy (nad 200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8280" y="5985000"/>
            <a:ext cx="865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jímavé odkazy: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ceskehory.cz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(Vše o českých horách na jednom místě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5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50" name="Alpy_z_szczytu_La_Grande_Motte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52480" y="3352680"/>
            <a:ext cx="5294520" cy="3505320"/>
          </a:xfrm>
          <a:prstGeom prst="rect">
            <a:avLst/>
          </a:prstGeom>
          <a:ln w="0">
            <a:noFill/>
          </a:ln>
        </p:spPr>
      </p:pic>
      <p:pic>
        <p:nvPicPr>
          <p:cNvPr id="51" name="002" descr=""/>
          <p:cNvPicPr/>
          <p:nvPr/>
        </p:nvPicPr>
        <p:blipFill>
          <a:blip r:embed="rId4"/>
          <a:stretch/>
        </p:blipFill>
        <p:spPr>
          <a:xfrm>
            <a:off x="4495680" y="0"/>
            <a:ext cx="4648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18:50:00Z</dcterms:created>
  <dc:creator>kk</dc:creator>
  <dc:description/>
  <dc:language>en-US</dc:language>
  <cp:lastModifiedBy>kk</cp:lastModifiedBy>
  <dcterms:modified xsi:type="dcterms:W3CDTF">2005-12-07T14:57:03Z</dcterms:modified>
  <cp:revision>9</cp:revision>
  <dc:subject/>
  <dc:title>Krajina kolem nás</dc:title>
</cp:coreProperties>
</file>