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6A4-29D6-4939-82D1-A689A275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059-72CB-4D64-B32E-64398434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563-1D7F-4D73-8110-6A38CF7B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CE1-E87A-4439-B585-2AAB185B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86A-323D-4476-8CB7-1560B618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8B9-7F65-4634-83E8-8D29417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038-0B54-4F8D-8733-AD777C31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77F-1417-4202-8957-0A6B01E9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4C2-87ED-48C8-8321-80F2AEA5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12D-0637-4296-ABAE-EECD088B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852-CC9B-4665-BA31-50BCBBD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E85-B386-480F-9D59-0FD8B67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FDB7-3492-43F8-88B8-7F2CE4B01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" Target="slide2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Y A VELEH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znik, vývoj a zá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znik pohoří – ovlivňují především vnitřní činit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sazen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uvolněné zvětraliny (eroze) jsou přemísťovány (transport) a ukládány (akumula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Kern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díky tlakům v kůře vznikne zlom. Kolem něho se pak zlomená kůra propadá (příkopová propadlina)  nebo vyzvedává (pohoří - hrásť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rás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pokud je hornina více poddajná nezlomí se, ale „pouze“ se zprohýbá do tzv. vrás. Pohybem litosférických desek dochází ke zprohýbání. A vyzdvižení usazených hornin na povr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pečn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(viz. prezentace sopky a zemětřesen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3213000"/>
            <a:ext cx="4381560" cy="170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43640" y="2637000"/>
            <a:ext cx="2494080" cy="332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1280" y="5019840"/>
            <a:ext cx="2943000" cy="1838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52920" y="5942160"/>
            <a:ext cx="27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znikla jednotliv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hoří na obrázku? Najetí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brázek získáš odpově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51280" y="4437000"/>
            <a:ext cx="2303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ývoj a zánik – ovlivňují především vnitřní činitelé (ero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á pohoří jsou zarovnan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nší výškové rozdíly, jsou způsobeny erozí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ladá poho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jí naopa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é tv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iéfu (nejvyšší pohoří svě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8200" y="616572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konoše – „stará“ pohoř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4200" y="623736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py – „mladá“ pohoř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176640"/>
            <a:ext cx="3961080" cy="2967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0320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89520" y="645012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droj: Dnešní svě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680" y="184320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úru co nejlé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plánov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5160" y="2778120"/>
            <a:ext cx="22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edovat předpově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časí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1680" y="3716280"/>
            <a:ext cx="26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ředat všem účastníků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formace o túře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1520" y="4651200"/>
            <a:ext cx="26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mět pracovat s map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át turistické značk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2240" y="5586480"/>
            <a:ext cx="24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át typy výstražn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abulí a jejich význ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61320" y="1770120"/>
            <a:ext cx="243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pohybovat se m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ačené ces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35320" y="2421000"/>
            <a:ext cx="270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ít sebou lékárnič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mět poskytnout prv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mo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3880" y="3357720"/>
            <a:ext cx="302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át kontakty na záchran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ém a horskou služb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ít nabitý mobilní telef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52080" y="4365720"/>
            <a:ext cx="34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nát zásady chování pro pří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abloudění, pádu lavin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bo zřícení svah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88080" y="645012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droj: Dnešní svě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rná pohoř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36232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7129440" cy="1838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19640" y="1989000"/>
            <a:ext cx="5364000" cy="2264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13880" y="167796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říkopová propad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77440" y="17002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á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rásová pohoř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67624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7138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35:30Z</dcterms:created>
  <dc:creator>kk</dc:creator>
  <dc:description/>
  <dc:language>en-US</dc:language>
  <cp:lastModifiedBy>Administrator</cp:lastModifiedBy>
  <dcterms:modified xsi:type="dcterms:W3CDTF">2009-12-02T13:02:03Z</dcterms:modified>
  <cp:revision>13</cp:revision>
  <dc:subject/>
  <dc:title>HORY A VELEHORY</dc:title>
</cp:coreProperties>
</file>