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154-3718-48C7-B713-B6C07524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34E-3E18-47E5-A8FF-010084F0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F5F-F757-454A-A73E-446296D2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F5C-8F0D-44C7-A013-F7C8B106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62B-8AA1-4408-8401-FCC4EB8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D7B-ED91-4964-B910-4873CCCC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342-0912-429B-822D-B8308569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C23-0B30-4892-9439-6A04BB7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280-D5EA-4CD1-8240-3806678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E54-5544-468F-BDBF-94EA1A9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7DF-42BA-4CF1-BEF2-5D08220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EB1-CE7F-4667-A19D-2C9C73DC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B9A-F9E0-41E9-A395-723F1CBA0F9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DOKÁŽE EROZ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mrsthordarson.edublogs.org/files/2011/01/california-yosemite-half-dome-3-15b9xu3.jpg"/>
          <p:cNvPicPr/>
          <p:nvPr/>
        </p:nvPicPr>
        <p:blipFill>
          <a:blip r:embed="rId1"/>
          <a:stretch/>
        </p:blipFill>
        <p:spPr>
          <a:xfrm>
            <a:off x="0" y="2700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9360" y="2880"/>
            <a:ext cx="9144000" cy="1081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OVÁNÍ POVR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itřní a vnější čini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Diagram 2" descr=""/>
          <p:cNvPicPr/>
          <p:nvPr/>
        </p:nvPicPr>
        <p:blipFill>
          <a:blip r:embed="rId1"/>
          <a:stretch/>
        </p:blipFill>
        <p:spPr>
          <a:xfrm>
            <a:off x="1401840" y="1792440"/>
            <a:ext cx="68403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 povrch (reliéf) působí mnoho s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nitřní s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rásnění, kerné pohyby, sopečná činn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tvoří relié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nější s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– voda, led, vítr, slunce, rostliny, člově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změňují reliéf (snižují, zarovnávají, přemísťuj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37080" cy="3592440"/>
          </a:xfrm>
          <a:prstGeom prst="rect">
            <a:avLst/>
          </a:prstGeom>
          <a:ln w="0">
            <a:noFill/>
          </a:ln>
        </p:spPr>
      </p:pic>
      <p:sp>
        <p:nvSpPr>
          <p:cNvPr id="57" name="Line 6"/>
          <p:cNvSpPr/>
          <p:nvPr/>
        </p:nvSpPr>
        <p:spPr>
          <a:xfrm flipV="1">
            <a:off x="5796000" y="465264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208560" y="4483080"/>
            <a:ext cx="177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dsouváním litosférický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esek vznikají na mořské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ně hlubokomořské příkop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4788000" y="371628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725080" y="3500280"/>
            <a:ext cx="150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Ledovcové toky unáš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větraliny a postupně 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ukládaj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4427640" y="2781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775480" y="2611440"/>
            <a:ext cx="228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Ledovce rozrušují a ohlazuj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kalní povrch, přemísťují ledovcov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větraliny a vytvářejí údolí ve tvaru 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140360" y="2133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427280" y="1773360"/>
            <a:ext cx="213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ysoká pohoří vznikají vrásnění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ři styku dvou litosférických dese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 flipH="1" flipV="1">
            <a:off x="3132000" y="256500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618920" y="1700280"/>
            <a:ext cx="2475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odní toky se postupn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hlubují do skalního podloží – 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tvaru V. Rozrušují povrch, Unáší zvětral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 erodovaný materiál. Ten postupn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ukládají ve svém korytě a v deltě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197928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94200" y="3284640"/>
            <a:ext cx="164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Erozní činností vět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 vody vznikají v suchý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lastech zvláštní tv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reliéfu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H="1">
            <a:off x="2339640" y="400536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610920" y="4221000"/>
            <a:ext cx="191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nější činitelé povrch Zem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tupně snižují a zarovnávaj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 flipH="1">
            <a:off x="3059280" y="4221000"/>
            <a:ext cx="129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1332720" y="5445000"/>
            <a:ext cx="2201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odní toky ukládají unášen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materiál nejen ve svém korytě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ředevším na dolním toku řek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le také při jeho ústí např. do moř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tupně tak rozšiřují pevninu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590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ělení povrchu (reliéf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7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dle výškových rozdílů: roviny, pahorkatiny, vrchoviny, hornatiny, velehornati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dle nadmořské výšky: nížiny a vysoči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1874880"/>
            <a:ext cx="6300720" cy="483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851280" cy="187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765080" y="1700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 OBRÁ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8160" y="29242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mořská vý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350160" y="28526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vý rozdí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7800" y="4149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78720" y="5465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554000" y="337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5600" y="3789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hork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554360" y="43848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4575240" y="5157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rn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54360" y="6256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e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-2880" y="656424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: zeměpis Holu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oubor:Im Salar de Uyuni.jpg"/>
          <p:cNvPicPr/>
          <p:nvPr/>
        </p:nvPicPr>
        <p:blipFill>
          <a:blip r:embed="rId1"/>
          <a:stretch/>
        </p:blipFill>
        <p:spPr>
          <a:xfrm>
            <a:off x="930240" y="692280"/>
            <a:ext cx="76201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ile:Tafoni 03.jpg"/>
          <p:cNvPicPr/>
          <p:nvPr/>
        </p:nvPicPr>
        <p:blipFill>
          <a:blip r:embed="rId1"/>
          <a:stretch/>
        </p:blipFill>
        <p:spPr>
          <a:xfrm>
            <a:off x="684360" y="620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ile:Rummu aherainemägi2.jpg"/>
          <p:cNvPicPr/>
          <p:nvPr/>
        </p:nvPicPr>
        <p:blipFill>
          <a:blip r:embed="rId1"/>
          <a:stretch/>
        </p:blipFill>
        <p:spPr>
          <a:xfrm>
            <a:off x="-184320" y="1916280"/>
            <a:ext cx="92710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ile:Wavecut platform southerndown pano.jpg"/>
          <p:cNvPicPr/>
          <p:nvPr/>
        </p:nvPicPr>
        <p:blipFill>
          <a:blip r:embed="rId1"/>
          <a:stretch/>
        </p:blipFill>
        <p:spPr>
          <a:xfrm>
            <a:off x="-28440" y="1052640"/>
            <a:ext cx="9050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1062000"/>
            <a:ext cx="7527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arameter.sk/sites/default/files/article_image/cheddar-cave.jpg"/>
          <p:cNvPicPr/>
          <p:nvPr/>
        </p:nvPicPr>
        <p:blipFill>
          <a:blip r:embed="rId1"/>
          <a:stretch/>
        </p:blipFill>
        <p:spPr>
          <a:xfrm>
            <a:off x="611280" y="6397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estujeme365.cz/wp-content/uploads/2012/11/GrandCanyon1331071283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erosioncontrolpro.com/wp-content/uploads/2013/09/Glacier-erosion.jpg"/>
          <p:cNvPicPr/>
          <p:nvPr/>
        </p:nvPicPr>
        <p:blipFill>
          <a:blip r:embed="rId1"/>
          <a:stretch/>
        </p:blipFill>
        <p:spPr>
          <a:xfrm>
            <a:off x="0" y="404640"/>
            <a:ext cx="5295960" cy="394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b.static.trunity.net/files/156701_156800/156767/ushapedvalleyut.jpg"/>
          <p:cNvPicPr/>
          <p:nvPr/>
        </p:nvPicPr>
        <p:blipFill>
          <a:blip r:embed="rId2"/>
          <a:stretch/>
        </p:blipFill>
        <p:spPr>
          <a:xfrm>
            <a:off x="3487680" y="3645000"/>
            <a:ext cx="5656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8:02:33Z</dcterms:created>
  <dc:creator>jj</dc:creator>
  <dc:description/>
  <dc:language>en-US</dc:language>
  <cp:lastModifiedBy>PC</cp:lastModifiedBy>
  <dcterms:modified xsi:type="dcterms:W3CDTF">2014-01-05T10:41:43Z</dcterms:modified>
  <cp:revision>15</cp:revision>
  <dc:subject/>
  <dc:title>FORMOVÁNÍ POVRCHU</dc:title>
</cp:coreProperties>
</file>