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520-EAB1-4B8A-A526-F57BD43F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32A-A796-4ED3-9A2C-1F3D387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94F-6BAA-4956-BAE7-3CAE54A7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5E9-D172-4AB0-B2CB-97A7FE17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328-CF6D-4839-82D2-52E3BF0E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0A-FF4F-4043-A972-1CDF901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0A3-67F2-45D8-B628-7EFA3B2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76C-39E4-4349-AE7C-51AD1A54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18D-2F01-477F-9EE6-2E709B4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E73-5181-4F2D-B25D-95CC039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12B-11F0-41FA-ABD9-72A10D01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BF3-FEB5-4DEB-BF15-A1A7145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DA9-EA7B-418D-A049-09F23482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HY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cient-world-map-148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15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lení map dle měřít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velkých měřítek (od plánů po mapy o měřítku 1:200 000) bez zkresl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středních měřítek (1:200 000 až 1:1 000 000) malé zkresl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y malých měřítek (nad 1: 1 000 000) velké územní cel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666880" cy="221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43400" y="152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utoatlas100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2514600" cy="1922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ustralie" descr=""/>
          <p:cNvPicPr/>
          <p:nvPr/>
        </p:nvPicPr>
        <p:blipFill>
          <a:blip r:embed="rId3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91120" y="5105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lení map podle dru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pografické (obecně zeměpisné) ma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ématické m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olitická m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Mapa zemědělstv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Mapa teplot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73101_b" descr=""/>
          <p:cNvPicPr/>
          <p:nvPr/>
        </p:nvPicPr>
        <p:blipFill>
          <a:blip r:embed="rId1"/>
          <a:stretch/>
        </p:blipFill>
        <p:spPr>
          <a:xfrm>
            <a:off x="5029200" y="762120"/>
            <a:ext cx="3809880" cy="298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3200" y="1219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vropa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398760" cy="280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43200" y="411480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ápis: Druhy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ělení podle měřít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mapy velkých měřítek (plány, turistické mapy)     do 1:200 000 (1 cm je 2 km ve skuteč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apy středních měřítek (automap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1:200 000 do 1:1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mapy malých měřítek (kontinenty, státy)        nad 1:1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ělení podle druh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topografické (obecně zeměpisné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tématické (politické, zemědělství, podnebí a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velký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zlin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3441600"/>
          </a:xfrm>
          <a:prstGeom prst="rect">
            <a:avLst/>
          </a:prstGeom>
          <a:ln w="0">
            <a:noFill/>
          </a:ln>
        </p:spPr>
      </p:pic>
      <p:pic>
        <p:nvPicPr>
          <p:cNvPr id="62" name="obr" descr=""/>
          <p:cNvPicPr/>
          <p:nvPr/>
        </p:nvPicPr>
        <p:blipFill>
          <a:blip r:embed="rId2"/>
          <a:stretch/>
        </p:blipFill>
        <p:spPr>
          <a:xfrm>
            <a:off x="3995640" y="2583000"/>
            <a:ext cx="5148360" cy="427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8320" y="495288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o měřítku 1: 5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j. 1cm na mapě je 0,5 km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u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1295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plány měst, turistické m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střední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utoatlas100" descr=""/>
          <p:cNvPicPr/>
          <p:nvPr/>
        </p:nvPicPr>
        <p:blipFill>
          <a:blip r:embed="rId1"/>
          <a:stretch/>
        </p:blipFill>
        <p:spPr>
          <a:xfrm>
            <a:off x="0" y="990720"/>
            <a:ext cx="4495680" cy="3438360"/>
          </a:xfrm>
          <a:prstGeom prst="rect">
            <a:avLst/>
          </a:prstGeom>
          <a:ln w="0">
            <a:noFill/>
          </a:ln>
        </p:spPr>
      </p:pic>
      <p:pic>
        <p:nvPicPr>
          <p:cNvPr id="67" name="mapa" descr=""/>
          <p:cNvPicPr/>
          <p:nvPr/>
        </p:nvPicPr>
        <p:blipFill>
          <a:blip r:embed="rId2"/>
          <a:stretch/>
        </p:blipFill>
        <p:spPr>
          <a:xfrm>
            <a:off x="4343400" y="3362400"/>
            <a:ext cx="4800600" cy="349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4640" y="4765680"/>
            <a:ext cx="40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o měřítku 1: 500 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j. 1 cm na mapě je 5 km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uteč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66600" y="13716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automapy, administrativ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Mapy malých měřít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url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38480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11920" y="103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. Mapa Afriky o měřít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40 000 000 tj. 1 cm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km ve skuteč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vropa-01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4040280" cy="3057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8800" y="613728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mapy států, světadílů, Svě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4:25:30Z</dcterms:created>
  <dc:creator>kk</dc:creator>
  <dc:description/>
  <dc:language>en-US</dc:language>
  <cp:lastModifiedBy>kk</cp:lastModifiedBy>
  <dcterms:modified xsi:type="dcterms:W3CDTF">2005-10-04T15:18:22Z</dcterms:modified>
  <cp:revision>3</cp:revision>
  <dc:subject/>
  <dc:title>DRUHY MAP</dc:title>
</cp:coreProperties>
</file>