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F6D-1939-4017-B089-1AE77DFD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8F2-EC0D-46A5-8F39-ABDF6E86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8D4-94C4-4D20-B19B-428F9834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0F8-9B6E-4347-9037-B00027F1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C71-C9D1-4C59-8BB2-5E2B09FB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D15-ED37-45BB-BE90-D52169DF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CEA-CF79-4322-B808-A464D16C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468-C0A3-45F0-87BD-A2DB4718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43C-4842-4277-9420-3F07CD47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B9C-A730-4B5B-BC97-B0959343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9BD-E510-4D42-B871-440E6A41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290-F2A7-4414-AC27-677FE098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E89B-ABA7-4C73-BA28-70FDBD8C17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69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O NITRA ZEM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0440" y="5016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mská stavba = jako vrstvy cib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jako vrstvy vej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1"/>
          <a:stretch/>
        </p:blipFill>
        <p:spPr>
          <a:xfrm>
            <a:off x="-31680" y="2932200"/>
            <a:ext cx="2286000" cy="2085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http://thumbs.dreamstime.com/z/red-onion-slice-17897561.jpg"/>
          <p:cNvPicPr/>
          <p:nvPr/>
        </p:nvPicPr>
        <p:blipFill>
          <a:blip r:embed="rId2"/>
          <a:stretch/>
        </p:blipFill>
        <p:spPr>
          <a:xfrm>
            <a:off x="6446880" y="2625840"/>
            <a:ext cx="2697120" cy="2697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3"/>
          <a:stretch/>
        </p:blipFill>
        <p:spPr>
          <a:xfrm>
            <a:off x="3059280" y="836640"/>
            <a:ext cx="2733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2880"/>
            <a:ext cx="77724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LÁŠ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836640"/>
            <a:ext cx="8351640" cy="17287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ělíme 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nější plášť – teplota 1500˚C, je tekutý a „plave“ a pohybuje se po něm litosférické de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nitřní plášť – teplota 3000˚C, hustá konzist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6697440" cy="367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7121520" y="3164040"/>
            <a:ext cx="1758960" cy="276192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1"/>
          <p:cNvSpPr/>
          <p:nvPr/>
        </p:nvSpPr>
        <p:spPr>
          <a:xfrm>
            <a:off x="368280" y="6381720"/>
            <a:ext cx="84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V plášti probíhá neustále plášťová konvekce, která souvisí s deskovou tektonik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"/>
          <p:cNvPicPr/>
          <p:nvPr/>
        </p:nvPicPr>
        <p:blipFill>
          <a:blip r:embed="rId1"/>
          <a:stretch/>
        </p:blipFill>
        <p:spPr>
          <a:xfrm>
            <a:off x="3443400" y="3209760"/>
            <a:ext cx="5505480" cy="3648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ZEMSKÁ KŮ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0480" y="1341360"/>
            <a:ext cx="8785080" cy="14400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nejsvrchnější tenký pevný obal na povrchu Země. Není všude stejná mocná dělíme ji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ceánskou kůru – mocnost od 0 do 6km je tvořená čedič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evninská kůra – mocnost od 20 do 100km, tvořena převážně žul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2600" y="3411360"/>
            <a:ext cx="3294000" cy="2862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-2160" y="304488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astoupení hornin v zemské ků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5148360" y="5710320"/>
            <a:ext cx="0" cy="717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8793000" y="4518000"/>
            <a:ext cx="0" cy="1909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5509080" y="6021360"/>
            <a:ext cx="5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6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7783920" y="5319720"/>
            <a:ext cx="10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0-10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ile:Earth poster.svg"/>
          <p:cNvPicPr/>
          <p:nvPr/>
        </p:nvPicPr>
        <p:blipFill>
          <a:blip r:embed="rId1"/>
          <a:stretch/>
        </p:blipFill>
        <p:spPr>
          <a:xfrm>
            <a:off x="933480" y="114156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0240" y="1886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a obrázku je znázorněna stavba Země. Vlevo jsou rozměry jednotlivých obalů zmenšeny. Jaká je tloušťka zemské kůry oproti ostatním obalů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867360" cy="44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9" descr=""/>
          <p:cNvPicPr/>
          <p:nvPr/>
        </p:nvPicPr>
        <p:blipFill>
          <a:blip r:embed="rId1"/>
          <a:stretch/>
        </p:blipFill>
        <p:spPr>
          <a:xfrm>
            <a:off x="272880" y="765000"/>
            <a:ext cx="5058000" cy="5472360"/>
          </a:xfrm>
          <a:prstGeom prst="rect">
            <a:avLst/>
          </a:prstGeom>
          <a:ln w="0">
            <a:noFill/>
          </a:ln>
        </p:spPr>
      </p:pic>
      <p:sp>
        <p:nvSpPr>
          <p:cNvPr id="50" name="Line 16"/>
          <p:cNvSpPr/>
          <p:nvPr/>
        </p:nvSpPr>
        <p:spPr>
          <a:xfrm>
            <a:off x="4643280" y="1700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3995640" y="27082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3429000" y="43434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6785640" y="4114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7089480" y="266688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ÁŠ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6447240" y="141300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Ů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ohybující se kontinen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424720" cy="20160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itosférické desky se pohybují (velmi pomalu). Jejich pohyb způsobuje žhavé nitro Země. Na zemi můžeme rozeznat místa, kde zemská kůra vzniká (středooceánské hřbety) a zaniká (hlubokomořské příkopy). Na okrajích desek dochází často k zemětřesné a sopečné činno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ontinentaldrift"/>
          <p:cNvPicPr/>
          <p:nvPr/>
        </p:nvPicPr>
        <p:blipFill>
          <a:blip r:embed="rId1"/>
          <a:stretch/>
        </p:blipFill>
        <p:spPr>
          <a:xfrm>
            <a:off x="324000" y="3500280"/>
            <a:ext cx="2476440" cy="2009880"/>
          </a:xfrm>
          <a:prstGeom prst="rect">
            <a:avLst/>
          </a:prstGeom>
          <a:ln w="0">
            <a:noFill/>
          </a:ln>
        </p:spPr>
      </p:pic>
      <p:sp>
        <p:nvSpPr>
          <p:cNvPr id="59" name="TextovéPole 1"/>
          <p:cNvSpPr/>
          <p:nvPr/>
        </p:nvSpPr>
        <p:spPr>
          <a:xfrm>
            <a:off x="4021200" y="648828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Rozložení zemských (litosférických) des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http://www.ig.cas.cz/userdata/pictures/geopark/postery/Zeme-o07.png"/>
          <p:cNvPicPr/>
          <p:nvPr/>
        </p:nvPicPr>
        <p:blipFill>
          <a:blip r:embed="rId2"/>
          <a:stretch/>
        </p:blipFill>
        <p:spPr>
          <a:xfrm>
            <a:off x="2903400" y="3149640"/>
            <a:ext cx="621828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ig.cas.cz/userdata/pictures/geopark/postery/Zeme-o08-v.jpg"/>
          <p:cNvPicPr/>
          <p:nvPr/>
        </p:nvPicPr>
        <p:blipFill>
          <a:blip r:embed="rId1"/>
          <a:stretch/>
        </p:blipFill>
        <p:spPr>
          <a:xfrm>
            <a:off x="250920" y="-644400"/>
            <a:ext cx="8572320" cy="3219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50920" y="25750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zhraní mezi dvěma deskami může být divergentní, konvergentní nebo transformní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ivergentníc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rozhraních se kůra roztahuje, tenčí a trhá působením vystupujícího materiálu; vznikne středooceánský hřbet s riftovým údolím, kterým vystupuje bazaltová lá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nvergentníc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rozhraních se desky naopak srážejí. Setká-li se kontinentální kůra s oceánskou, podsune se těžší oceánská kůra pod lehčí kontinentální a v předpolí vznikne hlubokomořský příkop. Kontinentální kůra může být současně stlačena, vzroste její mocnost a vznikne hroské pásmo podél pobřeží. S poklesem oceánské kůry do pláště se při okraji kontinentu objeví vulkanická aktivita. Setkají-li se dvě oceánské desky, starší a těžší se podsune pod mladší a vznikne oblouk vulkanických ostrov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ransform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í rozhraní vzniká tehdy, když se dvě desky pohybují rovnoběžně vedle sebe; kůra nevzniká ani nezaniká a neobjevuje se ani sopečná činnost. Rozhraní tohoto typu vznikají tektonickým odsazením části divergentních rozhraní a jsou doprovázena rozsáhlými zónami zlom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352872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ohyby des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598320"/>
            <a:ext cx="914400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) Rozbíhání litosférických de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) Sbíhání de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ě oceánské – hlubokomořské příkop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ceánská pod pevninskou (sopečná činnost a zemětřesení (An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ě pevninské – „růst“ pohoří (Himaláj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8" descr=""/>
          <p:cNvPicPr/>
          <p:nvPr/>
        </p:nvPicPr>
        <p:blipFill>
          <a:blip r:embed="rId1"/>
          <a:stretch/>
        </p:blipFill>
        <p:spPr>
          <a:xfrm>
            <a:off x="3638520" y="457200"/>
            <a:ext cx="5400720" cy="147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"/>
          <p:cNvPicPr/>
          <p:nvPr/>
        </p:nvPicPr>
        <p:blipFill>
          <a:blip r:embed="rId2"/>
          <a:stretch/>
        </p:blipFill>
        <p:spPr>
          <a:xfrm>
            <a:off x="4616280" y="1989000"/>
            <a:ext cx="2444760" cy="3745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"/>
          <p:cNvPicPr/>
          <p:nvPr/>
        </p:nvPicPr>
        <p:blipFill>
          <a:blip r:embed="rId3"/>
          <a:stretch/>
        </p:blipFill>
        <p:spPr>
          <a:xfrm>
            <a:off x="2041560" y="1996920"/>
            <a:ext cx="257472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o Nitra Zem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mi tvoří tři části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jádro, plášť, zemská kůra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(+obráze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tosféra = zemská kůra a svrchní pláš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(+obráze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evninská kůra (mocnější  až 100 k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ceánská kůra (slabší do 6 k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tosféra je rozlámána na desky, které se pohybují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hyby desek (vznik a zánik litosfé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pečná a zemětřesná činn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251960" y="381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p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-3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JÁD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4880" y="980640"/>
            <a:ext cx="8569440" cy="1871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ělíme n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nitřní (Fe, Ni) teplota 6000˚ C je pevné díky obrovskému okolnímu tla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nější jádro (polotekuté „roztavené“ Fe, 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http://www.national-geographic.cz/wp-content/uploads/articles/thumb1_42333_7736_core0a.jpg"/>
          <p:cNvPicPr/>
          <p:nvPr/>
        </p:nvPicPr>
        <p:blipFill>
          <a:blip r:embed="rId1"/>
          <a:stretch/>
        </p:blipFill>
        <p:spPr>
          <a:xfrm>
            <a:off x="-396720" y="2924280"/>
            <a:ext cx="4406760" cy="250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http://www.national-geographic.cz/wp-content/uploads/2013/05/earth-magnetosphere0.jpg"/>
          <p:cNvPicPr/>
          <p:nvPr/>
        </p:nvPicPr>
        <p:blipFill>
          <a:blip r:embed="rId2"/>
          <a:stretch/>
        </p:blipFill>
        <p:spPr>
          <a:xfrm>
            <a:off x="3772080" y="3933720"/>
            <a:ext cx="5371920" cy="293364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1"/>
          <p:cNvSpPr/>
          <p:nvPr/>
        </p:nvSpPr>
        <p:spPr>
          <a:xfrm>
            <a:off x="4521240" y="3267000"/>
            <a:ext cx="425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Rotace pevného jádra v roztaveném vnějším jád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vytváří magnetické pole Země (obrázek dole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21:28:13Z</dcterms:created>
  <dc:creator>kk</dc:creator>
  <dc:description/>
  <dc:language>en-US</dc:language>
  <cp:lastModifiedBy>PC</cp:lastModifiedBy>
  <dcterms:modified xsi:type="dcterms:W3CDTF">2013-12-01T10:10:42Z</dcterms:modified>
  <cp:revision>27</cp:revision>
  <dc:subject/>
  <dc:title>DO NITRA ZEMĚ</dc:title>
</cp:coreProperties>
</file>