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5D3-919F-4BE7-8AF6-5DABB81B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9EF-F725-44A1-87F7-DEA818D9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16D-AB5F-40F0-A45C-F6C3CDD2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8D1-A7D1-4FC0-93F3-EE97253D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D97-1A10-43A2-9CE9-89690BB1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AC2-99AF-4C29-A70B-226A3DB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DD1-AFDF-47A7-925C-1F299A21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84A-FBBE-4E2F-BC08-0C2776D1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2F5-8E99-45B2-8939-08075845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A8C-A252-4688-AA0A-1BE08B9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AE3-3928-465E-AEB4-CDFC5FD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DF8-F715-434F-A6AE-9FC7574B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A9AD-E63D-463E-8DDB-0505760D5A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09840" y="4876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ČAS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lhodiny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108600" cy="3257640"/>
          </a:xfrm>
          <a:prstGeom prst="rect">
            <a:avLst/>
          </a:prstGeom>
          <a:ln w="0">
            <a:noFill/>
          </a:ln>
        </p:spPr>
      </p:pic>
      <p:pic>
        <p:nvPicPr>
          <p:cNvPr id="43" name="100-154-beamtube" descr=""/>
          <p:cNvPicPr/>
          <p:nvPr/>
        </p:nvPicPr>
        <p:blipFill>
          <a:blip r:embed="rId2"/>
          <a:stretch/>
        </p:blipFill>
        <p:spPr>
          <a:xfrm>
            <a:off x="3886200" y="4267080"/>
            <a:ext cx="5257800" cy="2022480"/>
          </a:xfrm>
          <a:prstGeom prst="rect">
            <a:avLst/>
          </a:prstGeom>
          <a:ln w="0">
            <a:noFill/>
          </a:ln>
        </p:spPr>
      </p:pic>
      <p:pic>
        <p:nvPicPr>
          <p:cNvPr id="44" name="40380" descr=""/>
          <p:cNvPicPr/>
          <p:nvPr/>
        </p:nvPicPr>
        <p:blipFill>
          <a:blip r:embed="rId3"/>
          <a:stretch/>
        </p:blipFill>
        <p:spPr>
          <a:xfrm>
            <a:off x="3352680" y="609480"/>
            <a:ext cx="2266920" cy="3276720"/>
          </a:xfrm>
          <a:prstGeom prst="rect">
            <a:avLst/>
          </a:prstGeom>
          <a:ln w="0">
            <a:noFill/>
          </a:ln>
        </p:spPr>
      </p:pic>
      <p:pic>
        <p:nvPicPr>
          <p:cNvPr id="45" name="300px-Orloj-AstronomicalDial" descr=""/>
          <p:cNvPicPr/>
          <p:nvPr/>
        </p:nvPicPr>
        <p:blipFill>
          <a:blip r:embed="rId4"/>
          <a:stretch/>
        </p:blipFill>
        <p:spPr>
          <a:xfrm>
            <a:off x="5791320" y="609480"/>
            <a:ext cx="3200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9360" y="3045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ČASOVÁ PÁS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 je rozdělená na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24 časových pás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všechna místa v jednom časovém pásmu mají stejný č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 se otočí za 1 hodinu o 15 stupňů zeměpisné délk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0 : 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 se řídí podle poledne na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STŘEDNÍM POLEDNÍK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 ČR čas středoevropsk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0 poledník tvoří datovou m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5334120" cy="3522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00600" y="1981080"/>
            <a:ext cx="1600200" cy="175284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Čas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zi poledníky vzdálenými 1 stupeň je rozdíl 4 min., po 15 stupních je rozdíl 1 h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mě je rozdělena na 24 časových pásem po 15 stupních zeměpisné délky s rozdílem času 1 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edník 180 tvoří datovou m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STŘEDNÍ POLEDNÍ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791320"/>
            <a:ext cx="8076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175248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752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53040" y="118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644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04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236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16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0" y="52578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 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97520" y="5181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 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256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680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236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848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75248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75248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75248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175248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apka" descr=""/>
          <p:cNvPicPr/>
          <p:nvPr/>
        </p:nvPicPr>
        <p:blipFill>
          <a:blip r:embed="rId2"/>
          <a:stretch/>
        </p:blipFill>
        <p:spPr>
          <a:xfrm>
            <a:off x="5410080" y="3017880"/>
            <a:ext cx="11430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asm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1756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9:41:00Z</dcterms:created>
  <dc:creator>kk</dc:creator>
  <dc:description/>
  <dc:language>en-US</dc:language>
  <cp:lastModifiedBy>kk</cp:lastModifiedBy>
  <dcterms:modified xsi:type="dcterms:W3CDTF">2005-10-18T15:30:11Z</dcterms:modified>
  <cp:revision>11</cp:revision>
  <dc:subject/>
  <dc:title>ČAS NA ZEMI</dc:title>
</cp:coreProperties>
</file>