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71C-A8B3-4E20-9DD8-A231EC4A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E96-C6BC-456A-AB1B-C4F470E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F0B-5EAC-488A-82B2-DAB772C2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C62-7051-4A41-A5DA-0F601FAA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E1C-B483-4887-93ED-956310F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03E-659E-4949-A063-E38884E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45C-5FAB-4168-AEDF-2D04468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A82-55BE-4B92-9F22-0F636BA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F0B-18A7-43C9-9982-3C31334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FC9-B83E-4224-BA90-DBAC9055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D8B-9FC0-4947-B6B4-6E747E6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F10-517C-41B2-A4A5-3541A19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D81D-84AC-41A0-AC71-4976CCAB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ustralie.wz.cz/index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australie.wz.cz/svaz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USTRÁLIE - Canb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tiv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stituční mon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3000" y="619272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íce informací o Austrálii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ustralie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524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pera" descr=""/>
          <p:cNvPicPr/>
          <p:nvPr/>
        </p:nvPicPr>
        <p:blipFill>
          <a:blip r:embed="rId3"/>
          <a:stretch/>
        </p:blipFill>
        <p:spPr>
          <a:xfrm>
            <a:off x="4648320" y="990720"/>
            <a:ext cx="3581280" cy="18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562720" y="3200400"/>
          <a:ext cx="237780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200400"/>
                    <a:ext cx="2377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torie a obyvatelstvo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ustrálii znovuobjevil J. Cook (1770). První osadníci – trestanci z Anglie + zlatokopové (19.stol.). Dnes 98% bělochů, 1% původních černých obyvatel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origin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Osídlen JV a JZ, 90% žije ve městech (najdeš některá města?!)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aptain%20James%20Cook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217600" cy="3086280"/>
          </a:xfrm>
          <a:prstGeom prst="rect">
            <a:avLst/>
          </a:prstGeom>
          <a:ln w="0">
            <a:noFill/>
          </a:ln>
        </p:spPr>
      </p:pic>
      <p:pic>
        <p:nvPicPr>
          <p:cNvPr id="51" name="sydney-skyline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dna z nejvyspělejších zemí světa. Bohaté zásoby nerostů jsou základem pro pestrý průmysl (najdeš nerosty a průmysl?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mi důležité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emědělstv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vce, obilnin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pr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železniční (V - Z), mezistátní letecká a lod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3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27440" cy="2903400"/>
          </a:xfrm>
          <a:prstGeom prst="rect">
            <a:avLst/>
          </a:prstGeom>
          <a:ln w="0">
            <a:noFill/>
          </a:ln>
        </p:spPr>
      </p:pic>
      <p:pic>
        <p:nvPicPr>
          <p:cNvPr id="55" name="02071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19720" y="373392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vazové státy – 8 celk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rip5mapa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638680" cy="483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11160" y="62136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ÍCE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7:22:42Z</dcterms:created>
  <dc:creator>kk</dc:creator>
  <dc:description/>
  <dc:language>en-US</dc:language>
  <cp:lastModifiedBy>kk</cp:lastModifiedBy>
  <dcterms:modified xsi:type="dcterms:W3CDTF">2006-05-23T22:02:59Z</dcterms:modified>
  <cp:revision>9</cp:revision>
  <dc:subject/>
  <dc:title>AUSTRÁLIE</dc:title>
</cp:coreProperties>
</file>