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21F-047A-4D12-9373-B0EDAB32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19C-E37B-4728-BE22-F8ED1DA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DBF-32C8-4B6E-B694-0D32A083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301-66BE-4CFC-9FBF-68F70CD0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BD0-8673-49DE-8E5C-4E01180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15E-02FC-4060-9F55-6853B636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07D-26AC-4DCB-9C14-B88E857F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D4-E6F5-464F-9310-816468D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767-7E53-463D-95A1-3E9D27D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6A3-09B6-4C09-A366-FE533428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4CB-8C09-4B13-B58F-3DE4585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C2A-FAEC-4FBE-B696-6D63F0AB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AA84-7B18-44C0-BA31-CB779C0D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image" Target="../media/image10.jpeg"/><Relationship Id="rId5" Type="http://schemas.openxmlformats.org/officeDocument/2006/relationships/slide" Target="slide5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TRÁLIE – nejmenší kontinent (7,7 k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_australi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978000" cy="4286160"/>
          </a:xfrm>
          <a:prstGeom prst="rect">
            <a:avLst/>
          </a:prstGeom>
          <a:ln w="0">
            <a:noFill/>
          </a:ln>
        </p:spPr>
      </p:pic>
      <p:pic>
        <p:nvPicPr>
          <p:cNvPr id="43" name="australie_grand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3475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304920"/>
          <a:ext cx="464832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6483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648320" y="3276720"/>
          <a:ext cx="410508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76720"/>
                    <a:ext cx="4105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339440" y="53352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vládneš zjednodušeně nakre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u Austrá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000" y="3962520"/>
            <a:ext cx="307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řiřaď nejzazší mí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strál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rý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ys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hovýchodní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ronův m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648320"/>
            <a:ext cx="4800600" cy="317520"/>
          </a:xfrm>
          <a:custGeom>
            <a:avLst/>
            <a:gdLst/>
            <a:ahLst/>
            <a:rect l="l" t="t" r="r" b="b"/>
            <a:pathLst>
              <a:path w="3024" h="200">
                <a:moveTo>
                  <a:pt x="0" y="152"/>
                </a:moveTo>
                <a:cubicBezTo>
                  <a:pt x="540" y="76"/>
                  <a:pt x="1080" y="0"/>
                  <a:pt x="1584" y="8"/>
                </a:cubicBezTo>
                <a:cubicBezTo>
                  <a:pt x="2088" y="16"/>
                  <a:pt x="2792" y="168"/>
                  <a:pt x="3024" y="200"/>
                </a:cubicBezTo>
              </a:path>
            </a:pathLst>
          </a:custGeom>
          <a:noFill/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iš do sešitu a označ (čísly a písmeny) do nakreslené ma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Členitost a povrch (čísla)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Yorský pol., Tasmánie, Velká útesová bariéra, Velké předělové pohoří, Australské Alpy (Mt. Kosciusko),  Velká písečná poušť, Gibsonova poušť, Velká Viktoriina poušť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odstvo (písmena)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Korálové moře, Tasmanovo moře, Velký australský záliv, Timorské moře, Arafurské moře, Carpentarský záliv, Torresův průliv, Bassův průliv, řeky Muray a Darling, Eyreovo jeze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ock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304920"/>
            <a:ext cx="5715000" cy="3062160"/>
          </a:xfrm>
          <a:prstGeom prst="rect">
            <a:avLst/>
          </a:prstGeom>
          <a:ln w="0">
            <a:noFill/>
          </a:ln>
        </p:spPr>
      </p:pic>
      <p:pic>
        <p:nvPicPr>
          <p:cNvPr id="57" name="foto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3995640"/>
            <a:ext cx="3733920" cy="2668680"/>
          </a:xfrm>
          <a:prstGeom prst="rect">
            <a:avLst/>
          </a:prstGeom>
          <a:ln w="0">
            <a:noFill/>
          </a:ln>
        </p:spPr>
      </p:pic>
      <p:pic>
        <p:nvPicPr>
          <p:cNvPr id="58" name="great_barrier_reef_lge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3505320"/>
            <a:ext cx="4229280" cy="3171600"/>
          </a:xfrm>
          <a:prstGeom prst="rect">
            <a:avLst/>
          </a:prstGeom>
          <a:ln w="0">
            <a:noFill/>
          </a:ln>
        </p:spPr>
      </p:pic>
      <p:pic>
        <p:nvPicPr>
          <p:cNvPr id="59" name="gbr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52280" y="457200"/>
            <a:ext cx="2525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řírodní podmín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é kontinentální podnebí (sever – tropy, jih – subtrop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téské studny, nepravidelné toky – cre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demické druhy živočichů (ptakopysk, ježura, vačnatci aj.), rostlinstvo (akácie, eukalypty) + přírodní rovnováha ohrožená lidmi (králíc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asmanian_devil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352680"/>
            <a:ext cx="2857680" cy="2732040"/>
          </a:xfrm>
          <a:prstGeom prst="rect">
            <a:avLst/>
          </a:prstGeom>
          <a:ln w="0">
            <a:noFill/>
          </a:ln>
        </p:spPr>
      </p:pic>
      <p:pic>
        <p:nvPicPr>
          <p:cNvPr id="63" name="koala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29000" y="3352680"/>
            <a:ext cx="201924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great_white20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36576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4:13:58Z</dcterms:created>
  <dc:creator>kk</dc:creator>
  <dc:description/>
  <dc:language>en-US</dc:language>
  <cp:lastModifiedBy>kk</cp:lastModifiedBy>
  <dcterms:modified xsi:type="dcterms:W3CDTF">2006-05-21T16:28:44Z</dcterms:modified>
  <cp:revision>14</cp:revision>
  <dc:subject/>
  <dc:title>AUSTRALIE</dc:title>
</cp:coreProperties>
</file>