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AC037-8860-4780-82C3-B65764728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77437-8E50-4EF7-B212-35ABD217E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4ABF7-ECDF-4DD7-85BD-2F422F841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D427A-8C09-4526-9B75-DAFB07634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CF522-CAF4-43D8-AF70-3C6B43D57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C24E7-4C18-491E-8C2F-B1B291874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D413A-48F9-436F-B14B-51883D230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B516A-A615-4846-AEDA-A1E887F6A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08DC6-86BB-4E0D-9B67-5F7A5EBF8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0E32E-D9E1-418E-8535-90EDF2EC5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2C9E4-C4BF-405B-88E5-85E0D5D9D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5D2B9-86FF-4513-B5EF-9199FF536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D46CD-57E2-4918-BF04-630FD674C8A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http://video.nationalgeographic.com/video/player/science/earth-sci/weather-101-sci.html" TargetMode="External"/><Relationship Id="rId4" Type="http://schemas.openxmlformats.org/officeDocument/2006/relationships/hyperlink" Target="http://video.nationalgeographic.com/video/player/science/earth-sci/climate-weather-sci.html" TargetMode="External"/><Relationship Id="rId5" Type="http://schemas.openxmlformats.org/officeDocument/2006/relationships/hyperlink" Target="http://video.nationalgeographic.com/video/player/environment/environment-natural-disasters/hurricanes/hurricane-montage.html" TargetMode="External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42764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TMOSFÉ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252360" y="765000"/>
            <a:ext cx="4968720" cy="54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zdušný obal Zem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5" descr="capatmosfera"/>
          <p:cNvPicPr/>
          <p:nvPr/>
        </p:nvPicPr>
        <p:blipFill>
          <a:blip r:embed="rId1"/>
          <a:stretch/>
        </p:blipFill>
        <p:spPr>
          <a:xfrm>
            <a:off x="611280" y="1628640"/>
            <a:ext cx="3362400" cy="38577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7" descr="atmosfera"/>
          <p:cNvPicPr/>
          <p:nvPr/>
        </p:nvPicPr>
        <p:blipFill>
          <a:blip r:embed="rId2"/>
          <a:stretch/>
        </p:blipFill>
        <p:spPr>
          <a:xfrm>
            <a:off x="4572000" y="3564000"/>
            <a:ext cx="4390920" cy="3294000"/>
          </a:xfrm>
          <a:prstGeom prst="rect">
            <a:avLst/>
          </a:prstGeom>
          <a:ln w="0">
            <a:noFill/>
          </a:ln>
        </p:spPr>
      </p:pic>
      <p:sp>
        <p:nvSpPr>
          <p:cNvPr id="45" name="Text Box 8"/>
          <p:cNvSpPr/>
          <p:nvPr/>
        </p:nvSpPr>
        <p:spPr>
          <a:xfrm>
            <a:off x="174960" y="5805360"/>
            <a:ext cx="4298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ide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počasí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4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klim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4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tornádo a huriká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11" descr="aurora10"/>
          <p:cNvPicPr/>
          <p:nvPr/>
        </p:nvPicPr>
        <p:blipFill>
          <a:blip r:embed="rId6"/>
          <a:stretch/>
        </p:blipFill>
        <p:spPr>
          <a:xfrm>
            <a:off x="4500720" y="333360"/>
            <a:ext cx="4381200" cy="29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-12960" y="0"/>
            <a:ext cx="45846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Atmosféra – obaluje Zemi do výšky několika set kilometrů – je držena přitažlivostí Země (viz. obr.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Vlastnosti atmosféry – rozptyluje sluneční záření, brání rychlému ochlazení povrchu země, brání před škodlivým kosmickým zářením, umožňuje život na zemi atd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S rostoucí výškou klesá hustota vzduchu (snižuje se tlak vzduchu) a klesá teplota vzduchu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Složení vzduchu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- dusík (78%),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- kyslík (21%) - dýchání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- vodní pára,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- oxid uhličitý (fotosyntéza),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- ozon (brání pronikání UV záření) atd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7" descr="atmosfera"/>
          <p:cNvPicPr/>
          <p:nvPr/>
        </p:nvPicPr>
        <p:blipFill>
          <a:blip r:embed="rId1"/>
          <a:stretch/>
        </p:blipFill>
        <p:spPr>
          <a:xfrm>
            <a:off x="4500720" y="0"/>
            <a:ext cx="445608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8"/>
          <p:cNvSpPr/>
          <p:nvPr/>
        </p:nvSpPr>
        <p:spPr>
          <a:xfrm>
            <a:off x="5868000" y="5013360"/>
            <a:ext cx="210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Ozónová vrst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10">
            <a:hlinkClick r:id="rId2" action="ppaction://hlinksldjump"/>
          </p:cNvPr>
          <p:cNvSpPr/>
          <p:nvPr/>
        </p:nvSpPr>
        <p:spPr>
          <a:xfrm>
            <a:off x="4500720" y="5877000"/>
            <a:ext cx="4392360" cy="9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11"/>
          <p:cNvSpPr/>
          <p:nvPr/>
        </p:nvSpPr>
        <p:spPr>
          <a:xfrm>
            <a:off x="4500720" y="4941720"/>
            <a:ext cx="4464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12"/>
          <p:cNvSpPr/>
          <p:nvPr/>
        </p:nvSpPr>
        <p:spPr>
          <a:xfrm>
            <a:off x="4500720" y="1700280"/>
            <a:ext cx="4319280" cy="23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13"/>
          <p:cNvSpPr/>
          <p:nvPr/>
        </p:nvSpPr>
        <p:spPr>
          <a:xfrm>
            <a:off x="4500720" y="0"/>
            <a:ext cx="4392360" cy="15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9528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Počasí vs. podneb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1019160"/>
            <a:ext cx="50292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Meteorologické jevy počasí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srážky, teplota vzduchu, sluneční záření, směr a rychlost větru aj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Počasí aktuální sta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Podnebí je dlouhodobý režim počas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6" descr="20051106_1930"/>
          <p:cNvPicPr/>
          <p:nvPr/>
        </p:nvPicPr>
        <p:blipFill>
          <a:blip r:embed="rId1"/>
          <a:stretch/>
        </p:blipFill>
        <p:spPr>
          <a:xfrm>
            <a:off x="5029200" y="0"/>
            <a:ext cx="4114800" cy="33940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8" descr="1v"/>
          <p:cNvPicPr/>
          <p:nvPr/>
        </p:nvPicPr>
        <p:blipFill>
          <a:blip r:embed="rId2"/>
          <a:stretch/>
        </p:blipFill>
        <p:spPr>
          <a:xfrm>
            <a:off x="5029200" y="3600360"/>
            <a:ext cx="4343400" cy="3257640"/>
          </a:xfrm>
          <a:prstGeom prst="rect">
            <a:avLst/>
          </a:prstGeom>
          <a:ln w="0">
            <a:noFill/>
          </a:ln>
        </p:spPr>
      </p:pic>
      <p:sp>
        <p:nvSpPr>
          <p:cNvPr id="58" name="Text Box 9"/>
          <p:cNvSpPr/>
          <p:nvPr/>
        </p:nvSpPr>
        <p:spPr>
          <a:xfrm>
            <a:off x="447480" y="5681520"/>
            <a:ext cx="385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Odkaz: METEOSAT anim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kleníkový efekt a snižování ozónové vrstv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51483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Díky přítomnosti oxid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uhličitého (CO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) existuje tzv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kleníkový efekt ten 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irozený. Ovšem vlivem působen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člověka roste podíl CO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tmosféře a tím se zvyšuje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kleníkový efekt jež zvyšu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teplotu na Zemi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Díky freonů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 snižuje ozónová vrstva jež ná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hrání před nebezpečným U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záření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6" descr="http://www.yourdictionary.com/images/ahd/jpg/A4grneff.jpg"/>
          <p:cNvPicPr/>
          <p:nvPr/>
        </p:nvPicPr>
        <p:blipFill>
          <a:blip r:embed="rId1"/>
          <a:stretch/>
        </p:blipFill>
        <p:spPr>
          <a:xfrm>
            <a:off x="5334120" y="762120"/>
            <a:ext cx="3349440" cy="58100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8" descr="http://www.acmecompany.com/stock_thumbnails/13808.greenhouse_effect_2.jpg"/>
          <p:cNvPicPr/>
          <p:nvPr/>
        </p:nvPicPr>
        <p:blipFill>
          <a:blip r:embed="rId2"/>
          <a:stretch/>
        </p:blipFill>
        <p:spPr>
          <a:xfrm>
            <a:off x="4414680" y="4419720"/>
            <a:ext cx="1838520" cy="21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tmosféra – vzdušný obal Země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ložení: dusík, kyslík (dýchání),vodní pára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xid uhličitý (fotosyntéza), ozon (brání pronikání UV záření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eteorologické jevy (srážky, teplota vzduchu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lak, rychlost větru) - počasí (aktuální stav) 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dnebí (dlouhodobý režim počasí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roblémy: zvyšování skleníkového efektu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nižování ozónové vrstvy, znečišťování ovzduší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3" descr="http://jwocky.gsfc.nasa.gov/multi/monoct.gif"/>
          <p:cNvPicPr/>
          <p:nvPr/>
        </p:nvPicPr>
        <p:blipFill>
          <a:blip r:embed="rId1"/>
          <a:stretch/>
        </p:blipFill>
        <p:spPr>
          <a:xfrm>
            <a:off x="0" y="0"/>
            <a:ext cx="6324480" cy="47451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5" descr="http://jwocky.gsfc.nasa.gov/multi/recent_ozone91200.gif"/>
          <p:cNvPicPr/>
          <p:nvPr/>
        </p:nvPicPr>
        <p:blipFill>
          <a:blip r:embed="rId2"/>
          <a:stretch/>
        </p:blipFill>
        <p:spPr>
          <a:xfrm>
            <a:off x="5105520" y="3740040"/>
            <a:ext cx="4038480" cy="311796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6T20:40:35Z</dcterms:created>
  <dc:creator>kk</dc:creator>
  <dc:description/>
  <dc:language>en-US</dc:language>
  <cp:lastModifiedBy>PC</cp:lastModifiedBy>
  <dcterms:modified xsi:type="dcterms:W3CDTF">2014-01-15T20:33:41Z</dcterms:modified>
  <cp:revision>6</cp:revision>
  <dc:subject/>
  <dc:title>ATMOSFÉRA</dc:title>
</cp:coreProperties>
</file>