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894-93CD-45A0-B20E-0CC9469F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F01-CCF2-4A20-B656-BD8B309D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848-0FE7-4867-91ED-BA599AEC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C24-BB1D-46B0-A105-9CDEBDDB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11E-67F3-4A62-84C9-2696909D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39B-6044-47B1-84EF-2EAC85BF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742-2697-464C-812F-A6C1F361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D7A-E5D0-4BB5-847B-71236CC2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0E2-C0E7-42BE-AA16-2AE8397A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813-7A90-4B55-A1B5-774FF79B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0C4F-8A74-4AB1-B1F7-A3425A2E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DFC-C836-4107-AF2D-FEC1E18F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05C7-3D76-48C9-BF8C-0D8E48516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21stoleti.cz/view.php?cisloclanku=2006021724" TargetMode="External"/><Relationship Id="rId2" Type="http://schemas.openxmlformats.org/officeDocument/2006/relationships/hyperlink" Target="http://ekopunks.blog.cz/0802/kaceni-a-vypalovani-destnych-pralesu" TargetMode="External"/><Relationship Id="rId3" Type="http://schemas.openxmlformats.org/officeDocument/2006/relationships/hyperlink" Target="http://gnosis9.net/view.php?cisloclanku=2005070025" TargetMode="Externa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213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ČLOVĚK PŮSOBÍ NA RELIÉ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tzv. antropogenní ero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dé mění svět 80x rychleji než příroda!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? Tady je pár negativních příkladů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2856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ěžba: Kdyby všechno kamení, písek i hlína, které člověk za posledních 5000 let vykopal a přenesl na jednu hromadu, vyrostlo by tak velké, široké a vysoké pohoří, jako je Kavkaz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íce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fo z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mazonské pralesy jsou dnes káceny neuvěřitelným tempem. Každou minutu je odlesněna plocha odpovídající rozloze šesti fotbalových hřišť.Jen za poslední rok bylo v Amazonii vykáceno 16 838 čtverečních kilometrů pralesa, což je plocha, která se svou rozlohou rovná polovině Belgie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íce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fo z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i soutěsky - symbol čínské megalománie: Postupně vytváří jezero o délce 640 kilometrů a hloubce 170 metrů. Voda už pohltila desítky měst a stovky vesnic. Pod hladinou zmizela i cenná archeologická naleziště. Vystěhovány byly více než dva miliony lidí. Ekologické škody jsou obrovské. (více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fo z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29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337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716360" y="3500280"/>
            <a:ext cx="4427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898800"/>
            <a:ext cx="4427640" cy="2959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857840" y="3524400"/>
            <a:ext cx="4286160" cy="3333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916360" y="1413000"/>
            <a:ext cx="3463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ečné sh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le přírodních činitelů působí na reliéf, především v poslední době, výrazně i člově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dříve byly změny malé – kácel lesy, stavěl rybníky a obydlí. Později byly změny rozsáhlé – těžba nerostných surovin, stavba vodních děl a podobn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9:00:40Z</dcterms:created>
  <dc:creator>jj</dc:creator>
  <dc:description/>
  <dc:language>en-US</dc:language>
  <cp:lastModifiedBy>jj</cp:lastModifiedBy>
  <dcterms:modified xsi:type="dcterms:W3CDTF">2008-12-11T19:57:11Z</dcterms:modified>
  <cp:revision>3</cp:revision>
  <dc:subject/>
  <dc:title>ČLOVĚK JAKO GEOMORFOLOGICKÝ ČINITEL</dc:title>
</cp:coreProperties>
</file>