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2.png" ContentType="image/png"/>
  <Override PartName="/ppt/media/image14.png" ContentType="image/png"/>
  <Override PartName="/ppt/media/image9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7B1B-F207-4538-B998-42F87ECDF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939D-5C59-4ADA-AC5E-612DCD90E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E7CE-D0D3-4467-A749-0D28BE515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763D-13B7-4445-8240-C5BEE44AF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8E1D-849C-41A7-A7B9-2A9D9FE8E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735E-AA35-496F-A027-8A754A673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7710-D42C-414B-B821-6C8D732A1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AB0E-2BBF-4DC9-B46C-E4B29E334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940E-C6F1-4F31-ABBF-5B7259007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202C-67EA-494A-9BE7-C0688F4E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6CAF-3A69-428C-9169-908BF286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4E55-A176-467D-B1DE-CEFD5FB9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4F09C-F12F-4E41-8690-14C9546F1F0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-6480"/>
            <a:ext cx="7772400" cy="6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VODSTVO AFRIK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6" descr="File:Victoria Falls (2541711854).jpg"/>
          <p:cNvPicPr/>
          <p:nvPr/>
        </p:nvPicPr>
        <p:blipFill>
          <a:blip r:embed="rId1"/>
          <a:stretch/>
        </p:blipFill>
        <p:spPr>
          <a:xfrm>
            <a:off x="755640" y="806400"/>
            <a:ext cx="3790800" cy="5705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http://upload.wikimedia.org/wikipedia/commons/2/2b/Nile_watershed_topo.png"/>
          <p:cNvPicPr/>
          <p:nvPr/>
        </p:nvPicPr>
        <p:blipFill>
          <a:blip r:embed="rId2"/>
          <a:stretch/>
        </p:blipFill>
        <p:spPr>
          <a:xfrm>
            <a:off x="5148360" y="447840"/>
            <a:ext cx="3057480" cy="64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8208720" cy="51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ODSTVO AFRIKY - ZAD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0" y="1916280"/>
            <a:ext cx="9396360" cy="37623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3616200" y="198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1222920" y="22971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2576520" y="25844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1893240" y="2924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2949480" y="32320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1168200" y="3500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1893240" y="4149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1568520" y="4456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ODSTVO AFRIKY - ŘEŠE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1"/>
          <a:stretch/>
        </p:blipFill>
        <p:spPr>
          <a:xfrm>
            <a:off x="250920" y="2367000"/>
            <a:ext cx="864216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ceány a jejich čás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520" y="8377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 u="sng">
                <a:solidFill>
                  <a:srgbClr val="000000"/>
                </a:solidFill>
                <a:uFillTx/>
                <a:latin typeface="Times New Roman"/>
              </a:rPr>
              <a:t>Atlantský oceán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– Středozemní moře, záliv Malá a Velká Syrta, Gibraltarský průliv, Guinejský záliv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Oceány spojeny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Times New Roman"/>
              </a:rPr>
              <a:t>Suezským průplave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(F.J. Lesseps 186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 u="sng">
                <a:solidFill>
                  <a:srgbClr val="000000"/>
                </a:solidFill>
                <a:uFillTx/>
                <a:latin typeface="Times New Roman"/>
              </a:rPr>
              <a:t>Indický oceán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– Rudé moře, Adenský záliv, Bal al-Mandab, Mosambický průliv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5" descr="http://library.thinkquest.org/04oct/01218/pictures/Suez.jpg"/>
          <p:cNvPicPr/>
          <p:nvPr/>
        </p:nvPicPr>
        <p:blipFill>
          <a:blip r:embed="rId1"/>
          <a:stretch/>
        </p:blipFill>
        <p:spPr>
          <a:xfrm>
            <a:off x="2286000" y="3505320"/>
            <a:ext cx="488484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Řeky a jeze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3818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Řeky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Nil (Bílý a Modrý), Kongo, Niger, Zambezi, Orange, Limpopo + bezodtoké oblasti a vyschlá koryta řek (Vád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Jezera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Východoafrický příkopová propadlina: největší Viktoriino j., nejhlubší Tanganika a Malawi + pouštní Čadské j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Přehrady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Asuánská, Kariba, Volta aj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Vodopády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Viktoríny, katarakty na Nil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http://www.nevadasurveyor.com/africa/web/images/niger_river.jpg"/>
          <p:cNvPicPr/>
          <p:nvPr/>
        </p:nvPicPr>
        <p:blipFill>
          <a:blip r:embed="rId1"/>
          <a:stretch/>
        </p:blipFill>
        <p:spPr>
          <a:xfrm>
            <a:off x="2286000" y="3352680"/>
            <a:ext cx="4842000" cy="33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užití a problém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280" y="615960"/>
            <a:ext cx="8210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 u="sng">
                <a:solidFill>
                  <a:srgbClr val="000000"/>
                </a:solidFill>
                <a:uFillTx/>
                <a:latin typeface="Times New Roman"/>
              </a:rPr>
              <a:t>Řeky a jezera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říční doprava, rybolov, zdroj pitné vody, zavlažování, výroba energie - hydroelektrárn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 u="sng">
                <a:solidFill>
                  <a:srgbClr val="000000"/>
                </a:solidFill>
                <a:uFillTx/>
                <a:latin typeface="Times New Roman"/>
              </a:rPr>
              <a:t>Oceány a moř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těžba ropy, rekreace, rybolov, doprava (pirátství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 u="sng">
                <a:solidFill>
                  <a:srgbClr val="000000"/>
                </a:solidFill>
                <a:uFillTx/>
                <a:latin typeface="Times New Roman"/>
              </a:rPr>
              <a:t>Problémy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vysychání a nedostatek vody (boj o vodu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8" descr="http://www.friendlyplanet.com/images/fish-eilat-red-sea-big.jpg"/>
          <p:cNvPicPr/>
          <p:nvPr/>
        </p:nvPicPr>
        <p:blipFill>
          <a:blip r:embed="rId1"/>
          <a:stretch/>
        </p:blipFill>
        <p:spPr>
          <a:xfrm>
            <a:off x="324000" y="3271680"/>
            <a:ext cx="4786200" cy="3183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File:ShrinkingLakeChad-1973-1997-EO.jpg"/>
          <p:cNvPicPr/>
          <p:nvPr/>
        </p:nvPicPr>
        <p:blipFill>
          <a:blip r:embed="rId2"/>
          <a:stretch/>
        </p:blipFill>
        <p:spPr>
          <a:xfrm>
            <a:off x="5292720" y="2795760"/>
            <a:ext cx="3672000" cy="38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http://upload.wikimedia.org/wikipedia/commons/thumb/f/f2/Density_evolution_Victoria.png/1024px-Density_evolution_Victoria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50920" y="189000"/>
            <a:ext cx="866448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3240"/>
            <a:ext cx="5584680" cy="3713040"/>
          </a:xfrm>
          <a:prstGeom prst="rect">
            <a:avLst/>
          </a:prstGeom>
          <a:ln w="0">
            <a:noFill/>
          </a:ln>
        </p:spPr>
      </p:pic>
      <p:sp>
        <p:nvSpPr>
          <p:cNvPr id="56" name="TextovéPole 1"/>
          <p:cNvSpPr/>
          <p:nvPr/>
        </p:nvSpPr>
        <p:spPr>
          <a:xfrm>
            <a:off x="110160" y="5661000"/>
            <a:ext cx="8974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Delta Nilu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je jedna z největších říčních delt na světě. V oblasti delty žije velká část z 77,5 milionu obyvat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Egypta: mimo největší města delty je průměrná hustota obyvatelstva 1000 obyvatel/km² a ví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File:Nile River and delta from orbit.jpg"/>
          <p:cNvPicPr/>
          <p:nvPr/>
        </p:nvPicPr>
        <p:blipFill>
          <a:blip r:embed="rId2"/>
          <a:stretch/>
        </p:blipFill>
        <p:spPr>
          <a:xfrm>
            <a:off x="4295880" y="1860480"/>
            <a:ext cx="483696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4743360" cy="5705280"/>
          </a:xfrm>
          <a:prstGeom prst="rect">
            <a:avLst/>
          </a:prstGeom>
          <a:ln w="0">
            <a:noFill/>
          </a:ln>
        </p:spPr>
      </p:pic>
      <p:sp>
        <p:nvSpPr>
          <p:cNvPr id="59" name="TextovéPole 1"/>
          <p:cNvSpPr/>
          <p:nvPr/>
        </p:nvSpPr>
        <p:spPr>
          <a:xfrm>
            <a:off x="5517000" y="2244600"/>
            <a:ext cx="3733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tavba Asuánské přehrady zasáh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ejen do života několika tisíců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Egypťanů, ale ohrozila také důležité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historické památk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hrámy v Abú Simbel byly rozřezán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a jednotlivé kvádry o hmotnost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ž 30 tun a převezeny na místo ležící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 70 metrů výše. Původní místo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a kterém chrámy stály 3000 let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bylo zaplaveno vod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042920" y="1635120"/>
            <a:ext cx="7326360" cy="5229360"/>
          </a:xfrm>
          <a:prstGeom prst="rect">
            <a:avLst/>
          </a:prstGeom>
          <a:ln w="0">
            <a:noFill/>
          </a:ln>
        </p:spPr>
      </p:pic>
      <p:sp>
        <p:nvSpPr>
          <p:cNvPr id="61" name="TextovéPole 1"/>
          <p:cNvSpPr/>
          <p:nvPr/>
        </p:nvSpPr>
        <p:spPr>
          <a:xfrm>
            <a:off x="875880" y="333360"/>
            <a:ext cx="743004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uezský průpla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163 km dlouhý a plavba trvá 11 až 16 hod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ropluje jim 20 000 lodí ročně, správa průplavu utrží 5 miliard USD za r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lodě o výtlaku až 240 000 tun (průplav je příliš úzký a mělký pro moderní supertanke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684360" y="898560"/>
            <a:ext cx="76327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5:59:08Z</dcterms:created>
  <dc:creator>kk</dc:creator>
  <dc:description/>
  <dc:language>en-US</dc:language>
  <cp:lastModifiedBy>PC</cp:lastModifiedBy>
  <dcterms:modified xsi:type="dcterms:W3CDTF">2014-05-11T13:10:35Z</dcterms:modified>
  <cp:revision>12</cp:revision>
  <dc:subject/>
  <dc:title>VODSTVO AFRIKY</dc:title>
</cp:coreProperties>
</file>