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154-2473-48ED-9325-B2AA310C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6CA-792F-4F3F-A1DD-07E1DEB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56C-2489-4CB3-B1C5-A1702EE3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167-4C67-439B-BA8F-2C9FA2DC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6F4-DD91-4EDB-9DF7-C0B710A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DB8-22C0-4183-9B50-AAB50E4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417-96D4-4F03-93B7-1FACFBB3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8BF-4233-497F-8A53-776BE01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607-0E3F-452D-A193-EB8BDE8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184-52D1-4918-BC94-FCE2D11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049-ADB3-4F58-8B1C-C900B73F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1AA-DC59-46B6-8B64-CD3C1A1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1E6E-28D1-4D3C-ABD1-FF0C2CD2BF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ri.kropes.cz/afrika/info/animtex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GETACE AFR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mib-grande_dune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3065400"/>
          </a:xfrm>
          <a:prstGeom prst="rect">
            <a:avLst/>
          </a:prstGeom>
          <a:ln w="0">
            <a:noFill/>
          </a:ln>
        </p:spPr>
      </p:pic>
      <p:pic>
        <p:nvPicPr>
          <p:cNvPr id="43" name="Baobab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rainforest" descr=""/>
          <p:cNvPicPr/>
          <p:nvPr/>
        </p:nvPicPr>
        <p:blipFill>
          <a:blip r:embed="rId3"/>
          <a:stretch/>
        </p:blipFill>
        <p:spPr>
          <a:xfrm>
            <a:off x="0" y="3643200"/>
            <a:ext cx="4724280" cy="3214800"/>
          </a:xfrm>
          <a:prstGeom prst="rect">
            <a:avLst/>
          </a:prstGeom>
          <a:ln w="0">
            <a:noFill/>
          </a:ln>
        </p:spPr>
      </p:pic>
      <p:pic>
        <p:nvPicPr>
          <p:cNvPr id="45" name="ssSea_view2" descr=""/>
          <p:cNvPicPr/>
          <p:nvPr/>
        </p:nvPicPr>
        <p:blipFill>
          <a:blip r:embed="rId4"/>
          <a:stretch/>
        </p:blipFill>
        <p:spPr>
          <a:xfrm>
            <a:off x="4724280" y="3629160"/>
            <a:ext cx="44197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pický deštný les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onžská pánev, vzácná dřeva (mahagon, eb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vany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jrozlehlejší, baobab,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uště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ukulenty, palma datl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ředomořská vegetac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ver a jih (korkový dub, vavřín aj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 výšková stupňovit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vegpasy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56732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0200" y="59850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ÍCE Z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maluj vegetační oblasti do mapy a doplň chybějící poj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128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ický deštný les a střídavě vlhký 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tropické rostlinst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…………………………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………………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527640" cy="341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119700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350028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34936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724280"/>
            <a:ext cx="431640" cy="21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maluj vegetační oblasti do mapy a doplň chybějící poj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128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ický deštný les a střídavě vlhký 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vzácné dřeviny, liá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gorila, šimpanz, lem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káva, kakao, dř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akácie, baobab, trav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lev, žirafa, s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obilniny, past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uště a polopoušt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kaktusy, byl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fenek, velbloud, ští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palma datlová, fí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tropické rostlinst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rostlinstvo: cypřiš, vavřín, korkový d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) živočišstvo: ibis, volavky, gazela, mak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) zemědělské produkty: bavlník, olivovník, vinná ré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867040" cy="30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08360" y="1197000"/>
            <a:ext cx="432000" cy="22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708360" y="2319480"/>
            <a:ext cx="503280" cy="210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80000" y="3500280"/>
            <a:ext cx="431640" cy="21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780000" y="4724280"/>
            <a:ext cx="4316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osmisměrce můžete najít třináct afrických zvířat. Ze zbývajících písmen sestavte jméno afrického státu, kde jsou velké národní par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27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: TANZ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148428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L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KŮ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IK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V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IRA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342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2637000"/>
            <a:ext cx="0" cy="22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573360"/>
            <a:ext cx="288144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0" y="2421000"/>
            <a:ext cx="493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0920" y="2133360"/>
            <a:ext cx="0" cy="19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4000" y="2781360"/>
            <a:ext cx="29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157720"/>
            <a:ext cx="43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5640" y="479736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3573360"/>
            <a:ext cx="28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5280" y="321300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48000" y="43657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40360" y="2997360"/>
            <a:ext cx="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997360"/>
            <a:ext cx="0" cy="151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03280" y="2276280"/>
            <a:ext cx="3529080" cy="21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</cp:lastModifiedBy>
  <dcterms:modified xsi:type="dcterms:W3CDTF">2011-05-03T15:26:15Z</dcterms:modified>
  <cp:revision>7</cp:revision>
  <dc:subject/>
  <dc:title>VEGETACE AFRIKY</dc:title>
</cp:coreProperties>
</file>