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579-CFB6-4761-BA5C-6299D1E7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4C7-B92A-497C-A950-C64C8A59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992-5B53-4EAE-9361-E8A7C513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1D8-9B80-4BBA-982D-DCE5EFFD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CC9-1B1F-4449-8BC4-CA900D24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71B-C8BF-4977-8ABB-5318D0C4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EC4-4FBC-4A93-87A2-8D4D4E48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7A8-6355-49E6-989F-B7100F92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CCC-EA02-4F1E-83DB-E807654B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3A5-F813-46EA-98AA-65453D0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DC9-C6D5-4E5A-8B59-5906C930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DF9-0BD6-4CF3-8A42-03E177E8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4555-6424-4590-8343-611B4768F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2.jpeg"/><Relationship Id="rId5" Type="http://schemas.openxmlformats.org/officeDocument/2006/relationships/slide" Target="slide1.xml"/><Relationship Id="rId6" Type="http://schemas.openxmlformats.org/officeDocument/2006/relationships/image" Target="../media/image3.jpe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PICKÁ AFR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brané stá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160" y="24382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ickou Afriku tvoří 32 států s velmi odlišnými, ale mnoh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s podobnými prvky (přírodní, historické, sociální aj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udan.flag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581280"/>
            <a:ext cx="2514600" cy="1354320"/>
          </a:xfrm>
          <a:prstGeom prst="rect">
            <a:avLst/>
          </a:prstGeom>
          <a:ln w="0">
            <a:noFill/>
          </a:ln>
        </p:spPr>
      </p:pic>
      <p:pic>
        <p:nvPicPr>
          <p:cNvPr id="45" name="ni-lgflag_small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3581280"/>
            <a:ext cx="259056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zair_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24480" y="3581280"/>
            <a:ext cx="2522520" cy="1411560"/>
          </a:xfrm>
          <a:prstGeom prst="rect">
            <a:avLst/>
          </a:prstGeom>
          <a:ln w="0">
            <a:noFill/>
          </a:ln>
        </p:spPr>
      </p:pic>
      <p:pic>
        <p:nvPicPr>
          <p:cNvPr id="47" name="eak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66680" y="5257800"/>
            <a:ext cx="2514600" cy="1351080"/>
          </a:xfrm>
          <a:prstGeom prst="rect">
            <a:avLst/>
          </a:prstGeom>
          <a:ln w="0">
            <a:noFill/>
          </a:ln>
        </p:spPr>
      </p:pic>
      <p:pic>
        <p:nvPicPr>
          <p:cNvPr id="48" name="tanzanie_1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52880" y="5257800"/>
            <a:ext cx="2522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údán - Chartú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jvětší a nejchudší stát Afriky, pokrytý pouští (Sahe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ap.sudan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714840" cy="4286160"/>
          </a:xfrm>
          <a:prstGeom prst="rect">
            <a:avLst/>
          </a:prstGeom>
          <a:ln w="0">
            <a:noFill/>
          </a:ln>
        </p:spPr>
      </p:pic>
      <p:pic>
        <p:nvPicPr>
          <p:cNvPr id="52" name="sudan_05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830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igérie - La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jlidnatější stát Afriky, s obrovskými zásobami 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dateline.lagos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800600" cy="3794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raffic3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ngo (Zair) - Kinsh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ží na S i J polokouli v oblast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opických les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rovskými zásobami nerost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ěď, kobalt, cín, diamanty aj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zaire.kinshasa.2.lg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894120" cy="4114800"/>
          </a:xfrm>
          <a:prstGeom prst="rect">
            <a:avLst/>
          </a:prstGeom>
          <a:ln w="0">
            <a:noFill/>
          </a:ln>
        </p:spPr>
      </p:pic>
      <p:pic>
        <p:nvPicPr>
          <p:cNvPr id="61" name="zaire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886200" cy="258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3200400"/>
            <a:ext cx="304560" cy="228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ňa - Nairob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dý stát rozkládající se na náhorních plošinách – savany (N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lanok_foto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3657600" cy="2427480"/>
          </a:xfrm>
          <a:prstGeom prst="rect">
            <a:avLst/>
          </a:prstGeom>
          <a:ln w="0">
            <a:noFill/>
          </a:ln>
        </p:spPr>
      </p:pic>
      <p:pic>
        <p:nvPicPr>
          <p:cNvPr id="66" name="gerenuk" descr=""/>
          <p:cNvPicPr/>
          <p:nvPr/>
        </p:nvPicPr>
        <p:blipFill>
          <a:blip r:embed="rId2"/>
          <a:stretch/>
        </p:blipFill>
        <p:spPr>
          <a:xfrm>
            <a:off x="3429000" y="4267080"/>
            <a:ext cx="3048120" cy="2121120"/>
          </a:xfrm>
          <a:prstGeom prst="rect">
            <a:avLst/>
          </a:prstGeom>
          <a:ln w="0">
            <a:noFill/>
          </a:ln>
        </p:spPr>
      </p:pic>
      <p:pic>
        <p:nvPicPr>
          <p:cNvPr id="67" name="kenya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3056040" cy="3276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100160"/>
            <a:ext cx="678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kenya-map" descr="Kenya search map, copyright Uyaphi.com"/>
          <p:cNvPicPr/>
          <p:nvPr/>
        </p:nvPicPr>
        <p:blipFill>
          <a:blip r:embed="rId4"/>
          <a:stretch/>
        </p:blipFill>
        <p:spPr>
          <a:xfrm>
            <a:off x="6224760" y="3581280"/>
            <a:ext cx="2919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anzanie – Dar es-Salaam, Dodo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nik v 60. letech (Rok Afriky) z pevninské Tanganiky a zanzibarského souostroví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Původ člověka, savany – NP (Serengeti, Ngorongor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tanzania_map" descr=""/>
          <p:cNvPicPr/>
          <p:nvPr/>
        </p:nvPicPr>
        <p:blipFill>
          <a:blip r:embed="rId1"/>
          <a:stretch/>
        </p:blipFill>
        <p:spPr>
          <a:xfrm>
            <a:off x="181080" y="2743200"/>
            <a:ext cx="383040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kilimanjaro" descr=""/>
          <p:cNvPicPr/>
          <p:nvPr/>
        </p:nvPicPr>
        <p:blipFill>
          <a:blip r:embed="rId2"/>
          <a:stretch/>
        </p:blipFill>
        <p:spPr>
          <a:xfrm>
            <a:off x="4343400" y="2819520"/>
            <a:ext cx="4572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5:49:03Z</dcterms:created>
  <dc:creator>kk</dc:creator>
  <dc:description/>
  <dc:language>en-US</dc:language>
  <cp:lastModifiedBy>kk</cp:lastModifiedBy>
  <dcterms:modified xsi:type="dcterms:W3CDTF">2006-04-19T07:10:28Z</dcterms:modified>
  <cp:revision>3</cp:revision>
  <dc:subject/>
  <dc:title>TROPICKÁ AFRIKA</dc:title>
</cp:coreProperties>
</file>