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EEB-F379-4746-BDA5-B86B7B32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37F-D50F-4F04-A9F7-DEBFEEA6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37F-32FB-4DC5-9136-596F9870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D64-019E-4094-A23E-2695C96D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44C-C939-423A-9780-92C84D36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DE2-0702-4AE5-963E-AD8F0E39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1CA-88D2-4826-8B26-98DBE264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F3B-D266-4104-8E47-54A4E283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B6C-15D1-4997-973F-32722F27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E05-2FE9-4A07-BA6D-4A985CF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ECC-6D6E-4D0B-BF99-38F85FD3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1FE-1A33-42DA-9A87-0C870BC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52A8-8E31-43CD-8192-4305385C8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884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pická Afrik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862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lidná a chud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frika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5211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886200"/>
            <a:ext cx="358164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73813596497.8659" descr=""/>
          <p:cNvPicPr/>
          <p:nvPr/>
        </p:nvPicPr>
        <p:blipFill>
          <a:blip r:embed="rId2"/>
          <a:stretch/>
        </p:blipFill>
        <p:spPr>
          <a:xfrm>
            <a:off x="533520" y="0"/>
            <a:ext cx="4038480" cy="2930400"/>
          </a:xfrm>
          <a:prstGeom prst="rect">
            <a:avLst/>
          </a:prstGeom>
          <a:ln w="0">
            <a:noFill/>
          </a:ln>
        </p:spPr>
      </p:pic>
      <p:pic>
        <p:nvPicPr>
          <p:cNvPr id="46" name="Ngoro_ls4" descr=""/>
          <p:cNvPicPr/>
          <p:nvPr/>
        </p:nvPicPr>
        <p:blipFill>
          <a:blip r:embed="rId3"/>
          <a:stretch/>
        </p:blipFill>
        <p:spPr>
          <a:xfrm>
            <a:off x="4191120" y="26668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Přírodní pomě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plňte názvy patřící do tropické Afri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čina na rovní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lehlá pánev ležící na rovník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yšší hora Afr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last hladu lemující jih Sah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eka ústící do Guinejského záliv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odnatější řeka Afr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hlubší jezero Afr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jezero Afrik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114440" y="7617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_ _ _ _ _ _ _ _ _ _ _ _ vyso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_ _ _ _ _ _  pán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_ _ _ _ _ _ _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_ _ _ _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_ _ _ _ _ _ _ _ 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Vegetac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Tropický deštný le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okolí rovníku a Guinejského záliv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Savany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S i J od tropického lesa, na východě v oblasti vysočin (národní parky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Sahe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na rozhraní pouště a sav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ahel" descr=""/>
          <p:cNvPicPr/>
          <p:nvPr/>
        </p:nvPicPr>
        <p:blipFill>
          <a:blip r:embed="rId1"/>
          <a:stretch/>
        </p:blipFill>
        <p:spPr>
          <a:xfrm>
            <a:off x="0" y="4038480"/>
            <a:ext cx="579132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ngor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57150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Socioekonomické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 –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1 – 2 plodiny tzv. plantážnictví (káva, kakao, olejová palma) – výv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tví –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ohaté zdroje nerostů (ropa, železná ruda, barevné kovy, diamanty). Neexistuje zpracovatelský průmys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 –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černá rasa, kulturní tradice, války – Súdán, Rwanda, Sierra Leone aj., nízká životní úroveň, negramotnost, krátká délka života (35-50 le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_afrika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3657600" cy="2503440"/>
          </a:xfrm>
          <a:prstGeom prst="rect">
            <a:avLst/>
          </a:prstGeom>
          <a:ln w="0">
            <a:noFill/>
          </a:ln>
        </p:spPr>
      </p:pic>
      <p:pic>
        <p:nvPicPr>
          <p:cNvPr id="56" name="plantaze3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342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20:19:24Z</dcterms:created>
  <dc:creator>kk</dc:creator>
  <dc:description/>
  <dc:language>en-US</dc:language>
  <cp:lastModifiedBy>kk</cp:lastModifiedBy>
  <dcterms:modified xsi:type="dcterms:W3CDTF">2006-04-11T20:21:04Z</dcterms:modified>
  <cp:revision>2</cp:revision>
  <dc:subject/>
  <dc:title>Tropická Afrika </dc:title>
</cp:coreProperties>
</file>