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F934-E17E-4B28-9DAA-AF2A4EA8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F666-59A1-407A-95CF-2996108C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E3D8-2DC7-44AF-9AD5-B23F8CA1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A904-CE6A-47FA-B723-27E11E64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9F7E-B951-4FA7-9DAA-105760BF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3F1F-765C-49A8-BCC7-2725C27F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3E79-31A6-40CF-9408-A46AE224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B764-E3E1-4281-AA8D-0084BE6E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263A-5BA1-4743-9D97-C231201E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699F-FEDE-4E6F-8AB9-852A41E3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3CC8-DE65-45EE-A21B-FB1EF22B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77EC-8ED8-405E-BC4B-B340C122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EAA7-A30D-4DEC-BA90-7216070C4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sibik.cz/images/sierra_9t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sibik.cz/images/rwan_2t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sibik.cz/images/jar4_t.jp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émy Afriky - chudý ji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180px-Map_sahel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2819520" cy="2819160"/>
          </a:xfrm>
          <a:prstGeom prst="rect">
            <a:avLst/>
          </a:prstGeom>
          <a:ln w="0">
            <a:noFill/>
          </a:ln>
        </p:spPr>
      </p:pic>
      <p:pic>
        <p:nvPicPr>
          <p:cNvPr id="43" name="sierraleone" descr=""/>
          <p:cNvPicPr/>
          <p:nvPr/>
        </p:nvPicPr>
        <p:blipFill>
          <a:blip r:embed="rId2"/>
          <a:stretch/>
        </p:blipFill>
        <p:spPr>
          <a:xfrm>
            <a:off x="3352680" y="1066680"/>
            <a:ext cx="3124440" cy="2482920"/>
          </a:xfrm>
          <a:prstGeom prst="rect">
            <a:avLst/>
          </a:prstGeom>
          <a:ln w="0">
            <a:noFill/>
          </a:ln>
        </p:spPr>
      </p:pic>
      <p:pic>
        <p:nvPicPr>
          <p:cNvPr id="44" name="sierra_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990720"/>
            <a:ext cx="183816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rwan_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480" y="4114800"/>
            <a:ext cx="3505320" cy="2460600"/>
          </a:xfrm>
          <a:prstGeom prst="rect">
            <a:avLst/>
          </a:prstGeom>
          <a:ln w="0">
            <a:noFill/>
          </a:ln>
        </p:spPr>
      </p:pic>
      <p:pic>
        <p:nvPicPr>
          <p:cNvPr id="46" name="jar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876920" y="4114800"/>
            <a:ext cx="350496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Přírodní problém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ezertifikace (rozšiřování pouští), úbytek pralesů, nedostatek nezávadné vody, snižování živočišných a rostlinných druh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litické problém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zbrojené konflikty (občanské války, terorismus), korup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ciální problém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nemoci (AIDS, spavá nemoc: Tse-tse, malárie: komár Anopheles aj.), chudoba (vzdělání, pdvýživa), nárůst počtu obyvatel, rasismus (aparthe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6:08:36Z</dcterms:created>
  <dc:creator>kk</dc:creator>
  <dc:description/>
  <dc:language>en-US</dc:language>
  <cp:lastModifiedBy>kk</cp:lastModifiedBy>
  <dcterms:modified xsi:type="dcterms:W3CDTF">2006-03-28T16:08:53Z</dcterms:modified>
  <cp:revision>1</cp:revision>
  <dc:subject/>
  <dc:title>Problémy Afriky - chudý jih</dc:title>
</cp:coreProperties>
</file>